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7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pct" ContentType="image/x-pict"/>
  <Override PartName="/ppt/media/image12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42E-2DBE-4812-BA28-51DA826E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338-67AF-4315-8E41-E51B8FA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FF8-37BA-4556-A532-C96ACCA2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B67-7691-4F90-A3A9-351E6591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48A-3CC6-4F7D-8905-DC44AE44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AFC-FFE2-4B9E-A54C-110F510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E51-799A-4F3E-AA5D-DE98443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2B4-2B56-4649-91C2-89A8DFF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F11-9BC2-4506-B5B9-681E4AAE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FBF-BB2D-4907-A31E-44066C0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E2B-BFD9-4FFC-8EFE-E2F8589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A40-0A88-4F57-BCEB-984F9B7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0B4-BD63-4516-BBF8-EA9D25BEF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50589"/>
          <a:stretch/>
        </p:blipFill>
        <p:spPr>
          <a:xfrm>
            <a:off x="152280" y="198108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48857" r="0" b="0"/>
          <a:stretch/>
        </p:blipFill>
        <p:spPr>
          <a:xfrm>
            <a:off x="4724280" y="1981080"/>
            <a:ext cx="4419720" cy="305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4840" y="533520"/>
            <a:ext cx="64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ly mixed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51055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- 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-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different vert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1981080"/>
          <a:ext cx="26496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264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257800" y="1981080"/>
          <a:ext cx="265104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81080"/>
                    <a:ext cx="2651040" cy="388620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 cooled               Salt wate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71840" y="3556080"/>
            <a:ext cx="117360" cy="363600"/>
          </a:xfrm>
          <a:custGeom>
            <a:avLst/>
            <a:gdLst/>
            <a:ahLst/>
            <a:rect l="l" t="t" r="r" b="b"/>
            <a:pathLst>
              <a:path w="74" h="229">
                <a:moveTo>
                  <a:pt x="0" y="229"/>
                </a:moveTo>
                <a:cubicBezTo>
                  <a:pt x="9" y="198"/>
                  <a:pt x="18" y="185"/>
                  <a:pt x="45" y="168"/>
                </a:cubicBezTo>
                <a:cubicBezTo>
                  <a:pt x="73" y="127"/>
                  <a:pt x="50" y="116"/>
                  <a:pt x="38" y="76"/>
                </a:cubicBezTo>
                <a:cubicBezTo>
                  <a:pt x="40" y="63"/>
                  <a:pt x="37" y="48"/>
                  <a:pt x="45" y="38"/>
                </a:cubicBezTo>
                <a:cubicBezTo>
                  <a:pt x="49" y="31"/>
                  <a:pt x="64" y="37"/>
                  <a:pt x="68" y="30"/>
                </a:cubicBezTo>
                <a:cubicBezTo>
                  <a:pt x="74" y="18"/>
                  <a:pt x="59" y="6"/>
                  <a:pt x="53" y="0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1840" y="4791240"/>
            <a:ext cx="193680" cy="372960"/>
          </a:xfrm>
          <a:custGeom>
            <a:avLst/>
            <a:gdLst/>
            <a:ahLst/>
            <a:rect l="l" t="t" r="r" b="b"/>
            <a:pathLst>
              <a:path w="122" h="235">
                <a:moveTo>
                  <a:pt x="0" y="235"/>
                </a:moveTo>
                <a:cubicBezTo>
                  <a:pt x="33" y="201"/>
                  <a:pt x="61" y="155"/>
                  <a:pt x="83" y="113"/>
                </a:cubicBezTo>
                <a:cubicBezTo>
                  <a:pt x="90" y="98"/>
                  <a:pt x="99" y="68"/>
                  <a:pt x="99" y="68"/>
                </a:cubicBezTo>
                <a:cubicBezTo>
                  <a:pt x="85" y="29"/>
                  <a:pt x="76" y="23"/>
                  <a:pt x="53" y="60"/>
                </a:cubicBezTo>
                <a:cubicBezTo>
                  <a:pt x="71" y="148"/>
                  <a:pt x="53" y="42"/>
                  <a:pt x="53" y="205"/>
                </a:cubicBezTo>
                <a:cubicBezTo>
                  <a:pt x="53" y="215"/>
                  <a:pt x="58" y="184"/>
                  <a:pt x="61" y="174"/>
                </a:cubicBezTo>
                <a:cubicBezTo>
                  <a:pt x="63" y="166"/>
                  <a:pt x="65" y="159"/>
                  <a:pt x="68" y="152"/>
                </a:cubicBezTo>
                <a:cubicBezTo>
                  <a:pt x="79" y="112"/>
                  <a:pt x="108" y="91"/>
                  <a:pt x="122" y="52"/>
                </a:cubicBezTo>
                <a:cubicBezTo>
                  <a:pt x="113" y="29"/>
                  <a:pt x="111" y="0"/>
                  <a:pt x="68" y="37"/>
                </a:cubicBezTo>
                <a:cubicBezTo>
                  <a:pt x="58" y="45"/>
                  <a:pt x="64" y="62"/>
                  <a:pt x="61" y="75"/>
                </a:cubicBezTo>
                <a:cubicBezTo>
                  <a:pt x="53" y="104"/>
                  <a:pt x="55" y="96"/>
                  <a:pt x="30" y="113"/>
                </a:cubicBezTo>
                <a:cubicBezTo>
                  <a:pt x="23" y="135"/>
                  <a:pt x="20" y="149"/>
                  <a:pt x="38" y="167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429000"/>
            <a:ext cx="538200" cy="520560"/>
          </a:xfrm>
          <a:custGeom>
            <a:avLst/>
            <a:gdLst/>
            <a:ahLst/>
            <a:rect l="l" t="t" r="r" b="b"/>
            <a:pathLst>
              <a:path w="339" h="328">
                <a:moveTo>
                  <a:pt x="0" y="328"/>
                </a:moveTo>
                <a:cubicBezTo>
                  <a:pt x="121" y="288"/>
                  <a:pt x="201" y="193"/>
                  <a:pt x="312" y="138"/>
                </a:cubicBezTo>
                <a:cubicBezTo>
                  <a:pt x="330" y="85"/>
                  <a:pt x="339" y="103"/>
                  <a:pt x="312" y="77"/>
                </a:cubicBezTo>
                <a:cubicBezTo>
                  <a:pt x="259" y="82"/>
                  <a:pt x="211" y="92"/>
                  <a:pt x="160" y="99"/>
                </a:cubicBezTo>
                <a:cubicBezTo>
                  <a:pt x="99" y="85"/>
                  <a:pt x="129" y="102"/>
                  <a:pt x="129" y="0"/>
                </a:cubicBezTo>
              </a:path>
            </a:pathLst>
          </a:custGeom>
          <a:solidFill>
            <a:srgbClr val="f4f4f4"/>
          </a:solidFill>
          <a:ln w="3240">
            <a:solidFill>
              <a:srgbClr val="c4e2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43480" y="3643200"/>
            <a:ext cx="169560" cy="227160"/>
          </a:xfrm>
          <a:custGeom>
            <a:avLst/>
            <a:gdLst/>
            <a:ahLst/>
            <a:rect l="l" t="t" r="r" b="b"/>
            <a:pathLst>
              <a:path w="107" h="143">
                <a:moveTo>
                  <a:pt x="0" y="143"/>
                </a:moveTo>
                <a:cubicBezTo>
                  <a:pt x="17" y="125"/>
                  <a:pt x="107" y="57"/>
                  <a:pt x="107" y="6"/>
                </a:cubicBezTo>
                <a:cubicBezTo>
                  <a:pt x="107" y="0"/>
                  <a:pt x="101" y="16"/>
                  <a:pt x="99" y="21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743200"/>
            <a:ext cx="206280" cy="92160"/>
          </a:xfrm>
          <a:custGeom>
            <a:avLst/>
            <a:gdLst/>
            <a:ahLst/>
            <a:rect l="l" t="t" r="r" b="b"/>
            <a:pathLst>
              <a:path w="130" h="58">
                <a:moveTo>
                  <a:pt x="130" y="41"/>
                </a:moveTo>
                <a:cubicBezTo>
                  <a:pt x="87" y="46"/>
                  <a:pt x="56" y="58"/>
                  <a:pt x="16" y="48"/>
                </a:cubicBezTo>
                <a:cubicBezTo>
                  <a:pt x="0" y="0"/>
                  <a:pt x="22" y="37"/>
                  <a:pt x="47" y="48"/>
                </a:cubicBezTo>
              </a:path>
            </a:pathLst>
          </a:custGeom>
          <a:noFill/>
          <a:ln w="9360">
            <a:solidFill>
              <a:srgbClr val="bbe0e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2240" y="2773440"/>
            <a:ext cx="193680" cy="93600"/>
          </a:xfrm>
          <a:custGeom>
            <a:avLst/>
            <a:gdLst/>
            <a:ahLst/>
            <a:rect l="l" t="t" r="r" b="b"/>
            <a:pathLst>
              <a:path w="122" h="59">
                <a:moveTo>
                  <a:pt x="122" y="21"/>
                </a:moveTo>
                <a:cubicBezTo>
                  <a:pt x="85" y="17"/>
                  <a:pt x="35" y="0"/>
                  <a:pt x="0" y="13"/>
                </a:cubicBezTo>
                <a:cubicBezTo>
                  <a:pt x="2" y="20"/>
                  <a:pt x="2" y="30"/>
                  <a:pt x="8" y="36"/>
                </a:cubicBezTo>
                <a:cubicBezTo>
                  <a:pt x="13" y="41"/>
                  <a:pt x="59" y="59"/>
                  <a:pt x="69" y="59"/>
                </a:cubicBezTo>
              </a:path>
            </a:pathLst>
          </a:custGeom>
          <a:noFill/>
          <a:ln w="9360">
            <a:solidFill>
              <a:srgbClr val="c4e2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1480" y="2698920"/>
            <a:ext cx="930240" cy="142560"/>
          </a:xfrm>
          <a:custGeom>
            <a:avLst/>
            <a:gdLst/>
            <a:ahLst/>
            <a:rect l="l" t="t" r="r" b="b"/>
            <a:pathLst>
              <a:path w="586" h="90">
                <a:moveTo>
                  <a:pt x="586" y="52"/>
                </a:moveTo>
                <a:cubicBezTo>
                  <a:pt x="385" y="58"/>
                  <a:pt x="199" y="51"/>
                  <a:pt x="0" y="45"/>
                </a:cubicBezTo>
                <a:cubicBezTo>
                  <a:pt x="102" y="9"/>
                  <a:pt x="228" y="0"/>
                  <a:pt x="320" y="60"/>
                </a:cubicBezTo>
                <a:cubicBezTo>
                  <a:pt x="336" y="85"/>
                  <a:pt x="328" y="76"/>
                  <a:pt x="343" y="90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steresis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-1600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with stead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5600" y="2209680"/>
            <a:ext cx="1072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9880" y="487692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dy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95480" y="4495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224" t="25000" r="7528" b="22731"/>
          <a:stretch/>
        </p:blipFill>
        <p:spPr>
          <a:xfrm>
            <a:off x="762120" y="1371600"/>
            <a:ext cx="6324480" cy="479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791320" y="251460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31240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 up of the  oscillating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18208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49840" y="1981080"/>
            <a:ext cx="180648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04960" y="4114800"/>
            <a:ext cx="177012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656320" y="4114800"/>
            <a:ext cx="1793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546120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evolution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276720"/>
            <a:ext cx="383076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vection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ouble diff. Conv.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.d. Salinity trans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oulli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37920" y="3505320"/>
            <a:ext cx="2667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733560" y="41144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666880" y="4800600"/>
            <a:ext cx="2438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723920" y="5790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64160" y="2209680"/>
          <a:ext cx="41432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209680"/>
                    <a:ext cx="4143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ion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143000"/>
          <a:ext cx="4508640" cy="487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45086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64008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7:39:08Z</dcterms:created>
  <dc:creator>John Whitehead</dc:creator>
  <dc:description/>
  <dc:language>en-US</dc:language>
  <cp:lastModifiedBy>John Whitehead</cp:lastModifiedBy>
  <dcterms:modified xsi:type="dcterms:W3CDTF">2007-05-22T17:54:31Z</dcterms:modified>
  <cp:revision>4</cp:revision>
  <dc:subject/>
  <dc:title>Two states</dc:title>
</cp:coreProperties>
</file>