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A629-929B-4039-81C0-2D5295AE15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7F4B-F28A-4345-B4F4-822C96625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577-174A-4772-A25E-D13AAD939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5C6-7223-4034-813A-3EE1B282C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138E-F17D-44CF-BB7B-9E53A81F0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E5A2-EBCC-4219-8A4A-91BE054D6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253C-96E1-4489-B6A6-A8F39B8BB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029A-EFA2-4465-9D87-418BB42A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4300-440D-45EC-8712-6B61F33A7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4DB4-5CE4-4F12-A647-3FEA83E99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C33-3115-4970-8702-004E900F1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337-90C1-4915-9C32-D3EF37418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31D-CD94-4F9C-8CC9-0397D45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88E-81B0-4931-A078-DA6C758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598-B396-42CD-BBA5-8D313AF8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75C-D866-44AD-A42F-E5CAAB7E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A009-FD93-48C2-AAF2-4E2917F1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AFC0-7165-4D3F-8AED-09CA7B1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37C7-4A69-447A-9223-D4DB416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E4EB-70D6-4828-8930-F7945B45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E63F-7376-4A9B-B7DE-BF2DFD33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3B5A-5EAB-4E04-9C63-1FA016CC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A17-CA59-4220-AFCF-BD84AB5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EFB-8FB9-43DA-B82A-EAB5400F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781-6EA2-4E5C-AA3C-5F395427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BAD-FA8A-4540-ABE5-970F1DE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E403-0588-46C7-AD75-B238B00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8DBF-CF1D-4A12-8CC3-4C207FA7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B230-5E60-4C99-88FD-CEEAC690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87F-2CFF-4FDE-B44A-F09AE524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3A2-1981-47B6-BF99-E3E8DE2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EBF-D0EE-44BA-8573-7C559A0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C2B-768C-4FA4-800D-3026216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11-6F8A-4229-893E-EBA4CA61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E7D-EBDD-4922-9A06-3EAC75D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891-1B79-4C57-A214-AA9544A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8EC-4A70-492C-B555-754F836851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8F44-524C-4572-BE65-C0893EB60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ersibility of droplet trai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microfluidic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Piotr Garstecki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Michael J. Fuerstman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rge M. Whitesides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1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Institute of Physical Chemistry, PAS, Warsaw, Pol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898989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Department of Chemistry and Chemical Biology, Harvard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67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upa 27"/>
          <p:cNvGrpSpPr/>
          <p:nvPr/>
        </p:nvGrpSpPr>
        <p:grpSpPr>
          <a:xfrm>
            <a:off x="457200" y="3809880"/>
            <a:ext cx="8534520" cy="3147480"/>
            <a:chOff x="457200" y="3809880"/>
            <a:chExt cx="8534520" cy="3147480"/>
          </a:xfrm>
        </p:grpSpPr>
        <p:pic>
          <p:nvPicPr>
            <p:cNvPr id="177" name="Wykres 2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825120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1"/>
            <p:cNvSpPr/>
            <p:nvPr/>
          </p:nvSpPr>
          <p:spPr>
            <a:xfrm>
              <a:off x="1541880" y="6650280"/>
              <a:ext cx="744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itrogen (p=8 psi) / 2% Tween20 in water (Q=3 mL/h), orifice width/length/height: 60/150/3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3"/>
          <p:cNvGrpSpPr/>
          <p:nvPr/>
        </p:nvGrpSpPr>
        <p:grpSpPr>
          <a:xfrm>
            <a:off x="1551240" y="403200"/>
            <a:ext cx="2944440" cy="1501920"/>
            <a:chOff x="1551240" y="403200"/>
            <a:chExt cx="2944440" cy="1501920"/>
          </a:xfrm>
        </p:grpSpPr>
        <p:grpSp>
          <p:nvGrpSpPr>
            <p:cNvPr id="180" name="Group 4"/>
            <p:cNvGrpSpPr/>
            <p:nvPr/>
          </p:nvGrpSpPr>
          <p:grpSpPr>
            <a:xfrm>
              <a:off x="1600200" y="403200"/>
              <a:ext cx="2895480" cy="1501920"/>
              <a:chOff x="1600200" y="403200"/>
              <a:chExt cx="2895480" cy="1501920"/>
            </a:xfrm>
          </p:grpSpPr>
          <p:sp>
            <p:nvSpPr>
              <p:cNvPr id="181" name="Rectangle 5"/>
              <p:cNvSpPr/>
              <p:nvPr/>
            </p:nvSpPr>
            <p:spPr>
              <a:xfrm>
                <a:off x="1600200" y="487440"/>
                <a:ext cx="2895480" cy="141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Picture 6" descr="3D view of FF"/>
              <p:cNvPicPr/>
              <p:nvPr/>
            </p:nvPicPr>
            <p:blipFill>
              <a:blip r:embed="rId1"/>
              <a:stretch/>
            </p:blipFill>
            <p:spPr>
              <a:xfrm>
                <a:off x="2014560" y="546120"/>
                <a:ext cx="239220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7"/>
              <p:cNvSpPr/>
              <p:nvPr/>
            </p:nvSpPr>
            <p:spPr>
              <a:xfrm>
                <a:off x="1981440" y="581040"/>
                <a:ext cx="42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g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2197080" y="403200"/>
                <a:ext cx="60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liqu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9"/>
            <p:cNvSpPr/>
            <p:nvPr/>
          </p:nvSpPr>
          <p:spPr>
            <a:xfrm>
              <a:off x="1551240" y="7844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iqu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AutoShape 14"/>
          <p:cNvCxnSpPr>
            <a:stCxn id="187" idx="3"/>
            <a:endCxn id="188" idx="1"/>
          </p:cNvCxnSpPr>
          <p:nvPr/>
        </p:nvCxnSpPr>
        <p:spPr>
          <a:xfrm>
            <a:off x="3580920" y="974520"/>
            <a:ext cx="1753560" cy="27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89" name="Grupa 55"/>
          <p:cNvGrpSpPr/>
          <p:nvPr/>
        </p:nvGrpSpPr>
        <p:grpSpPr>
          <a:xfrm>
            <a:off x="76320" y="1295280"/>
            <a:ext cx="2286000" cy="3058200"/>
            <a:chOff x="76320" y="1295280"/>
            <a:chExt cx="2286000" cy="3058200"/>
          </a:xfrm>
        </p:grpSpPr>
        <p:sp>
          <p:nvSpPr>
            <p:cNvPr id="190" name="Text Box 23"/>
            <p:cNvSpPr/>
            <p:nvPr/>
          </p:nvSpPr>
          <p:spPr>
            <a:xfrm>
              <a:off x="228600" y="316224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Calibri"/>
                </a:rPr>
                <a:t>equilibrium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shap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for a given volume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enclosed by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gas-liqui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7" descr="catenoid"/>
            <p:cNvPicPr/>
            <p:nvPr/>
          </p:nvPicPr>
          <p:blipFill>
            <a:blip r:embed="rId2"/>
            <a:stretch/>
          </p:blipFill>
          <p:spPr>
            <a:xfrm>
              <a:off x="76320" y="1295280"/>
              <a:ext cx="2286000" cy="2000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92" name="AutoShape 25"/>
          <p:cNvCxnSpPr>
            <a:stCxn id="187" idx="2"/>
            <a:endCxn id="193" idx="0"/>
          </p:cNvCxnSpPr>
          <p:nvPr/>
        </p:nvCxnSpPr>
        <p:spPr>
          <a:xfrm flipH="1" rot="16200000">
            <a:off x="3192480" y="1096560"/>
            <a:ext cx="1121760" cy="1410480"/>
          </a:xfrm>
          <a:prstGeom prst="curvedConnector5">
            <a:avLst>
              <a:gd name="adj1" fmla="val 49983"/>
              <a:gd name="adj2" fmla="val 49987"/>
              <a:gd name="adj3" fmla="val 49983"/>
            </a:avLst>
          </a:prstGeom>
          <a:ln w="38160">
            <a:solidFill>
              <a:srgbClr val="00b050"/>
            </a:solidFill>
            <a:miter/>
          </a:ln>
        </p:spPr>
      </p:cxnSp>
      <p:grpSp>
        <p:nvGrpSpPr>
          <p:cNvPr id="194" name="Grupa 52"/>
          <p:cNvGrpSpPr/>
          <p:nvPr/>
        </p:nvGrpSpPr>
        <p:grpSpPr>
          <a:xfrm>
            <a:off x="2743200" y="2362320"/>
            <a:ext cx="3429000" cy="1981080"/>
            <a:chOff x="2743200" y="2362320"/>
            <a:chExt cx="3429000" cy="1981080"/>
          </a:xfrm>
        </p:grpSpPr>
        <p:grpSp>
          <p:nvGrpSpPr>
            <p:cNvPr id="195" name="Group 16"/>
            <p:cNvGrpSpPr/>
            <p:nvPr/>
          </p:nvGrpSpPr>
          <p:grpSpPr>
            <a:xfrm>
              <a:off x="2819160" y="2438280"/>
              <a:ext cx="3269520" cy="1903680"/>
              <a:chOff x="2819160" y="2438280"/>
              <a:chExt cx="3269520" cy="1903680"/>
            </a:xfrm>
          </p:grpSpPr>
          <p:pic>
            <p:nvPicPr>
              <p:cNvPr id="196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160" y="2438280"/>
                <a:ext cx="3200400" cy="163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18"/>
              <p:cNvSpPr/>
              <p:nvPr/>
            </p:nvSpPr>
            <p:spPr>
              <a:xfrm>
                <a:off x="4652280" y="4004640"/>
                <a:ext cx="1436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surface evol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3429000" y="3759120"/>
                <a:ext cx="1622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ori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0"/>
              <p:cNvSpPr/>
              <p:nvPr/>
            </p:nvSpPr>
            <p:spPr>
              <a:xfrm>
                <a:off x="4383000" y="253980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end of the g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Inlet chann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1"/>
              <p:cNvSpPr/>
              <p:nvPr/>
            </p:nvSpPr>
            <p:spPr>
              <a:xfrm flipV="1">
                <a:off x="4851000" y="3809520"/>
                <a:ext cx="30456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2"/>
              <p:cNvSpPr/>
              <p:nvPr/>
            </p:nvSpPr>
            <p:spPr>
              <a:xfrm flipH="1">
                <a:off x="4343040" y="2641320"/>
                <a:ext cx="20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Prostokąt zaokrąglony 31"/>
            <p:cNvSpPr/>
            <p:nvPr/>
          </p:nvSpPr>
          <p:spPr>
            <a:xfrm>
              <a:off x="2743200" y="2362320"/>
              <a:ext cx="3429000" cy="1981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rostokąt zaokrąglony 39"/>
          <p:cNvSpPr/>
          <p:nvPr/>
        </p:nvSpPr>
        <p:spPr>
          <a:xfrm>
            <a:off x="2514600" y="708120"/>
            <a:ext cx="106668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rifice-one-period.avi" descr=""/>
          <p:cNvPicPr/>
          <p:nvPr/>
        </p:nvPicPr>
        <p:blipFill>
          <a:blip r:embed="rId4"/>
          <a:stretch/>
        </p:blipFill>
        <p:spPr>
          <a:xfrm>
            <a:off x="5638680" y="450720"/>
            <a:ext cx="2887920" cy="144468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zaokrąglony 36"/>
          <p:cNvSpPr/>
          <p:nvPr/>
        </p:nvSpPr>
        <p:spPr>
          <a:xfrm>
            <a:off x="5334120" y="304920"/>
            <a:ext cx="3429000" cy="1895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50"/>
          <p:cNvGrpSpPr/>
          <p:nvPr/>
        </p:nvGrpSpPr>
        <p:grpSpPr>
          <a:xfrm>
            <a:off x="7048080" y="1849320"/>
            <a:ext cx="1327680" cy="368280"/>
            <a:chOff x="7048080" y="1849320"/>
            <a:chExt cx="1327680" cy="368280"/>
          </a:xfrm>
        </p:grpSpPr>
        <p:sp>
          <p:nvSpPr>
            <p:cNvPr id="204" name="Łącznik prosty 48"/>
            <p:cNvSpPr/>
            <p:nvPr/>
          </p:nvSpPr>
          <p:spPr>
            <a:xfrm flipH="1" flipV="1">
              <a:off x="7048080" y="2047680"/>
              <a:ext cx="506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ole tekstowe 49"/>
            <p:cNvSpPr/>
            <p:nvPr/>
          </p:nvSpPr>
          <p:spPr>
            <a:xfrm>
              <a:off x="7556400" y="184932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upa 30"/>
          <p:cNvGrpSpPr/>
          <p:nvPr/>
        </p:nvGrpSpPr>
        <p:grpSpPr>
          <a:xfrm>
            <a:off x="533520" y="4572000"/>
            <a:ext cx="8577360" cy="2280600"/>
            <a:chOff x="533520" y="4572000"/>
            <a:chExt cx="8577360" cy="2280600"/>
          </a:xfrm>
        </p:grpSpPr>
        <p:sp>
          <p:nvSpPr>
            <p:cNvPr id="207" name="pole tekstowe 54"/>
            <p:cNvSpPr/>
            <p:nvPr/>
          </p:nvSpPr>
          <p:spPr>
            <a:xfrm>
              <a:off x="533520" y="4572000"/>
              <a:ext cx="838224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rate of collapse linear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the of inflow of the  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continuous ph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nly the very last (and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o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tage is driven </a:t>
              </a:r>
              <a:br>
                <a:rPr sz="2800"/>
              </a:b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by interfacial ten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6156360" y="6545520"/>
              <a:ext cx="295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s. Rev. Lett. 94, 164501 (200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86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upa 10"/>
          <p:cNvGrpSpPr/>
          <p:nvPr/>
        </p:nvGrpSpPr>
        <p:grpSpPr>
          <a:xfrm>
            <a:off x="-1219320" y="990720"/>
            <a:ext cx="7996680" cy="2136600"/>
            <a:chOff x="-1219320" y="990720"/>
            <a:chExt cx="7996680" cy="2136600"/>
          </a:xfrm>
        </p:grpSpPr>
        <p:pic>
          <p:nvPicPr>
            <p:cNvPr id="210" name="Picture 3" descr="mo-desing"/>
            <p:cNvPicPr/>
            <p:nvPr/>
          </p:nvPicPr>
          <p:blipFill>
            <a:blip r:embed="rId1"/>
            <a:stretch/>
          </p:blipFill>
          <p:spPr>
            <a:xfrm>
              <a:off x="-1112400" y="990720"/>
              <a:ext cx="78897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Prostokąt 9"/>
            <p:cNvSpPr/>
            <p:nvPr/>
          </p:nvSpPr>
          <p:spPr>
            <a:xfrm>
              <a:off x="-1219320" y="990720"/>
              <a:ext cx="2558880" cy="202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a 19"/>
          <p:cNvGrpSpPr/>
          <p:nvPr/>
        </p:nvGrpSpPr>
        <p:grpSpPr>
          <a:xfrm>
            <a:off x="501120" y="2971800"/>
            <a:ext cx="8267760" cy="3154680"/>
            <a:chOff x="501120" y="2971800"/>
            <a:chExt cx="8267760" cy="3154680"/>
          </a:xfrm>
        </p:grpSpPr>
        <p:pic>
          <p:nvPicPr>
            <p:cNvPr id="214" name="Picture 4" descr="pressure-feedback-loop"/>
            <p:cNvPicPr/>
            <p:nvPr/>
          </p:nvPicPr>
          <p:blipFill>
            <a:blip r:embed="rId2"/>
            <a:stretch/>
          </p:blipFill>
          <p:spPr>
            <a:xfrm>
              <a:off x="566640" y="3276360"/>
              <a:ext cx="581184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5"/>
            <p:cNvSpPr/>
            <p:nvPr/>
          </p:nvSpPr>
          <p:spPr>
            <a:xfrm flipH="1">
              <a:off x="5900760" y="3352680"/>
              <a:ext cx="91440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6826320" y="2971800"/>
              <a:ext cx="194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inform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fas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 flipV="1">
              <a:off x="4224240" y="4191120"/>
              <a:ext cx="24811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6867000" y="4343760"/>
              <a:ext cx="160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ev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slow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501120" y="5563440"/>
              <a:ext cx="80478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13716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ssipative dynamic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low to mod 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514600" y="4190760"/>
              <a:ext cx="137160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03080" y="4877280"/>
              <a:ext cx="47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final break-up takes ‘no’ 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92600" y="792000"/>
            <a:ext cx="3371760" cy="3162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mo-only-desing"/>
          <p:cNvPicPr/>
          <p:nvPr/>
        </p:nvPicPr>
        <p:blipFill>
          <a:blip r:embed="rId2"/>
          <a:stretch/>
        </p:blipFill>
        <p:spPr>
          <a:xfrm>
            <a:off x="762120" y="1523880"/>
            <a:ext cx="2708280" cy="12128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304920" y="44197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period-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6119640" y="2265480"/>
            <a:ext cx="0" cy="53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5889600" y="2776680"/>
            <a:ext cx="456840" cy="152280"/>
            <a:chOff x="5889600" y="2776680"/>
            <a:chExt cx="456840" cy="152280"/>
          </a:xfrm>
        </p:grpSpPr>
        <p:sp>
          <p:nvSpPr>
            <p:cNvPr id="227" name="Line 8"/>
            <p:cNvSpPr/>
            <p:nvPr/>
          </p:nvSpPr>
          <p:spPr>
            <a:xfrm>
              <a:off x="5889600" y="2853000"/>
              <a:ext cx="456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634644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5889600" y="2776680"/>
              <a:ext cx="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1"/>
          <p:cNvSpPr/>
          <p:nvPr/>
        </p:nvSpPr>
        <p:spPr>
          <a:xfrm>
            <a:off x="6280200" y="709560"/>
            <a:ext cx="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MultiOrifice - Period 29 -2x2.8mlph-10.95psi-51kfps.avi" descr=""/>
          <p:cNvPicPr/>
          <p:nvPr/>
        </p:nvPicPr>
        <p:blipFill>
          <a:blip r:embed="rId3"/>
          <a:stretch/>
        </p:blipFill>
        <p:spPr>
          <a:xfrm>
            <a:off x="0" y="4978440"/>
            <a:ext cx="8839080" cy="736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1634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upa 6"/>
          <p:cNvGrpSpPr/>
          <p:nvPr/>
        </p:nvGrpSpPr>
        <p:grpSpPr>
          <a:xfrm>
            <a:off x="228600" y="-3225960"/>
            <a:ext cx="8763120" cy="9017640"/>
            <a:chOff x="228600" y="-3225960"/>
            <a:chExt cx="8763120" cy="9017640"/>
          </a:xfrm>
        </p:grpSpPr>
        <p:pic>
          <p:nvPicPr>
            <p:cNvPr id="235" name="Picture 3" descr="per29-snapshots"/>
            <p:cNvPicPr/>
            <p:nvPr/>
          </p:nvPicPr>
          <p:blipFill>
            <a:blip r:embed="rId1"/>
            <a:stretch/>
          </p:blipFill>
          <p:spPr>
            <a:xfrm>
              <a:off x="327240" y="-3048480"/>
              <a:ext cx="8410680" cy="88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8"/>
            <p:cNvSpPr/>
            <p:nvPr/>
          </p:nvSpPr>
          <p:spPr>
            <a:xfrm>
              <a:off x="228600" y="-3225960"/>
              <a:ext cx="8763120" cy="473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327240" y="1523520"/>
              <a:ext cx="8382240" cy="4267800"/>
            </a:xfrm>
            <a:prstGeom prst="rect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pled flow-focusing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2" descr="Pic00001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71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5"/>
          <p:cNvSpPr/>
          <p:nvPr/>
        </p:nvSpPr>
        <p:spPr>
          <a:xfrm>
            <a:off x="5435640" y="765000"/>
            <a:ext cx="345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7993080" cy="202716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9"/>
          <p:cNvSpPr/>
          <p:nvPr/>
        </p:nvSpPr>
        <p:spPr>
          <a:xfrm>
            <a:off x="3132000" y="1557360"/>
            <a:ext cx="2519640" cy="216000"/>
          </a:xfrm>
          <a:prstGeom prst="pie">
            <a:avLst/>
          </a:prstGeom>
          <a:noFill/>
          <a:ln w="38160">
            <a:solidFill>
              <a:srgbClr val="a50021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323120" y="17463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60 kfp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.2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MultiOrifice - Period 29 - CloseUp - 2x2.8mlph-10.95psi-160kfps.avi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2987640" y="836640"/>
            <a:ext cx="792360" cy="720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5724360" y="836640"/>
            <a:ext cx="1511640" cy="1512720"/>
          </a:xfrm>
          <a:prstGeom prst="rect">
            <a:avLst/>
          </a:prstGeom>
          <a:noFill/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826920" y="2492280"/>
            <a:ext cx="76327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14"/>
          <p:cNvSpPr/>
          <p:nvPr/>
        </p:nvSpPr>
        <p:spPr>
          <a:xfrm>
            <a:off x="533520" y="5410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bserved dynamics is (again) s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ure Phys. 1, 168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000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304920" y="83808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s of flow through netwo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omplicated (compl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it is possible to design complex, 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utomat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Arial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the protocols can be executed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677880" y="3797280"/>
            <a:ext cx="8104320" cy="2776680"/>
            <a:chOff x="677880" y="3797280"/>
            <a:chExt cx="8104320" cy="2776680"/>
          </a:xfrm>
        </p:grpSpPr>
        <p:sp>
          <p:nvSpPr>
            <p:cNvPr id="253" name="Ink 3"/>
            <p:cNvSpPr/>
            <p:nvPr/>
          </p:nvSpPr>
          <p:spPr>
            <a:xfrm>
              <a:off x="677880" y="3797280"/>
              <a:ext cx="8104320" cy="1866960"/>
            </a:xfrm>
            <a:custGeom>
              <a:avLst/>
              <a:gdLst/>
              <a:ahLst/>
              <a:rect l="l" t="t" r="r" b="b"/>
              <a:pathLst>
                <a:path w="22513" h="5185">
                  <a:moveTo>
                    <a:pt x="10722" y="10957"/>
                  </a:moveTo>
                  <a:cubicBezTo>
                    <a:pt x="10636" y="10923"/>
                    <a:pt x="10659" y="10848"/>
                    <a:pt x="10569" y="10824"/>
                  </a:cubicBezTo>
                  <a:cubicBezTo>
                    <a:pt x="9751" y="10607"/>
                    <a:pt x="8791" y="10712"/>
                    <a:pt x="7947" y="10636"/>
                  </a:cubicBezTo>
                  <a:cubicBezTo>
                    <a:pt x="6421" y="10499"/>
                    <a:pt x="5017" y="10542"/>
                    <a:pt x="3580" y="11134"/>
                  </a:cubicBezTo>
                  <a:cubicBezTo>
                    <a:pt x="2931" y="11401"/>
                    <a:pt x="1854" y="11904"/>
                    <a:pt x="1883" y="12771"/>
                  </a:cubicBezTo>
                  <a:cubicBezTo>
                    <a:pt x="1910" y="13584"/>
                    <a:pt x="2848" y="13920"/>
                    <a:pt x="3471" y="14162"/>
                  </a:cubicBezTo>
                  <a:cubicBezTo>
                    <a:pt x="4880" y="14709"/>
                    <a:pt x="6331" y="14937"/>
                    <a:pt x="7824" y="15118"/>
                  </a:cubicBezTo>
                  <a:cubicBezTo>
                    <a:pt x="11327" y="15543"/>
                    <a:pt x="14998" y="15768"/>
                    <a:pt x="18526" y="15733"/>
                  </a:cubicBezTo>
                  <a:cubicBezTo>
                    <a:pt x="20039" y="15718"/>
                    <a:pt x="21977" y="15700"/>
                    <a:pt x="23360" y="14986"/>
                  </a:cubicBezTo>
                  <a:cubicBezTo>
                    <a:pt x="24055" y="14627"/>
                    <a:pt x="24587" y="14000"/>
                    <a:pt x="24312" y="13189"/>
                  </a:cubicBezTo>
                  <a:cubicBezTo>
                    <a:pt x="24035" y="12374"/>
                    <a:pt x="22927" y="12017"/>
                    <a:pt x="22196" y="11811"/>
                  </a:cubicBezTo>
                  <a:cubicBezTo>
                    <a:pt x="20020" y="11197"/>
                    <a:pt x="17605" y="11126"/>
                    <a:pt x="15366" y="10857"/>
                  </a:cubicBezTo>
                  <a:cubicBezTo>
                    <a:pt x="14174" y="10714"/>
                    <a:pt x="12989" y="10675"/>
                    <a:pt x="11789" y="10656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Ink 5"/>
            <p:cNvSpPr/>
            <p:nvPr/>
          </p:nvSpPr>
          <p:spPr>
            <a:xfrm>
              <a:off x="6699240" y="5775480"/>
              <a:ext cx="1622520" cy="798480"/>
            </a:xfrm>
            <a:custGeom>
              <a:avLst/>
              <a:gdLst/>
              <a:ahLst/>
              <a:rect l="l" t="t" r="r" b="b"/>
              <a:pathLst>
                <a:path w="4508" h="2218">
                  <a:moveTo>
                    <a:pt x="19214" y="16346"/>
                  </a:moveTo>
                  <a:cubicBezTo>
                    <a:pt x="19195" y="16343"/>
                    <a:pt x="19033" y="16344"/>
                    <a:pt x="19121" y="16329"/>
                  </a:cubicBezTo>
                  <a:cubicBezTo>
                    <a:pt x="19203" y="16315"/>
                    <a:pt x="19292" y="16317"/>
                    <a:pt x="19375" y="16309"/>
                  </a:cubicBezTo>
                  <a:cubicBezTo>
                    <a:pt x="20461" y="16203"/>
                    <a:pt x="21578" y="15958"/>
                    <a:pt x="22672" y="16059"/>
                  </a:cubicBezTo>
                  <a:cubicBezTo>
                    <a:pt x="22692" y="16062"/>
                    <a:pt x="22712" y="16065"/>
                    <a:pt x="22732" y="16068"/>
                  </a:cubicBezTo>
                  <a:cubicBezTo>
                    <a:pt x="22690" y="16098"/>
                    <a:pt x="22710" y="16119"/>
                    <a:pt x="22661" y="16136"/>
                  </a:cubicBezTo>
                  <a:cubicBezTo>
                    <a:pt x="22219" y="16287"/>
                    <a:pt x="21684" y="16278"/>
                    <a:pt x="21225" y="16322"/>
                  </a:cubicBezTo>
                  <a:cubicBezTo>
                    <a:pt x="20372" y="16404"/>
                    <a:pt x="19485" y="16425"/>
                    <a:pt x="18647" y="16619"/>
                  </a:cubicBezTo>
                  <a:cubicBezTo>
                    <a:pt x="18634" y="16625"/>
                    <a:pt x="18621" y="16630"/>
                    <a:pt x="18608" y="16636"/>
                  </a:cubicBezTo>
                  <a:cubicBezTo>
                    <a:pt x="18770" y="16635"/>
                    <a:pt x="18930" y="16625"/>
                    <a:pt x="19094" y="16609"/>
                  </a:cubicBezTo>
                  <a:cubicBezTo>
                    <a:pt x="19887" y="16530"/>
                    <a:pt x="20676" y="16445"/>
                    <a:pt x="21473" y="16411"/>
                  </a:cubicBezTo>
                  <a:cubicBezTo>
                    <a:pt x="21915" y="16392"/>
                    <a:pt x="22368" y="16374"/>
                    <a:pt x="22805" y="16432"/>
                  </a:cubicBezTo>
                  <a:cubicBezTo>
                    <a:pt x="22715" y="16477"/>
                    <a:pt x="22607" y="16538"/>
                    <a:pt x="22486" y="16572"/>
                  </a:cubicBezTo>
                  <a:cubicBezTo>
                    <a:pt x="21738" y="16784"/>
                    <a:pt x="20832" y="16800"/>
                    <a:pt x="20128" y="17121"/>
                  </a:cubicBezTo>
                  <a:cubicBezTo>
                    <a:pt x="20128" y="17128"/>
                    <a:pt x="20128" y="17134"/>
                    <a:pt x="20128" y="17141"/>
                  </a:cubicBezTo>
                  <a:cubicBezTo>
                    <a:pt x="20297" y="17148"/>
                    <a:pt x="20466" y="17151"/>
                    <a:pt x="20636" y="17145"/>
                  </a:cubicBezTo>
                  <a:cubicBezTo>
                    <a:pt x="21453" y="17115"/>
                    <a:pt x="22269" y="17030"/>
                    <a:pt x="23086" y="17081"/>
                  </a:cubicBezTo>
                  <a:cubicBezTo>
                    <a:pt x="22992" y="17136"/>
                    <a:pt x="22947" y="17166"/>
                    <a:pt x="22842" y="17194"/>
                  </a:cubicBezTo>
                  <a:cubicBezTo>
                    <a:pt x="22222" y="17358"/>
                    <a:pt x="21539" y="17388"/>
                    <a:pt x="20944" y="17632"/>
                  </a:cubicBezTo>
                  <a:cubicBezTo>
                    <a:pt x="20934" y="17642"/>
                    <a:pt x="20923" y="17653"/>
                    <a:pt x="20913" y="17663"/>
                  </a:cubicBezTo>
                  <a:cubicBezTo>
                    <a:pt x="21038" y="17709"/>
                    <a:pt x="21158" y="17730"/>
                    <a:pt x="21305" y="17740"/>
                  </a:cubicBezTo>
                  <a:cubicBezTo>
                    <a:pt x="21820" y="17775"/>
                    <a:pt x="22581" y="17617"/>
                    <a:pt x="23055" y="17858"/>
                  </a:cubicBezTo>
                  <a:cubicBezTo>
                    <a:pt x="23060" y="17870"/>
                    <a:pt x="23065" y="17881"/>
                    <a:pt x="23070" y="17893"/>
                  </a:cubicBezTo>
                  <a:cubicBezTo>
                    <a:pt x="22997" y="17964"/>
                    <a:pt x="22919" y="18022"/>
                    <a:pt x="22838" y="18087"/>
                  </a:cubicBezTo>
                  <a:cubicBezTo>
                    <a:pt x="22807" y="18112"/>
                    <a:pt x="22706" y="18168"/>
                    <a:pt x="22756" y="18220"/>
                  </a:cubicBezTo>
                  <a:cubicBezTo>
                    <a:pt x="22808" y="18274"/>
                    <a:pt x="22906" y="18250"/>
                    <a:pt x="22966" y="18242"/>
                  </a:cubicBezTo>
                  <a:cubicBezTo>
                    <a:pt x="22989" y="18232"/>
                    <a:pt x="23012" y="18221"/>
                    <a:pt x="23035" y="18211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raz 6" descr="5-anim.gif"/>
          <p:cNvPicPr/>
          <p:nvPr/>
        </p:nvPicPr>
        <p:blipFill>
          <a:blip r:embed="rId1"/>
          <a:stretch/>
        </p:blipFill>
        <p:spPr>
          <a:xfrm>
            <a:off x="6172200" y="2057400"/>
            <a:ext cx="2670120" cy="2895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labchip-on-drops-scheme-with-legends"/>
          <p:cNvPicPr/>
          <p:nvPr/>
        </p:nvPicPr>
        <p:blipFill>
          <a:blip r:embed="rId2"/>
          <a:stretch/>
        </p:blipFill>
        <p:spPr>
          <a:xfrm>
            <a:off x="304920" y="1981080"/>
            <a:ext cx="5788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FF128"/>
          <p:cNvPicPr/>
          <p:nvPr/>
        </p:nvPicPr>
        <p:blipFill>
          <a:blip r:embed="rId1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92" name="Grupa 6"/>
          <p:cNvGrpSpPr/>
          <p:nvPr/>
        </p:nvGrpSpPr>
        <p:grpSpPr>
          <a:xfrm>
            <a:off x="3962520" y="1981080"/>
            <a:ext cx="4452120" cy="3232800"/>
            <a:chOff x="3962520" y="1981080"/>
            <a:chExt cx="4452120" cy="3232800"/>
          </a:xfrm>
        </p:grpSpPr>
        <p:pic>
          <p:nvPicPr>
            <p:cNvPr id="93" name="Picture 3" descr="ff_7flow_c"/>
            <p:cNvPicPr/>
            <p:nvPr/>
          </p:nvPicPr>
          <p:blipFill>
            <a:blip r:embed="rId2"/>
            <a:stretch/>
          </p:blipFill>
          <p:spPr>
            <a:xfrm>
              <a:off x="3962520" y="1981080"/>
              <a:ext cx="4362840" cy="28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4"/>
            <p:cNvSpPr/>
            <p:nvPr/>
          </p:nvSpPr>
          <p:spPr>
            <a:xfrm>
              <a:off x="6409800" y="4876560"/>
              <a:ext cx="200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nis, Sci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199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labchip-on-drops-scheme-with-legends"/>
          <p:cNvPicPr/>
          <p:nvPr/>
        </p:nvPicPr>
        <p:blipFill>
          <a:blip r:embed="rId1"/>
          <a:stretch/>
        </p:blipFill>
        <p:spPr>
          <a:xfrm>
            <a:off x="3048120" y="2057400"/>
            <a:ext cx="5788080" cy="328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FF128"/>
          <p:cNvPicPr/>
          <p:nvPr/>
        </p:nvPicPr>
        <p:blipFill>
          <a:blip r:embed="rId2"/>
          <a:stretch/>
        </p:blipFill>
        <p:spPr>
          <a:xfrm>
            <a:off x="457200" y="2362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one loop-long-noDrops-scheme"/>
          <p:cNvPicPr/>
          <p:nvPr/>
        </p:nvPicPr>
        <p:blipFill>
          <a:blip r:embed="rId1"/>
          <a:stretch/>
        </p:blipFill>
        <p:spPr>
          <a:xfrm>
            <a:off x="1752480" y="851040"/>
            <a:ext cx="5765760" cy="2028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upa 6"/>
          <p:cNvGrpSpPr/>
          <p:nvPr/>
        </p:nvGrpSpPr>
        <p:grpSpPr>
          <a:xfrm>
            <a:off x="458280" y="2895480"/>
            <a:ext cx="8149320" cy="3585960"/>
            <a:chOff x="458280" y="2895480"/>
            <a:chExt cx="8149320" cy="3585960"/>
          </a:xfrm>
        </p:grpSpPr>
        <p:pic>
          <p:nvPicPr>
            <p:cNvPr id="100" name="Picture 4" descr="one loop-long-withDrops-scheme"/>
            <p:cNvPicPr/>
            <p:nvPr/>
          </p:nvPicPr>
          <p:blipFill>
            <a:blip r:embed="rId2"/>
            <a:stretch/>
          </p:blipFill>
          <p:spPr>
            <a:xfrm>
              <a:off x="1778040" y="2895480"/>
              <a:ext cx="57657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"/>
            <p:cNvSpPr/>
            <p:nvPr/>
          </p:nvSpPr>
          <p:spPr>
            <a:xfrm>
              <a:off x="458280" y="4924440"/>
              <a:ext cx="8149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mplification and feedback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op flows into the arm characterized by lower resist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higher pressure gradi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ce the drop enters a channel it increases its resi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380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7180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16292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18148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838080" y="624852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703320" y="6248520"/>
            <a:ext cx="126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e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/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001-AllRight-80x192-cap400fps-plybck30fps.avi" descr=""/>
          <p:cNvPicPr/>
          <p:nvPr/>
        </p:nvPicPr>
        <p:blipFill>
          <a:blip r:embed="rId1"/>
          <a:stretch/>
        </p:blipFill>
        <p:spPr>
          <a:xfrm>
            <a:off x="8128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09" name="002-1Left1Right-80x192pxls-cap400fps-plybck30fps.avi" descr=""/>
          <p:cNvPicPr/>
          <p:nvPr/>
        </p:nvPicPr>
        <p:blipFill>
          <a:blip r:embed="rId2"/>
          <a:stretch/>
        </p:blipFill>
        <p:spPr>
          <a:xfrm>
            <a:off x="302256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0" name="003-1Left2Right-80x192pxls-cap400fps-plybck30fps.avi" descr=""/>
          <p:cNvPicPr/>
          <p:nvPr/>
        </p:nvPicPr>
        <p:blipFill>
          <a:blip r:embed="rId3"/>
          <a:stretch/>
        </p:blipFill>
        <p:spPr>
          <a:xfrm>
            <a:off x="5156280" y="3778200"/>
            <a:ext cx="965160" cy="2317680"/>
          </a:xfrm>
          <a:prstGeom prst="rect">
            <a:avLst/>
          </a:prstGeom>
          <a:ln w="0">
            <a:noFill/>
          </a:ln>
        </p:spPr>
      </p:pic>
      <p:pic>
        <p:nvPicPr>
          <p:cNvPr id="111" name="015-Complex-40x96-cap100fps-plybck30fps.avi" descr=""/>
          <p:cNvPicPr/>
          <p:nvPr/>
        </p:nvPicPr>
        <p:blipFill>
          <a:blip r:embed="rId4"/>
          <a:stretch/>
        </p:blipFill>
        <p:spPr>
          <a:xfrm>
            <a:off x="7137360" y="3780000"/>
            <a:ext cx="965160" cy="2314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e simplest network – a sing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one loop-long-withDrops-scheme"/>
          <p:cNvPicPr/>
          <p:nvPr/>
        </p:nvPicPr>
        <p:blipFill>
          <a:blip r:embed="rId5"/>
          <a:stretch/>
        </p:blipFill>
        <p:spPr>
          <a:xfrm>
            <a:off x="1749600" y="85248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. Rev. E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3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3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173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upa 21"/>
          <p:cNvGrpSpPr/>
          <p:nvPr/>
        </p:nvGrpSpPr>
        <p:grpSpPr>
          <a:xfrm>
            <a:off x="3809880" y="2590920"/>
            <a:ext cx="1432080" cy="1676160"/>
            <a:chOff x="3809880" y="2590920"/>
            <a:chExt cx="1432080" cy="1676160"/>
          </a:xfrm>
        </p:grpSpPr>
        <p:sp>
          <p:nvSpPr>
            <p:cNvPr id="116" name="Oval 2"/>
            <p:cNvSpPr/>
            <p:nvPr/>
          </p:nvSpPr>
          <p:spPr>
            <a:xfrm>
              <a:off x="3809880" y="2590920"/>
              <a:ext cx="1432080" cy="16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"/>
            <p:cNvSpPr/>
            <p:nvPr/>
          </p:nvSpPr>
          <p:spPr>
            <a:xfrm>
              <a:off x="3962160" y="2743200"/>
              <a:ext cx="11304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ear dynamics embedded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3353040" cy="64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241920" y="15238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, equivalen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full reversal from VM-shortened-fourTimes.avi" descr=""/>
          <p:cNvPicPr/>
          <p:nvPr/>
        </p:nvPicPr>
        <p:blipFill>
          <a:blip r:embed="rId2"/>
          <a:stretch/>
        </p:blipFill>
        <p:spPr>
          <a:xfrm>
            <a:off x="0" y="3164040"/>
            <a:ext cx="9144000" cy="47592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1"/>
          <p:cNvGrpSpPr/>
          <p:nvPr/>
        </p:nvGrpSpPr>
        <p:grpSpPr>
          <a:xfrm>
            <a:off x="1759320" y="4832280"/>
            <a:ext cx="4974840" cy="1796760"/>
            <a:chOff x="1759320" y="4832280"/>
            <a:chExt cx="4974840" cy="1796760"/>
          </a:xfrm>
        </p:grpSpPr>
        <p:grpSp>
          <p:nvGrpSpPr>
            <p:cNvPr id="123" name="Group 12"/>
            <p:cNvGrpSpPr/>
            <p:nvPr/>
          </p:nvGrpSpPr>
          <p:grpSpPr>
            <a:xfrm>
              <a:off x="3520800" y="5881680"/>
              <a:ext cx="2120040" cy="747360"/>
              <a:chOff x="3520800" y="5881680"/>
              <a:chExt cx="2120040" cy="747360"/>
            </a:xfrm>
          </p:grpSpPr>
          <p:sp>
            <p:nvSpPr>
              <p:cNvPr id="124" name="Oval 13"/>
              <p:cNvSpPr/>
              <p:nvPr/>
            </p:nvSpPr>
            <p:spPr>
              <a:xfrm flipH="1" flipV="1">
                <a:off x="4331160" y="5881680"/>
                <a:ext cx="498600" cy="747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4"/>
              <p:cNvSpPr/>
              <p:nvPr/>
            </p:nvSpPr>
            <p:spPr>
              <a:xfrm flipH="1">
                <a:off x="483012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5"/>
              <p:cNvSpPr/>
              <p:nvPr/>
            </p:nvSpPr>
            <p:spPr>
              <a:xfrm flipH="1">
                <a:off x="3520800" y="62553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1759320" y="4832280"/>
              <a:ext cx="4974840" cy="1602360"/>
              <a:chOff x="1759320" y="4832280"/>
              <a:chExt cx="4974840" cy="1602360"/>
            </a:xfrm>
          </p:grpSpPr>
          <p:grpSp>
            <p:nvGrpSpPr>
              <p:cNvPr id="128" name="Group 17"/>
              <p:cNvGrpSpPr/>
              <p:nvPr/>
            </p:nvGrpSpPr>
            <p:grpSpPr>
              <a:xfrm>
                <a:off x="3458880" y="4832280"/>
                <a:ext cx="2182680" cy="770040"/>
                <a:chOff x="3458880" y="4832280"/>
                <a:chExt cx="2182680" cy="770040"/>
              </a:xfrm>
            </p:grpSpPr>
            <p:sp>
              <p:nvSpPr>
                <p:cNvPr id="129" name="Oval 18"/>
                <p:cNvSpPr/>
                <p:nvPr/>
              </p:nvSpPr>
              <p:spPr>
                <a:xfrm>
                  <a:off x="4293360" y="4832280"/>
                  <a:ext cx="513360" cy="7700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9"/>
                <p:cNvSpPr/>
                <p:nvPr/>
              </p:nvSpPr>
              <p:spPr>
                <a:xfrm>
                  <a:off x="34588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0"/>
                <p:cNvSpPr/>
                <p:nvPr/>
              </p:nvSpPr>
              <p:spPr>
                <a:xfrm>
                  <a:off x="4807080" y="5217120"/>
                  <a:ext cx="83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21"/>
              <p:cNvSpPr/>
              <p:nvPr/>
            </p:nvSpPr>
            <p:spPr>
              <a:xfrm>
                <a:off x="2647440" y="50284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2"/>
              <p:cNvSpPr/>
              <p:nvPr/>
            </p:nvSpPr>
            <p:spPr>
              <a:xfrm>
                <a:off x="5692320" y="49924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3"/>
              <p:cNvSpPr/>
              <p:nvPr/>
            </p:nvSpPr>
            <p:spPr>
              <a:xfrm>
                <a:off x="1759320" y="6066360"/>
                <a:ext cx="174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??? period 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4"/>
              <p:cNvSpPr/>
              <p:nvPr/>
            </p:nvSpPr>
            <p:spPr>
              <a:xfrm>
                <a:off x="5692320" y="6032880"/>
                <a:ext cx="104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eriod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61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6860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62520" y="380880"/>
            <a:ext cx="4867200" cy="43592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upa 17"/>
          <p:cNvGrpSpPr/>
          <p:nvPr/>
        </p:nvGrpSpPr>
        <p:grpSpPr>
          <a:xfrm>
            <a:off x="4119840" y="3292560"/>
            <a:ext cx="4924800" cy="3004200"/>
            <a:chOff x="4119840" y="3292560"/>
            <a:chExt cx="4924800" cy="3004200"/>
          </a:xfrm>
        </p:grpSpPr>
        <p:grpSp>
          <p:nvGrpSpPr>
            <p:cNvPr id="139" name="Grupa 16"/>
            <p:cNvGrpSpPr/>
            <p:nvPr/>
          </p:nvGrpSpPr>
          <p:grpSpPr>
            <a:xfrm>
              <a:off x="4815360" y="3292560"/>
              <a:ext cx="3080880" cy="1099080"/>
              <a:chOff x="4815360" y="3292560"/>
              <a:chExt cx="3080880" cy="1099080"/>
            </a:xfrm>
          </p:grpSpPr>
          <p:sp>
            <p:nvSpPr>
              <p:cNvPr id="140" name="Elipsa 5"/>
              <p:cNvSpPr/>
              <p:nvPr/>
            </p:nvSpPr>
            <p:spPr>
              <a:xfrm>
                <a:off x="4815360" y="36896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Elipsa 6"/>
              <p:cNvSpPr/>
              <p:nvPr/>
            </p:nvSpPr>
            <p:spPr>
              <a:xfrm>
                <a:off x="7421760" y="41583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Elipsa 7"/>
              <p:cNvSpPr/>
              <p:nvPr/>
            </p:nvSpPr>
            <p:spPr>
              <a:xfrm>
                <a:off x="7662960" y="3778560"/>
                <a:ext cx="233280" cy="2318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Elipsa 8"/>
              <p:cNvSpPr/>
              <p:nvPr/>
            </p:nvSpPr>
            <p:spPr>
              <a:xfrm>
                <a:off x="7467840" y="361008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Elipsa 9"/>
              <p:cNvSpPr/>
              <p:nvPr/>
            </p:nvSpPr>
            <p:spPr>
              <a:xfrm>
                <a:off x="7209000" y="383724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Elipsa 10"/>
              <p:cNvSpPr/>
              <p:nvPr/>
            </p:nvSpPr>
            <p:spPr>
              <a:xfrm>
                <a:off x="7161480" y="347652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Elipsa 11"/>
              <p:cNvSpPr/>
              <p:nvPr/>
            </p:nvSpPr>
            <p:spPr>
              <a:xfrm>
                <a:off x="7299360" y="3292560"/>
                <a:ext cx="2314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Elipsa 12"/>
              <p:cNvSpPr/>
              <p:nvPr/>
            </p:nvSpPr>
            <p:spPr>
              <a:xfrm>
                <a:off x="6782040" y="3656160"/>
                <a:ext cx="233280" cy="2332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załka w prawo 13"/>
              <p:cNvSpPr/>
              <p:nvPr/>
            </p:nvSpPr>
            <p:spPr>
              <a:xfrm rot="10800000">
                <a:off x="5562360" y="3751200"/>
                <a:ext cx="1066680" cy="228600"/>
              </a:xfrm>
              <a:prstGeom prst="rightArrow">
                <a:avLst>
                  <a:gd name="adj1" fmla="val 50000"/>
                  <a:gd name="adj2" fmla="val 5001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14"/>
            <p:cNvSpPr/>
            <p:nvPr/>
          </p:nvSpPr>
          <p:spPr>
            <a:xfrm>
              <a:off x="4119840" y="5105520"/>
              <a:ext cx="492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“operation” of the system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s stabl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gainst small difference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the incoming sig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6624720" y="6545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one loop-long-withDrops-scheme"/>
          <p:cNvPicPr/>
          <p:nvPr/>
        </p:nvPicPr>
        <p:blipFill>
          <a:blip r:embed="rId1"/>
          <a:stretch/>
        </p:blipFill>
        <p:spPr>
          <a:xfrm>
            <a:off x="1600200" y="1019160"/>
            <a:ext cx="5765760" cy="2028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51360" y="3733920"/>
            <a:ext cx="84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mplification and feedback, 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linear events are isol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s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ng-range interactions are instantane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much faster than the flow proc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embedded in a linear, dissipativ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bubbles – a single nozz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03200" y="974880"/>
            <a:ext cx="4416480" cy="2342520"/>
            <a:chOff x="403200" y="974880"/>
            <a:chExt cx="4416480" cy="2342520"/>
          </a:xfrm>
        </p:grpSpPr>
        <p:pic>
          <p:nvPicPr>
            <p:cNvPr id="155" name="Picture 7" descr="3D view of FF"/>
            <p:cNvPicPr/>
            <p:nvPr/>
          </p:nvPicPr>
          <p:blipFill>
            <a:blip r:embed="rId1"/>
            <a:stretch/>
          </p:blipFill>
          <p:spPr>
            <a:xfrm>
              <a:off x="865080" y="1185480"/>
              <a:ext cx="395460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8"/>
            <p:cNvSpPr/>
            <p:nvPr/>
          </p:nvSpPr>
          <p:spPr>
            <a:xfrm>
              <a:off x="1037520" y="121896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alibri"/>
                </a:rPr>
                <a:t>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403200" y="150804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1309680" y="97488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flow-focusing-movie.avi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1"/>
          <p:cNvSpPr/>
          <p:nvPr/>
        </p:nvSpPr>
        <p:spPr>
          <a:xfrm>
            <a:off x="6477120" y="3276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. Phys. Lett. 85, 2649 (200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 flipV="1">
            <a:off x="6172200" y="3123720"/>
            <a:ext cx="1523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7659720" y="294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3819600" y="30481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= 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5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8:49:49Z</dcterms:created>
  <dc:creator>garst</dc:creator>
  <dc:description/>
  <dc:language>en-US</dc:language>
  <cp:lastModifiedBy>garst</cp:lastModifiedBy>
  <dcterms:modified xsi:type="dcterms:W3CDTF">2007-05-24T11:34:40Z</dcterms:modified>
  <cp:revision>35</cp:revision>
  <dc:subject/>
  <dc:title>Slajd 1</dc:title>
</cp:coreProperties>
</file>