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A3DE-42B4-4481-A770-E93B9F79A0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3199-437D-4B2F-923A-FFA2463FA5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77F0-2421-412F-84E3-1EB5117A9D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C1C-622C-4F07-9E07-34C39B41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53D-1064-409A-AE0D-9EAC605B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C20-B421-41D0-A143-BC65135B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1B7-F13C-4C72-B4C5-8B4AD4F9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1CE-F22C-4A19-9CD2-498BA47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2C6-F813-4F55-A425-5DBBC97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F3-2F5E-4DDD-8218-7D6DB8B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078-FA3C-4D39-9559-0E749937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0FF-760A-4667-87E3-8DCCDCE1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C86-455B-4FD7-84DA-7D1A15F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5D7-AB68-4791-80F5-5B90432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69A-685F-482A-98D4-72AE31F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AD2-4C11-4C34-BA41-FAA6B28B9B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7" descr="k-000001.ppm.pn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91" name="pole tekstowe 4"/>
          <p:cNvSpPr/>
          <p:nvPr/>
        </p:nvSpPr>
        <p:spPr>
          <a:xfrm>
            <a:off x="500400" y="106668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ier transform of 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n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wo different cas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ytuł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s for an asymmetric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38280" y="792000"/>
            <a:ext cx="7867440" cy="589608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4"/>
          <p:cNvSpPr/>
          <p:nvPr/>
        </p:nvSpPr>
        <p:spPr>
          <a:xfrm>
            <a:off x="2153520" y="2362320"/>
            <a:ext cx="162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1.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 (magnified frag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520" y="817560"/>
            <a:ext cx="78040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in the regular band pattern resists perturb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09680" y="2081160"/>
            <a:ext cx="8324640" cy="269568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880920" y="51814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ame distance in the movie is equal to the average period of the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network with three possible 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710240" cy="358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1914480" cy="133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195264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6"/>
          <p:cNvSpPr/>
          <p:nvPr/>
        </p:nvSpPr>
        <p:spPr>
          <a:xfrm>
            <a:off x="5051520" y="1752480"/>
            <a:ext cx="383832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ossible traj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az 1" descr="k-000014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04920" y="206280"/>
            <a:ext cx="85374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raz 1" descr="k-000016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5629320" cy="12700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20040" y="1066680"/>
            <a:ext cx="848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loop exhibits non-trivial behavior such as regular/chao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que stationary state does not exist (memorizing patte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ystems exhibit spontaneous oscillations of large ampl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with large number of bubbles are equivalent as long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flux of resistance (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f 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kept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there exist a continuous limit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sta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limit represents waves of flowing resistance density, instead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cret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k-000002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 assumptions of th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710240" cy="3586320"/>
          </a:xfrm>
          <a:prstGeom prst="rect">
            <a:avLst/>
          </a:prstGeom>
          <a:ln w="0">
            <a:noFill/>
          </a:ln>
        </p:spPr>
      </p:pic>
      <p:sp>
        <p:nvSpPr>
          <p:cNvPr id="53" name="pole tekstowe 18"/>
          <p:cNvSpPr/>
          <p:nvPr/>
        </p:nvSpPr>
        <p:spPr>
          <a:xfrm>
            <a:off x="469080" y="15238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circu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19"/>
          <p:cNvSpPr/>
          <p:nvPr/>
        </p:nvSpPr>
        <p:spPr>
          <a:xfrm>
            <a:off x="4724280" y="152388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s consist of nodes, channels, pumps and bubble-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s are 1-dimensional, nodes are 0-dimensional, as in a plana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are point charges of resistance, added to the constant resistance of the channel they occ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flow at the superficial speed of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is driven by a pressure drop applied to the inlet and outlet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09588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12"/>
          <p:cNvGrpSpPr/>
          <p:nvPr/>
        </p:nvGrpSpPr>
        <p:grpSpPr>
          <a:xfrm>
            <a:off x="1371600" y="1295280"/>
            <a:ext cx="5867280" cy="1752840"/>
            <a:chOff x="1371600" y="1295280"/>
            <a:chExt cx="5867280" cy="1752840"/>
          </a:xfrm>
        </p:grpSpPr>
        <p:sp>
          <p:nvSpPr>
            <p:cNvPr id="58" name="Prostokąt 5"/>
            <p:cNvSpPr/>
            <p:nvPr/>
          </p:nvSpPr>
          <p:spPr>
            <a:xfrm>
              <a:off x="1371600" y="1371240"/>
              <a:ext cx="609480" cy="167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6"/>
            <p:cNvSpPr/>
            <p:nvPr/>
          </p:nvSpPr>
          <p:spPr>
            <a:xfrm>
              <a:off x="6629400" y="1295280"/>
              <a:ext cx="609480" cy="17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7"/>
            <p:cNvSpPr/>
            <p:nvPr/>
          </p:nvSpPr>
          <p:spPr>
            <a:xfrm>
              <a:off x="1828800" y="2514600"/>
              <a:ext cx="50292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Strzałka w prawo 10"/>
          <p:cNvSpPr/>
          <p:nvPr/>
        </p:nvSpPr>
        <p:spPr>
          <a:xfrm>
            <a:off x="121932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załka w prawo 11"/>
          <p:cNvSpPr/>
          <p:nvPr/>
        </p:nvSpPr>
        <p:spPr>
          <a:xfrm>
            <a:off x="685800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361944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5562720" y="2743200"/>
            <a:ext cx="198108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1163520" y="4525920"/>
            <a:ext cx="35053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5"/>
          <a:stretch/>
        </p:blipFill>
        <p:spPr>
          <a:xfrm>
            <a:off x="1149480" y="5410080"/>
            <a:ext cx="297180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6"/>
          <a:stretch/>
        </p:blipFill>
        <p:spPr>
          <a:xfrm>
            <a:off x="1133640" y="5867280"/>
            <a:ext cx="29048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7"/>
          <a:stretch/>
        </p:blipFill>
        <p:spPr>
          <a:xfrm>
            <a:off x="5657760" y="4703760"/>
            <a:ext cx="295272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8"/>
          <a:stretch/>
        </p:blipFill>
        <p:spPr>
          <a:xfrm>
            <a:off x="5645160" y="5257800"/>
            <a:ext cx="2190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" y="1152360"/>
            <a:ext cx="8143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1028880"/>
            <a:ext cx="84009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search of a stationary flow – two channel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3280" y="838080"/>
            <a:ext cx="5743440" cy="33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600280" cy="44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530568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5"/>
          <p:cNvSpPr/>
          <p:nvPr/>
        </p:nvSpPr>
        <p:spPr>
          <a:xfrm>
            <a:off x="340200" y="5943600"/>
            <a:ext cx="832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ationary flow is not unique - different patterns can be repeated !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16"/>
          <p:cNvSpPr/>
          <p:nvPr/>
        </p:nvSpPr>
        <p:spPr>
          <a:xfrm>
            <a:off x="56847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rostokąt 17"/>
          <p:cNvSpPr/>
          <p:nvPr/>
        </p:nvSpPr>
        <p:spPr>
          <a:xfrm>
            <a:off x="4269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Nawias klamrowy otwierający 19"/>
          <p:cNvSpPr/>
          <p:nvPr/>
        </p:nvSpPr>
        <p:spPr>
          <a:xfrm>
            <a:off x="731880" y="208764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Nawias klamrowy zamykający 20"/>
          <p:cNvSpPr/>
          <p:nvPr/>
        </p:nvSpPr>
        <p:spPr>
          <a:xfrm>
            <a:off x="5532480" y="21034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21"/>
          <p:cNvSpPr/>
          <p:nvPr/>
        </p:nvSpPr>
        <p:spPr>
          <a:xfrm>
            <a:off x="59436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23"/>
          <p:cNvSpPr/>
          <p:nvPr/>
        </p:nvSpPr>
        <p:spPr>
          <a:xfrm>
            <a:off x="92160" y="2346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19040" y="2081160"/>
            <a:ext cx="8305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1:28Z</dcterms:created>
  <dc:creator>garst</dc:creator>
  <dc:description/>
  <dc:language>en-US</dc:language>
  <cp:lastModifiedBy>garst</cp:lastModifiedBy>
  <dcterms:modified xsi:type="dcterms:W3CDTF">2007-05-24T11:37:16Z</dcterms:modified>
  <cp:revision>60</cp:revision>
  <dc:subject/>
  <dc:title>Slajd 1</dc:title>
</cp:coreProperties>
</file>