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7.png" ContentType="image/png"/>
  <Override PartName="/ppt/media/image6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3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4.wmf" ContentType="image/x-wmf"/>
  <Override PartName="/ppt/media/image1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2.png" ContentType="image/png"/>
  <Override PartName="/ppt/media/image23.jpeg" ContentType="image/jpeg"/>
  <Override PartName="/ppt/media/image16.wmf" ContentType="image/x-wmf"/>
  <Override PartName="/ppt/media/image15.png" ContentType="image/png"/>
  <Override PartName="/ppt/media/image1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1DB7-ACC8-4B79-93AB-FA1527FAD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nL, compared to microliters for standard synth; order of magnitude+ reduction in sampl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of HA?  Why is this automation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AFA-09CD-4B04-806D-22EBCD96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CD0-FE10-4E7E-AD7E-7D4981AE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0FB-B923-4CCD-AE4B-7C8224ED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7C6-5BFE-4FE6-A240-0B42AC22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309-725E-4F11-BEF1-98AC9B45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612-C294-4333-976C-81E623C2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5D1-18D1-4030-978A-D650CE75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4C3-AA31-4BC3-8D5C-79AE42FA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742-B0DF-41E0-97BB-0FA7E152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6D0-AEDE-4841-BF57-EAF44F1D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9CF0-41F0-4245-9500-4FD59572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7C3D-BE12-4A2A-83AA-5C77C2AD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7FF5-D036-473E-8304-91ACA95E3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21.png"/><Relationship Id="rId7" Type="http://schemas.openxmlformats.org/officeDocument/2006/relationships/image" Target="../media/image6.jpe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21.png"/><Relationship Id="rId7" Type="http://schemas.openxmlformats.org/officeDocument/2006/relationships/image" Target="../media/image6.jpeg"/><Relationship Id="rId8" Type="http://schemas.openxmlformats.org/officeDocument/2006/relationships/image" Target="../media/image22.pn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21.png"/><Relationship Id="rId7" Type="http://schemas.openxmlformats.org/officeDocument/2006/relationships/image" Target="../media/image6.jpeg"/><Relationship Id="rId8" Type="http://schemas.openxmlformats.org/officeDocument/2006/relationships/image" Target="../media/image22.png"/><Relationship Id="rId9" Type="http://schemas.openxmlformats.org/officeDocument/2006/relationships/image" Target="../media/image7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21.png"/><Relationship Id="rId7" Type="http://schemas.openxmlformats.org/officeDocument/2006/relationships/image" Target="../media/image6.jpeg"/><Relationship Id="rId8" Type="http://schemas.openxmlformats.org/officeDocument/2006/relationships/image" Target="../media/image22.png"/><Relationship Id="rId9" Type="http://schemas.openxmlformats.org/officeDocument/2006/relationships/image" Target="../media/image6.jpe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2540160"/>
            <a:ext cx="2590560" cy="1879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15000" y="254016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9320" y="533160"/>
            <a:ext cx="8305560" cy="1066680"/>
          </a:xfrm>
          <a:prstGeom prst="rect">
            <a:avLst/>
          </a:prstGeom>
          <a:blipFill rotWithShape="0">
            <a:blip r:embed="rId3">
              <a:alphaModFix amt="10000"/>
            </a:blip>
            <a:tile tx="0" ty="0" sx="100000" sy="100000" algn="ctr"/>
          </a:blipFill>
          <a:ln w="25560">
            <a:solidFill>
              <a:srgbClr val="66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icrofluidics for Gene Fabr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791320" y="5842080"/>
            <a:ext cx="2590560" cy="711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5772240"/>
            <a:ext cx="3533760" cy="1191240"/>
          </a:xfrm>
          <a:prstGeom prst="rect">
            <a:avLst/>
          </a:prstGeom>
          <a:blipFill rotWithShape="0">
            <a:blip r:embed="rId5">
              <a:alphaModFix amt="10000"/>
            </a:blip>
            <a:srcRect/>
            <a:tile tx="0" ty="0" sx="100000" sy="100000" algn="ctr"/>
          </a:blip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eter Carr &amp; David K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T Media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152280" y="2498760"/>
            <a:ext cx="2819520" cy="1996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4572000"/>
            <a:ext cx="86868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362320"/>
            <a:ext cx="86868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aking it Fas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Cheap: </a:t>
            </a:r>
            <a:r>
              <a:rPr b="0" i="1" lang="en-US" sz="3600" spc="-1" strike="noStrike">
                <a:solidFill>
                  <a:srgbClr val="000000"/>
                </a:solidFill>
                <a:latin typeface="Trebuchet MS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rnessing the full potential of oligo micro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nute amounts of material: ampl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sembly: erratic behaviors of increasingly complex mi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nimizing expensive reagents (polymerases, error correc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igh throughput parallel sample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cess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676520" y="2209680"/>
            <a:ext cx="5600520" cy="2895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7238880" y="1219320"/>
            <a:ext cx="1905120" cy="5105160"/>
            <a:chOff x="7238880" y="1219320"/>
            <a:chExt cx="1905120" cy="5105160"/>
          </a:xfrm>
        </p:grpSpPr>
        <p:sp>
          <p:nvSpPr>
            <p:cNvPr id="836" name=""/>
            <p:cNvSpPr/>
            <p:nvPr/>
          </p:nvSpPr>
          <p:spPr>
            <a:xfrm>
              <a:off x="7286760" y="1219320"/>
              <a:ext cx="1857240" cy="5105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38880" y="2220840"/>
              <a:ext cx="76320" cy="2879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153000" y="3220920"/>
            <a:ext cx="1297800" cy="1537920"/>
            <a:chOff x="153000" y="3220920"/>
            <a:chExt cx="1297800" cy="1537920"/>
          </a:xfrm>
        </p:grpSpPr>
        <p:pic>
          <p:nvPicPr>
            <p:cNvPr id="839" name="" descr=""/>
            <p:cNvPicPr/>
            <p:nvPr/>
          </p:nvPicPr>
          <p:blipFill>
            <a:blip r:embed="rId1"/>
            <a:stretch/>
          </p:blipFill>
          <p:spPr>
            <a:xfrm>
              <a:off x="154080" y="3220920"/>
              <a:ext cx="12952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153000" y="4238640"/>
              <a:ext cx="129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user des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icrofluidic Gene Synthesis:</a:t>
            </a:r>
            <a:br>
              <a:rPr sz="3400"/>
            </a:br>
            <a:r>
              <a:rPr b="0" i="1" lang="en-US" sz="3200" spc="-1" strike="noStrike">
                <a:solidFill>
                  <a:srgbClr val="0099ff"/>
                </a:solidFill>
                <a:latin typeface="Trebuchet MS"/>
              </a:rPr>
              <a:t>Integration Roa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382760" y="2541600"/>
            <a:ext cx="1473120" cy="1649520"/>
            <a:chOff x="1382760" y="2541600"/>
            <a:chExt cx="1473120" cy="1649520"/>
          </a:xfrm>
        </p:grpSpPr>
        <p:pic>
          <p:nvPicPr>
            <p:cNvPr id="843" name="" descr=""/>
            <p:cNvPicPr/>
            <p:nvPr/>
          </p:nvPicPr>
          <p:blipFill>
            <a:blip r:embed="rId2"/>
            <a:stretch/>
          </p:blipFill>
          <p:spPr>
            <a:xfrm>
              <a:off x="18111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"/>
            <p:cNvSpPr/>
            <p:nvPr/>
          </p:nvSpPr>
          <p:spPr>
            <a:xfrm>
              <a:off x="168300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827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2670120" y="2895480"/>
            <a:ext cx="1668960" cy="2034720"/>
            <a:chOff x="2670120" y="2895480"/>
            <a:chExt cx="1668960" cy="2034720"/>
          </a:xfrm>
        </p:grpSpPr>
        <p:pic>
          <p:nvPicPr>
            <p:cNvPr id="847" name="" descr=""/>
            <p:cNvPicPr/>
            <p:nvPr/>
          </p:nvPicPr>
          <p:blipFill>
            <a:blip r:embed="rId3"/>
            <a:stretch/>
          </p:blipFill>
          <p:spPr>
            <a:xfrm>
              <a:off x="3108240" y="2895480"/>
              <a:ext cx="903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277164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67012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3946680" y="2657520"/>
            <a:ext cx="1535040" cy="1609560"/>
            <a:chOff x="3946680" y="2657520"/>
            <a:chExt cx="1535040" cy="1609560"/>
          </a:xfrm>
        </p:grpSpPr>
        <p:grpSp>
          <p:nvGrpSpPr>
            <p:cNvPr id="851" name=""/>
            <p:cNvGrpSpPr/>
            <p:nvPr/>
          </p:nvGrpSpPr>
          <p:grpSpPr>
            <a:xfrm>
              <a:off x="4384800" y="3200400"/>
              <a:ext cx="1096920" cy="1066680"/>
              <a:chOff x="4384800" y="3200400"/>
              <a:chExt cx="1096920" cy="1066680"/>
            </a:xfrm>
          </p:grpSpPr>
          <p:sp>
            <p:nvSpPr>
              <p:cNvPr id="852" name=""/>
              <p:cNvSpPr/>
              <p:nvPr/>
            </p:nvSpPr>
            <p:spPr>
              <a:xfrm>
                <a:off x="4384800" y="3200400"/>
                <a:ext cx="10969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"/>
              <p:cNvGrpSpPr/>
              <p:nvPr/>
            </p:nvGrpSpPr>
            <p:grpSpPr>
              <a:xfrm>
                <a:off x="4514760" y="3363840"/>
                <a:ext cx="838440" cy="739440"/>
                <a:chOff x="4514760" y="3363840"/>
                <a:chExt cx="838440" cy="73944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673880" y="3363840"/>
                  <a:ext cx="198360" cy="457200"/>
                </a:xfrm>
                <a:custGeom>
                  <a:avLst/>
                  <a:gdLst>
                    <a:gd name="textAreaLeft" fmla="*/ 22680 w 198360"/>
                    <a:gd name="textAreaRight" fmla="*/ 175680 w 198360"/>
                    <a:gd name="textAreaTop" fmla="*/ 22680 h 457200"/>
                    <a:gd name="textAreaBottom" fmla="*/ 434520 h 457200"/>
                  </a:gdLst>
                  <a:ahLst/>
                  <a:rect l="textAreaLeft" t="textAreaTop" r="textAreaRight" b="textAreaBottom"/>
                  <a:pathLst>
                    <a:path w="21600" h="49735">
                      <a:moveTo>
                        <a:pt x="8550" y="0"/>
                      </a:moveTo>
                      <a:arcTo wR="8550" hR="8550" stAng="16200000" swAng="-5400000"/>
                      <a:lnTo>
                        <a:pt x="0" y="41185"/>
                      </a:lnTo>
                      <a:arcTo wR="8550" hR="8550" stAng="10800000" swAng="-5400000"/>
                      <a:lnTo>
                        <a:pt x="13050" y="49735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514760" y="3451320"/>
                  <a:ext cx="838440" cy="651960"/>
                  <a:chOff x="4514760" y="3451320"/>
                  <a:chExt cx="838440" cy="651960"/>
                </a:xfrm>
              </p:grpSpPr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4518000" y="3567240"/>
                    <a:ext cx="835200" cy="107640"/>
                    <a:chOff x="4518000" y="3567240"/>
                    <a:chExt cx="835200" cy="107640"/>
                  </a:xfrm>
                </p:grpSpPr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4518360" y="35672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 flipH="1">
                      <a:off x="4518000" y="36748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4514760" y="3995640"/>
                    <a:ext cx="835200" cy="107640"/>
                    <a:chOff x="4514760" y="3995640"/>
                    <a:chExt cx="835200" cy="10764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4515120" y="39956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flipH="1">
                      <a:off x="4514760" y="41032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2" name=""/>
                  <p:cNvSpPr/>
                  <p:nvPr/>
                </p:nvSpPr>
                <p:spPr>
                  <a:xfrm>
                    <a:off x="4746960" y="3451320"/>
                    <a:ext cx="56880" cy="109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63" name=""/>
            <p:cNvSpPr/>
            <p:nvPr/>
          </p:nvSpPr>
          <p:spPr>
            <a:xfrm>
              <a:off x="4374000" y="265752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46680" y="3581280"/>
              <a:ext cx="502920" cy="304920"/>
            </a:xfrm>
            <a:prstGeom prst="rightArrow">
              <a:avLst>
                <a:gd name="adj1" fmla="val 50000"/>
                <a:gd name="adj2" fmla="val 412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5416560" y="3081240"/>
            <a:ext cx="1684080" cy="1834920"/>
            <a:chOff x="5416560" y="3081240"/>
            <a:chExt cx="1684080" cy="1834920"/>
          </a:xfrm>
        </p:grpSpPr>
        <p:pic>
          <p:nvPicPr>
            <p:cNvPr id="866" name="" descr=""/>
            <p:cNvPicPr/>
            <p:nvPr/>
          </p:nvPicPr>
          <p:blipFill>
            <a:blip r:embed="rId4"/>
            <a:srcRect l="0" t="2645" r="48869" b="65632"/>
            <a:stretch/>
          </p:blipFill>
          <p:spPr>
            <a:xfrm>
              <a:off x="5854680" y="3081240"/>
              <a:ext cx="1241280" cy="129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67" name=""/>
            <p:cNvSpPr/>
            <p:nvPr/>
          </p:nvSpPr>
          <p:spPr>
            <a:xfrm>
              <a:off x="5883480" y="4395960"/>
              <a:ext cx="121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rger 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4165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6922440" y="1554120"/>
            <a:ext cx="2131200" cy="1663560"/>
            <a:chOff x="6922440" y="1554120"/>
            <a:chExt cx="2131200" cy="1663560"/>
          </a:xfrm>
        </p:grpSpPr>
        <p:pic>
          <p:nvPicPr>
            <p:cNvPr id="870" name="" descr=""/>
            <p:cNvPicPr/>
            <p:nvPr/>
          </p:nvPicPr>
          <p:blipFill>
            <a:blip r:embed="rId5"/>
            <a:stretch/>
          </p:blipFill>
          <p:spPr>
            <a:xfrm>
              <a:off x="7542360" y="1554120"/>
              <a:ext cx="151128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>
              <a:off x="7923240" y="27576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18328200">
              <a:off x="6886440" y="266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7031160" y="3311640"/>
            <a:ext cx="2036520" cy="1033920"/>
            <a:chOff x="7031160" y="3311640"/>
            <a:chExt cx="2036520" cy="1033920"/>
          </a:xfrm>
        </p:grpSpPr>
        <p:pic>
          <p:nvPicPr>
            <p:cNvPr id="874" name="" descr=""/>
            <p:cNvPicPr/>
            <p:nvPr/>
          </p:nvPicPr>
          <p:blipFill>
            <a:blip r:embed="rId6"/>
            <a:srcRect l="32866" t="0" r="8392" b="52606"/>
            <a:stretch/>
          </p:blipFill>
          <p:spPr>
            <a:xfrm>
              <a:off x="7467480" y="3311640"/>
              <a:ext cx="1600200" cy="72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75" name=""/>
            <p:cNvSpPr/>
            <p:nvPr/>
          </p:nvSpPr>
          <p:spPr>
            <a:xfrm>
              <a:off x="7591680" y="403848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equence/Q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0311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6913080" y="4235040"/>
            <a:ext cx="2010240" cy="2015640"/>
            <a:chOff x="6913080" y="4235040"/>
            <a:chExt cx="2010240" cy="2015640"/>
          </a:xfrm>
        </p:grpSpPr>
        <p:grpSp>
          <p:nvGrpSpPr>
            <p:cNvPr id="878" name=""/>
            <p:cNvGrpSpPr/>
            <p:nvPr/>
          </p:nvGrpSpPr>
          <p:grpSpPr>
            <a:xfrm>
              <a:off x="7489800" y="4454640"/>
              <a:ext cx="1433520" cy="1796040"/>
              <a:chOff x="7489800" y="4454640"/>
              <a:chExt cx="1433520" cy="1796040"/>
            </a:xfrm>
          </p:grpSpPr>
          <p:pic>
            <p:nvPicPr>
              <p:cNvPr id="8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42080" y="4454640"/>
                <a:ext cx="11289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489800" y="5943600"/>
                <a:ext cx="14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express/ass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 flipV="1" rot="3271800">
              <a:off x="6877080" y="4480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58640" y="6445080"/>
            <a:ext cx="8141400" cy="337320"/>
            <a:chOff x="458640" y="6445080"/>
            <a:chExt cx="8141400" cy="337320"/>
          </a:xfrm>
        </p:grpSpPr>
        <p:sp>
          <p:nvSpPr>
            <p:cNvPr id="883" name=""/>
            <p:cNvSpPr/>
            <p:nvPr/>
          </p:nvSpPr>
          <p:spPr>
            <a:xfrm>
              <a:off x="458640" y="64450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70280" y="644508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MOLECU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927200" y="64612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26540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42304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8">
              <a:alphaModFix amt="6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2743200" y="2666880"/>
            <a:ext cx="1600200" cy="2438640"/>
            <a:chOff x="2743200" y="2666880"/>
            <a:chExt cx="1600200" cy="2438640"/>
          </a:xfrm>
        </p:grpSpPr>
        <p:sp>
          <p:nvSpPr>
            <p:cNvPr id="890" name=""/>
            <p:cNvSpPr/>
            <p:nvPr/>
          </p:nvSpPr>
          <p:spPr>
            <a:xfrm>
              <a:off x="2743200" y="2666880"/>
              <a:ext cx="1600200" cy="2438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1" name="" descr=""/>
            <p:cNvPicPr/>
            <p:nvPr/>
          </p:nvPicPr>
          <p:blipFill>
            <a:blip r:embed="rId9"/>
            <a:stretch/>
          </p:blipFill>
          <p:spPr>
            <a:xfrm>
              <a:off x="3105000" y="2895480"/>
              <a:ext cx="90360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276840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5410440" cy="48355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3200400" y="1447920"/>
            <a:ext cx="0" cy="464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09880" y="6060960"/>
            <a:ext cx="4419720" cy="32220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 parallel 500-nL reac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arallel microfluidic gene synthes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49200" y="4038480"/>
            <a:ext cx="2773080" cy="2057400"/>
            <a:chOff x="349200" y="4038480"/>
            <a:chExt cx="2773080" cy="2057400"/>
          </a:xfrm>
        </p:grpSpPr>
        <p:sp>
          <p:nvSpPr>
            <p:cNvPr id="898" name=""/>
            <p:cNvSpPr/>
            <p:nvPr/>
          </p:nvSpPr>
          <p:spPr>
            <a:xfrm>
              <a:off x="2408040" y="5089680"/>
              <a:ext cx="714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YTOP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lyne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349200" y="4038480"/>
              <a:ext cx="2133360" cy="533520"/>
              <a:chOff x="349200" y="4038480"/>
              <a:chExt cx="2133360" cy="533520"/>
            </a:xfrm>
          </p:grpSpPr>
          <p:sp>
            <p:nvSpPr>
              <p:cNvPr id="900" name=""/>
              <p:cNvSpPr/>
              <p:nvPr/>
            </p:nvSpPr>
            <p:spPr>
              <a:xfrm>
                <a:off x="349200" y="4038480"/>
                <a:ext cx="2133360" cy="533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902160" y="4419720"/>
                <a:ext cx="78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613520" y="4038480"/>
                <a:ext cx="784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349200" y="4572000"/>
              <a:ext cx="2133720" cy="228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81000" y="4648320"/>
              <a:ext cx="631800" cy="30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9200" y="5867280"/>
              <a:ext cx="2133720" cy="76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9200" y="5943600"/>
              <a:ext cx="21337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9200" y="5791320"/>
              <a:ext cx="2133720" cy="75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9200" y="4800600"/>
              <a:ext cx="2133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200" y="4800600"/>
              <a:ext cx="213372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35000" y="4724280"/>
              <a:ext cx="55584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501480" y="5257800"/>
              <a:ext cx="1828800" cy="228600"/>
              <a:chOff x="501480" y="5257800"/>
              <a:chExt cx="1828800" cy="228600"/>
            </a:xfrm>
          </p:grpSpPr>
          <p:sp>
            <p:nvSpPr>
              <p:cNvPr id="912" name=""/>
              <p:cNvSpPr/>
              <p:nvPr/>
            </p:nvSpPr>
            <p:spPr>
              <a:xfrm>
                <a:off x="50148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0640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11132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41588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72080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02572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33028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 flipH="1" flipV="1">
              <a:off x="2329920" y="487656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2329920" y="55627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304920" y="1279440"/>
            <a:ext cx="2816280" cy="2225880"/>
            <a:chOff x="304920" y="1279440"/>
            <a:chExt cx="2816280" cy="2225880"/>
          </a:xfrm>
        </p:grpSpPr>
        <p:grpSp>
          <p:nvGrpSpPr>
            <p:cNvPr id="922" name=""/>
            <p:cNvGrpSpPr/>
            <p:nvPr/>
          </p:nvGrpSpPr>
          <p:grpSpPr>
            <a:xfrm>
              <a:off x="369720" y="1828800"/>
              <a:ext cx="2133360" cy="533520"/>
              <a:chOff x="369720" y="1828800"/>
              <a:chExt cx="2133360" cy="533520"/>
            </a:xfrm>
          </p:grpSpPr>
          <p:sp>
            <p:nvSpPr>
              <p:cNvPr id="923" name=""/>
              <p:cNvSpPr/>
              <p:nvPr/>
            </p:nvSpPr>
            <p:spPr>
              <a:xfrm>
                <a:off x="369720" y="1828800"/>
                <a:ext cx="2133360" cy="533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922680" y="2210040"/>
                <a:ext cx="78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34040" y="1828800"/>
                <a:ext cx="784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369720" y="2590920"/>
              <a:ext cx="2133360" cy="380880"/>
              <a:chOff x="369720" y="2590920"/>
              <a:chExt cx="2133360" cy="380880"/>
            </a:xfrm>
          </p:grpSpPr>
          <p:sp>
            <p:nvSpPr>
              <p:cNvPr id="927" name=""/>
              <p:cNvSpPr/>
              <p:nvPr/>
            </p:nvSpPr>
            <p:spPr>
              <a:xfrm>
                <a:off x="369720" y="259092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001520" y="2667240"/>
                <a:ext cx="632160" cy="304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369720" y="3048120"/>
              <a:ext cx="2133720" cy="759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69720" y="3352680"/>
              <a:ext cx="2133720" cy="152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522360" y="2362320"/>
              <a:ext cx="1828800" cy="228600"/>
              <a:chOff x="522360" y="2362320"/>
              <a:chExt cx="1828800" cy="228600"/>
            </a:xfrm>
          </p:grpSpPr>
          <p:sp>
            <p:nvSpPr>
              <p:cNvPr id="932" name=""/>
              <p:cNvSpPr/>
              <p:nvPr/>
            </p:nvSpPr>
            <p:spPr>
              <a:xfrm>
                <a:off x="52236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2728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13220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43676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4168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04660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35116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522360" y="2819520"/>
              <a:ext cx="1828800" cy="228600"/>
              <a:chOff x="522360" y="2819520"/>
              <a:chExt cx="1828800" cy="228600"/>
            </a:xfrm>
          </p:grpSpPr>
          <p:sp>
            <p:nvSpPr>
              <p:cNvPr id="940" name=""/>
              <p:cNvSpPr/>
              <p:nvPr/>
            </p:nvSpPr>
            <p:spPr>
              <a:xfrm>
                <a:off x="52236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82728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13220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43676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74168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04660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35116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522360" y="3124080"/>
              <a:ext cx="1828800" cy="228600"/>
              <a:chOff x="522360" y="3124080"/>
              <a:chExt cx="1828800" cy="228600"/>
            </a:xfrm>
          </p:grpSpPr>
          <p:sp>
            <p:nvSpPr>
              <p:cNvPr id="948" name=""/>
              <p:cNvSpPr/>
              <p:nvPr/>
            </p:nvSpPr>
            <p:spPr>
              <a:xfrm>
                <a:off x="52236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2728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13220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43676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74168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04660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35116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"/>
            <p:cNvSpPr/>
            <p:nvPr/>
          </p:nvSpPr>
          <p:spPr>
            <a:xfrm>
              <a:off x="2505960" y="196524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DM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05960" y="259092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DM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505960" y="297180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DMS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920" y="1279440"/>
              <a:ext cx="2438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Fabric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2057400" cy="183996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>
            <a:off x="2879640" y="6507000"/>
            <a:ext cx="29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g et al. Nucleic Acids Research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arallel microfluidic gene synthes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3546360" y="1262160"/>
          <a:ext cx="4149720" cy="2014560"/>
        </p:xfrm>
        <a:graphic>
          <a:graphicData uri="http://schemas.openxmlformats.org/drawingml/2006/table">
            <a:tbl>
              <a:tblPr/>
              <a:tblGrid>
                <a:gridCol w="824040"/>
                <a:gridCol w="547560"/>
                <a:gridCol w="685800"/>
                <a:gridCol w="1067040"/>
                <a:gridCol w="102528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size (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olig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uc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 size (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plifying Primer sizes (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 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j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 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s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 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128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 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F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 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3" name=""/>
          <p:cNvGrpSpPr/>
          <p:nvPr/>
        </p:nvGrpSpPr>
        <p:grpSpPr>
          <a:xfrm>
            <a:off x="228600" y="3303720"/>
            <a:ext cx="8534520" cy="3097080"/>
            <a:chOff x="228600" y="3303720"/>
            <a:chExt cx="8534520" cy="3097080"/>
          </a:xfrm>
        </p:grpSpPr>
        <p:pic>
          <p:nvPicPr>
            <p:cNvPr id="964" name="" descr=""/>
            <p:cNvPicPr/>
            <p:nvPr/>
          </p:nvPicPr>
          <p:blipFill>
            <a:blip r:embed="rId2"/>
            <a:srcRect l="41335" t="0" r="0" b="0"/>
            <a:stretch/>
          </p:blipFill>
          <p:spPr>
            <a:xfrm>
              <a:off x="6438960" y="3303720"/>
              <a:ext cx="232416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3"/>
            <a:stretch/>
          </p:blipFill>
          <p:spPr>
            <a:xfrm>
              <a:off x="228600" y="3863880"/>
              <a:ext cx="2819520" cy="23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" descr=""/>
            <p:cNvPicPr/>
            <p:nvPr/>
          </p:nvPicPr>
          <p:blipFill>
            <a:blip r:embed="rId4"/>
            <a:stretch/>
          </p:blipFill>
          <p:spPr>
            <a:xfrm>
              <a:off x="3095640" y="3884760"/>
              <a:ext cx="3152880" cy="2363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7" name=""/>
          <p:cNvGraphicFramePr/>
          <p:nvPr/>
        </p:nvGraphicFramePr>
        <p:xfrm>
          <a:off x="533520" y="2013120"/>
          <a:ext cx="4419360" cy="4082760"/>
        </p:xfrm>
        <a:graphic>
          <a:graphicData uri="http://schemas.openxmlformats.org/drawingml/2006/table">
            <a:tbl>
              <a:tblPr/>
              <a:tblGrid>
                <a:gridCol w="1195200"/>
                <a:gridCol w="1197000"/>
                <a:gridCol w="1036800"/>
                <a:gridCol w="990360"/>
              </a:tblGrid>
              <a:tr h="641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rro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icrofluid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CR tu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ingle-b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ultiple-b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/C to A/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/T to G/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/C to C/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/C to T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/T to C/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/T to T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otal Error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ses Sequenced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3,3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rror Rate (per base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0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0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"/>
          <p:cNvSpPr/>
          <p:nvPr/>
        </p:nvSpPr>
        <p:spPr>
          <a:xfrm>
            <a:off x="5410080" y="4648320"/>
            <a:ext cx="3089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verified identity of each gene by sequenc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410080" y="5408640"/>
            <a:ext cx="3521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12.5% of clones were error-free in agreement with theoretical predic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238720" y="1143000"/>
            <a:ext cx="3828960" cy="2923920"/>
            <a:chOff x="5238720" y="1143000"/>
            <a:chExt cx="3828960" cy="2923920"/>
          </a:xfrm>
        </p:grpSpPr>
        <p:pic>
          <p:nvPicPr>
            <p:cNvPr id="971" name="" descr=""/>
            <p:cNvPicPr/>
            <p:nvPr/>
          </p:nvPicPr>
          <p:blipFill>
            <a:blip r:embed="rId1"/>
            <a:srcRect l="48857" t="0" r="0" b="0"/>
            <a:stretch/>
          </p:blipFill>
          <p:spPr>
            <a:xfrm>
              <a:off x="5238720" y="1143000"/>
              <a:ext cx="3828960" cy="29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6684840" y="1552320"/>
              <a:ext cx="62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in 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468920" y="2009520"/>
              <a:ext cx="69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in 1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925760" y="2771640"/>
              <a:ext cx="73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in 10,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2879640" y="6507000"/>
            <a:ext cx="29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g et al. Nucleic Acids Research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75360" y="4038480"/>
            <a:ext cx="245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r et al. Nucleic Acids Research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608840" y="1376280"/>
            <a:ext cx="21193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ing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arallel microfluidic gene synthes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1676520" y="2209680"/>
            <a:ext cx="5600520" cy="2895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7238880" y="1219320"/>
            <a:ext cx="1905120" cy="5105160"/>
            <a:chOff x="7238880" y="1219320"/>
            <a:chExt cx="1905120" cy="5105160"/>
          </a:xfrm>
        </p:grpSpPr>
        <p:sp>
          <p:nvSpPr>
            <p:cNvPr id="981" name=""/>
            <p:cNvSpPr/>
            <p:nvPr/>
          </p:nvSpPr>
          <p:spPr>
            <a:xfrm>
              <a:off x="7286760" y="1219320"/>
              <a:ext cx="1857240" cy="5105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238880" y="2220840"/>
              <a:ext cx="76320" cy="2879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53000" y="3220920"/>
            <a:ext cx="1297800" cy="1537920"/>
            <a:chOff x="153000" y="3220920"/>
            <a:chExt cx="1297800" cy="1537920"/>
          </a:xfrm>
        </p:grpSpPr>
        <p:pic>
          <p:nvPicPr>
            <p:cNvPr id="984" name="" descr=""/>
            <p:cNvPicPr/>
            <p:nvPr/>
          </p:nvPicPr>
          <p:blipFill>
            <a:blip r:embed="rId1"/>
            <a:stretch/>
          </p:blipFill>
          <p:spPr>
            <a:xfrm>
              <a:off x="154080" y="3220920"/>
              <a:ext cx="12952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>
              <a:off x="153000" y="4238640"/>
              <a:ext cx="129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user des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icrofluidic Gene Synthesis:</a:t>
            </a:r>
            <a:br>
              <a:rPr sz="3400"/>
            </a:br>
            <a:r>
              <a:rPr b="0" i="1" lang="en-US" sz="3200" spc="-1" strike="noStrike">
                <a:solidFill>
                  <a:srgbClr val="0099ff"/>
                </a:solidFill>
                <a:latin typeface="Trebuchet MS"/>
              </a:rPr>
              <a:t>Integration Roa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1382760" y="2541600"/>
            <a:ext cx="1473120" cy="1649520"/>
            <a:chOff x="1382760" y="2541600"/>
            <a:chExt cx="1473120" cy="1649520"/>
          </a:xfrm>
        </p:grpSpPr>
        <p:pic>
          <p:nvPicPr>
            <p:cNvPr id="988" name="" descr=""/>
            <p:cNvPicPr/>
            <p:nvPr/>
          </p:nvPicPr>
          <p:blipFill>
            <a:blip r:embed="rId2"/>
            <a:stretch/>
          </p:blipFill>
          <p:spPr>
            <a:xfrm>
              <a:off x="18111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168300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3827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2670120" y="2895480"/>
            <a:ext cx="1668960" cy="2034720"/>
            <a:chOff x="2670120" y="2895480"/>
            <a:chExt cx="1668960" cy="2034720"/>
          </a:xfrm>
        </p:grpSpPr>
        <p:pic>
          <p:nvPicPr>
            <p:cNvPr id="992" name="" descr=""/>
            <p:cNvPicPr/>
            <p:nvPr/>
          </p:nvPicPr>
          <p:blipFill>
            <a:blip r:embed="rId3"/>
            <a:stretch/>
          </p:blipFill>
          <p:spPr>
            <a:xfrm>
              <a:off x="3108240" y="2895480"/>
              <a:ext cx="903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277164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67012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3946680" y="2657520"/>
            <a:ext cx="1535040" cy="1609560"/>
            <a:chOff x="3946680" y="2657520"/>
            <a:chExt cx="1535040" cy="1609560"/>
          </a:xfrm>
        </p:grpSpPr>
        <p:grpSp>
          <p:nvGrpSpPr>
            <p:cNvPr id="996" name=""/>
            <p:cNvGrpSpPr/>
            <p:nvPr/>
          </p:nvGrpSpPr>
          <p:grpSpPr>
            <a:xfrm>
              <a:off x="4384800" y="3200400"/>
              <a:ext cx="1096920" cy="1066680"/>
              <a:chOff x="4384800" y="3200400"/>
              <a:chExt cx="1096920" cy="1066680"/>
            </a:xfrm>
          </p:grpSpPr>
          <p:sp>
            <p:nvSpPr>
              <p:cNvPr id="997" name=""/>
              <p:cNvSpPr/>
              <p:nvPr/>
            </p:nvSpPr>
            <p:spPr>
              <a:xfrm>
                <a:off x="4384800" y="3200400"/>
                <a:ext cx="10969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8" name=""/>
              <p:cNvGrpSpPr/>
              <p:nvPr/>
            </p:nvGrpSpPr>
            <p:grpSpPr>
              <a:xfrm>
                <a:off x="4514760" y="3363840"/>
                <a:ext cx="838440" cy="739440"/>
                <a:chOff x="4514760" y="3363840"/>
                <a:chExt cx="838440" cy="73944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4673880" y="3363840"/>
                  <a:ext cx="198360" cy="457200"/>
                </a:xfrm>
                <a:custGeom>
                  <a:avLst/>
                  <a:gdLst>
                    <a:gd name="textAreaLeft" fmla="*/ 22680 w 198360"/>
                    <a:gd name="textAreaRight" fmla="*/ 175680 w 198360"/>
                    <a:gd name="textAreaTop" fmla="*/ 22680 h 457200"/>
                    <a:gd name="textAreaBottom" fmla="*/ 434520 h 457200"/>
                  </a:gdLst>
                  <a:ahLst/>
                  <a:rect l="textAreaLeft" t="textAreaTop" r="textAreaRight" b="textAreaBottom"/>
                  <a:pathLst>
                    <a:path w="21600" h="49735">
                      <a:moveTo>
                        <a:pt x="8550" y="0"/>
                      </a:moveTo>
                      <a:arcTo wR="8550" hR="8550" stAng="16200000" swAng="-5400000"/>
                      <a:lnTo>
                        <a:pt x="0" y="41185"/>
                      </a:lnTo>
                      <a:arcTo wR="8550" hR="8550" stAng="10800000" swAng="-5400000"/>
                      <a:lnTo>
                        <a:pt x="13050" y="49735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0" name=""/>
                <p:cNvGrpSpPr/>
                <p:nvPr/>
              </p:nvGrpSpPr>
              <p:grpSpPr>
                <a:xfrm>
                  <a:off x="4514760" y="3451320"/>
                  <a:ext cx="838440" cy="651960"/>
                  <a:chOff x="4514760" y="3451320"/>
                  <a:chExt cx="838440" cy="651960"/>
                </a:xfrm>
              </p:grpSpPr>
              <p:grpSp>
                <p:nvGrpSpPr>
                  <p:cNvPr id="1001" name=""/>
                  <p:cNvGrpSpPr/>
                  <p:nvPr/>
                </p:nvGrpSpPr>
                <p:grpSpPr>
                  <a:xfrm>
                    <a:off x="4518000" y="3567240"/>
                    <a:ext cx="835200" cy="107640"/>
                    <a:chOff x="4518000" y="3567240"/>
                    <a:chExt cx="835200" cy="107640"/>
                  </a:xfrm>
                </p:grpSpPr>
                <p:sp>
                  <p:nvSpPr>
                    <p:cNvPr id="1002" name=""/>
                    <p:cNvSpPr/>
                    <p:nvPr/>
                  </p:nvSpPr>
                  <p:spPr>
                    <a:xfrm>
                      <a:off x="4518360" y="35672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 flipH="1">
                      <a:off x="4518000" y="36748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4514760" y="3995640"/>
                    <a:ext cx="835200" cy="107640"/>
                    <a:chOff x="4514760" y="3995640"/>
                    <a:chExt cx="835200" cy="107640"/>
                  </a:xfrm>
                </p:grpSpPr>
                <p:sp>
                  <p:nvSpPr>
                    <p:cNvPr id="1005" name=""/>
                    <p:cNvSpPr/>
                    <p:nvPr/>
                  </p:nvSpPr>
                  <p:spPr>
                    <a:xfrm>
                      <a:off x="4515120" y="39956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 flipH="1">
                      <a:off x="4514760" y="41032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07" name=""/>
                  <p:cNvSpPr/>
                  <p:nvPr/>
                </p:nvSpPr>
                <p:spPr>
                  <a:xfrm>
                    <a:off x="4746960" y="3451320"/>
                    <a:ext cx="56880" cy="109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08" name=""/>
            <p:cNvSpPr/>
            <p:nvPr/>
          </p:nvSpPr>
          <p:spPr>
            <a:xfrm>
              <a:off x="4374000" y="265752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46680" y="3581280"/>
              <a:ext cx="502920" cy="304920"/>
            </a:xfrm>
            <a:prstGeom prst="rightArrow">
              <a:avLst>
                <a:gd name="adj1" fmla="val 50000"/>
                <a:gd name="adj2" fmla="val 412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5416560" y="3081240"/>
            <a:ext cx="1684080" cy="1834920"/>
            <a:chOff x="5416560" y="3081240"/>
            <a:chExt cx="1684080" cy="1834920"/>
          </a:xfrm>
        </p:grpSpPr>
        <p:pic>
          <p:nvPicPr>
            <p:cNvPr id="1011" name="" descr=""/>
            <p:cNvPicPr/>
            <p:nvPr/>
          </p:nvPicPr>
          <p:blipFill>
            <a:blip r:embed="rId4"/>
            <a:srcRect l="0" t="2645" r="48869" b="65632"/>
            <a:stretch/>
          </p:blipFill>
          <p:spPr>
            <a:xfrm>
              <a:off x="5854680" y="3081240"/>
              <a:ext cx="1241280" cy="129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12" name=""/>
            <p:cNvSpPr/>
            <p:nvPr/>
          </p:nvSpPr>
          <p:spPr>
            <a:xfrm>
              <a:off x="5883480" y="4395960"/>
              <a:ext cx="121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rger 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165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6922440" y="1554120"/>
            <a:ext cx="2131200" cy="1663560"/>
            <a:chOff x="6922440" y="1554120"/>
            <a:chExt cx="2131200" cy="1663560"/>
          </a:xfrm>
        </p:grpSpPr>
        <p:pic>
          <p:nvPicPr>
            <p:cNvPr id="1015" name="" descr=""/>
            <p:cNvPicPr/>
            <p:nvPr/>
          </p:nvPicPr>
          <p:blipFill>
            <a:blip r:embed="rId5"/>
            <a:stretch/>
          </p:blipFill>
          <p:spPr>
            <a:xfrm>
              <a:off x="7542360" y="1554120"/>
              <a:ext cx="151128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7923240" y="27576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18328200">
              <a:off x="6886440" y="266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31160" y="3311640"/>
            <a:ext cx="2036520" cy="1033920"/>
            <a:chOff x="7031160" y="3311640"/>
            <a:chExt cx="2036520" cy="1033920"/>
          </a:xfrm>
        </p:grpSpPr>
        <p:pic>
          <p:nvPicPr>
            <p:cNvPr id="1019" name="" descr=""/>
            <p:cNvPicPr/>
            <p:nvPr/>
          </p:nvPicPr>
          <p:blipFill>
            <a:blip r:embed="rId6"/>
            <a:srcRect l="32866" t="0" r="8392" b="52606"/>
            <a:stretch/>
          </p:blipFill>
          <p:spPr>
            <a:xfrm>
              <a:off x="7467480" y="3311640"/>
              <a:ext cx="1600200" cy="72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20" name=""/>
            <p:cNvSpPr/>
            <p:nvPr/>
          </p:nvSpPr>
          <p:spPr>
            <a:xfrm>
              <a:off x="7591680" y="403848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equence/Q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0311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6913080" y="4235040"/>
            <a:ext cx="2010240" cy="2015640"/>
            <a:chOff x="6913080" y="4235040"/>
            <a:chExt cx="2010240" cy="2015640"/>
          </a:xfrm>
        </p:grpSpPr>
        <p:grpSp>
          <p:nvGrpSpPr>
            <p:cNvPr id="1023" name=""/>
            <p:cNvGrpSpPr/>
            <p:nvPr/>
          </p:nvGrpSpPr>
          <p:grpSpPr>
            <a:xfrm>
              <a:off x="7489800" y="4454640"/>
              <a:ext cx="1433520" cy="1796040"/>
              <a:chOff x="7489800" y="4454640"/>
              <a:chExt cx="1433520" cy="1796040"/>
            </a:xfrm>
          </p:grpSpPr>
          <p:pic>
            <p:nvPicPr>
              <p:cNvPr id="102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42080" y="4454640"/>
                <a:ext cx="11289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"/>
              <p:cNvSpPr/>
              <p:nvPr/>
            </p:nvSpPr>
            <p:spPr>
              <a:xfrm>
                <a:off x="7489800" y="5943600"/>
                <a:ext cx="14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express/ass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 flipV="1" rot="3271800">
              <a:off x="6877080" y="4480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458640" y="6445080"/>
            <a:ext cx="8141400" cy="337320"/>
            <a:chOff x="458640" y="6445080"/>
            <a:chExt cx="8141400" cy="337320"/>
          </a:xfrm>
        </p:grpSpPr>
        <p:sp>
          <p:nvSpPr>
            <p:cNvPr id="1028" name=""/>
            <p:cNvSpPr/>
            <p:nvPr/>
          </p:nvSpPr>
          <p:spPr>
            <a:xfrm>
              <a:off x="458640" y="64450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770280" y="644508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MOLECU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927200" y="64612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26540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42304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8">
              <a:alphaModFix amt="6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1600200" y="2514600"/>
            <a:ext cx="2743200" cy="2438280"/>
            <a:chOff x="1600200" y="2514600"/>
            <a:chExt cx="2743200" cy="2438280"/>
          </a:xfrm>
        </p:grpSpPr>
        <p:sp>
          <p:nvSpPr>
            <p:cNvPr id="1035" name=""/>
            <p:cNvSpPr/>
            <p:nvPr/>
          </p:nvSpPr>
          <p:spPr>
            <a:xfrm>
              <a:off x="1600200" y="2514600"/>
              <a:ext cx="2743200" cy="243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6" name="" descr=""/>
            <p:cNvPicPr/>
            <p:nvPr/>
          </p:nvPicPr>
          <p:blipFill>
            <a:blip r:embed="rId9"/>
            <a:stretch/>
          </p:blipFill>
          <p:spPr>
            <a:xfrm>
              <a:off x="180828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"/>
            <p:cNvSpPr/>
            <p:nvPr/>
          </p:nvSpPr>
          <p:spPr>
            <a:xfrm>
              <a:off x="167976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8" name="" descr=""/>
            <p:cNvPicPr/>
            <p:nvPr/>
          </p:nvPicPr>
          <p:blipFill>
            <a:blip r:embed="rId10"/>
            <a:stretch/>
          </p:blipFill>
          <p:spPr>
            <a:xfrm>
              <a:off x="3105000" y="2895480"/>
              <a:ext cx="90360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9" name=""/>
            <p:cNvSpPr/>
            <p:nvPr/>
          </p:nvSpPr>
          <p:spPr>
            <a:xfrm>
              <a:off x="276840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2971800" y="26859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971800" y="26859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457200" y="1162080"/>
            <a:ext cx="3124080" cy="226692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>
            <a:off x="3886200" y="1143000"/>
            <a:ext cx="489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erform synthesis without pre-assembly ampl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nables increased utilization of high-density DNA microarrays 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reducing pool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miting undesired oligo inte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aintaining reagent concentra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desired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Integrated Microarray-Microfluidic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5" name=""/>
          <p:cNvGraphicFramePr/>
          <p:nvPr/>
        </p:nvGraphicFramePr>
        <p:xfrm>
          <a:off x="1371600" y="3733920"/>
          <a:ext cx="6318360" cy="2457360"/>
        </p:xfrm>
        <a:graphic>
          <a:graphicData uri="http://schemas.openxmlformats.org/drawingml/2006/table">
            <a:tbl>
              <a:tblPr/>
              <a:tblGrid>
                <a:gridCol w="3218040"/>
                <a:gridCol w="1550880"/>
                <a:gridCol w="15494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il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mblegen (M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go spot feature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of sp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6 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 den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picomole/m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picomole/m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 expected yield per sp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femtom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56 femtom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ons of spot spa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by 188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μm by 25 μ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al footprint of 16 oligo spo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al chamber volume (10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he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 nanoli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picoli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mated concentration of each oli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 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 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6" name=""/>
          <p:cNvGraphicFramePr/>
          <p:nvPr/>
        </p:nvGraphicFramePr>
        <p:xfrm>
          <a:off x="1371600" y="3733920"/>
          <a:ext cx="6318000" cy="2457360"/>
        </p:xfrm>
        <a:graphic>
          <a:graphicData uri="http://schemas.openxmlformats.org/drawingml/2006/table">
            <a:tbl>
              <a:tblPr/>
              <a:tblGrid>
                <a:gridCol w="3217680"/>
                <a:gridCol w="1550880"/>
                <a:gridCol w="15494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il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mblegen (M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go spot feature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of sp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6 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 den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picomole/m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picomole/m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 expected yield per sp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femtom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56 femtom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ons of spot spa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by 188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μm by 25 μ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al footprint of 16 oligo spo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al chamber volume (10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he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 nanoli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picoli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mated concentration of each oli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 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 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1676520" y="2209680"/>
            <a:ext cx="5600520" cy="2895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7238880" y="1219320"/>
            <a:ext cx="1905120" cy="5105160"/>
            <a:chOff x="7238880" y="1219320"/>
            <a:chExt cx="1905120" cy="5105160"/>
          </a:xfrm>
        </p:grpSpPr>
        <p:sp>
          <p:nvSpPr>
            <p:cNvPr id="1049" name=""/>
            <p:cNvSpPr/>
            <p:nvPr/>
          </p:nvSpPr>
          <p:spPr>
            <a:xfrm>
              <a:off x="7286760" y="1219320"/>
              <a:ext cx="1857240" cy="5105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238880" y="2220840"/>
              <a:ext cx="76320" cy="2879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153000" y="3220920"/>
            <a:ext cx="1297800" cy="1537920"/>
            <a:chOff x="153000" y="3220920"/>
            <a:chExt cx="1297800" cy="1537920"/>
          </a:xfrm>
        </p:grpSpPr>
        <p:pic>
          <p:nvPicPr>
            <p:cNvPr id="1052" name="" descr=""/>
            <p:cNvPicPr/>
            <p:nvPr/>
          </p:nvPicPr>
          <p:blipFill>
            <a:blip r:embed="rId1"/>
            <a:stretch/>
          </p:blipFill>
          <p:spPr>
            <a:xfrm>
              <a:off x="154080" y="3220920"/>
              <a:ext cx="12952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>
              <a:off x="153000" y="4238640"/>
              <a:ext cx="129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user des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1382760" y="2541600"/>
            <a:ext cx="1473120" cy="1649520"/>
            <a:chOff x="1382760" y="2541600"/>
            <a:chExt cx="1473120" cy="1649520"/>
          </a:xfrm>
        </p:grpSpPr>
        <p:pic>
          <p:nvPicPr>
            <p:cNvPr id="1055" name="" descr=""/>
            <p:cNvPicPr/>
            <p:nvPr/>
          </p:nvPicPr>
          <p:blipFill>
            <a:blip r:embed="rId2"/>
            <a:stretch/>
          </p:blipFill>
          <p:spPr>
            <a:xfrm>
              <a:off x="18111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6" name=""/>
            <p:cNvSpPr/>
            <p:nvPr/>
          </p:nvSpPr>
          <p:spPr>
            <a:xfrm>
              <a:off x="168300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827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2670120" y="2895480"/>
            <a:ext cx="1668960" cy="2034720"/>
            <a:chOff x="2670120" y="2895480"/>
            <a:chExt cx="1668960" cy="2034720"/>
          </a:xfrm>
        </p:grpSpPr>
        <p:pic>
          <p:nvPicPr>
            <p:cNvPr id="1059" name="" descr=""/>
            <p:cNvPicPr/>
            <p:nvPr/>
          </p:nvPicPr>
          <p:blipFill>
            <a:blip r:embed="rId3"/>
            <a:stretch/>
          </p:blipFill>
          <p:spPr>
            <a:xfrm>
              <a:off x="3108240" y="2895480"/>
              <a:ext cx="903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277164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7012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3946680" y="2657520"/>
            <a:ext cx="1535040" cy="1609560"/>
            <a:chOff x="3946680" y="2657520"/>
            <a:chExt cx="1535040" cy="1609560"/>
          </a:xfrm>
        </p:grpSpPr>
        <p:grpSp>
          <p:nvGrpSpPr>
            <p:cNvPr id="1063" name=""/>
            <p:cNvGrpSpPr/>
            <p:nvPr/>
          </p:nvGrpSpPr>
          <p:grpSpPr>
            <a:xfrm>
              <a:off x="4384800" y="3200400"/>
              <a:ext cx="1096920" cy="1066680"/>
              <a:chOff x="4384800" y="3200400"/>
              <a:chExt cx="1096920" cy="1066680"/>
            </a:xfrm>
          </p:grpSpPr>
          <p:sp>
            <p:nvSpPr>
              <p:cNvPr id="1064" name=""/>
              <p:cNvSpPr/>
              <p:nvPr/>
            </p:nvSpPr>
            <p:spPr>
              <a:xfrm>
                <a:off x="4384800" y="3200400"/>
                <a:ext cx="10969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5" name=""/>
              <p:cNvGrpSpPr/>
              <p:nvPr/>
            </p:nvGrpSpPr>
            <p:grpSpPr>
              <a:xfrm>
                <a:off x="4514760" y="3363840"/>
                <a:ext cx="838440" cy="739440"/>
                <a:chOff x="4514760" y="3363840"/>
                <a:chExt cx="838440" cy="73944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4673880" y="3363840"/>
                  <a:ext cx="198360" cy="457200"/>
                </a:xfrm>
                <a:custGeom>
                  <a:avLst/>
                  <a:gdLst>
                    <a:gd name="textAreaLeft" fmla="*/ 22680 w 198360"/>
                    <a:gd name="textAreaRight" fmla="*/ 175680 w 198360"/>
                    <a:gd name="textAreaTop" fmla="*/ 22680 h 457200"/>
                    <a:gd name="textAreaBottom" fmla="*/ 434520 h 457200"/>
                  </a:gdLst>
                  <a:ahLst/>
                  <a:rect l="textAreaLeft" t="textAreaTop" r="textAreaRight" b="textAreaBottom"/>
                  <a:pathLst>
                    <a:path w="21600" h="49735">
                      <a:moveTo>
                        <a:pt x="8550" y="0"/>
                      </a:moveTo>
                      <a:arcTo wR="8550" hR="8550" stAng="16200000" swAng="-5400000"/>
                      <a:lnTo>
                        <a:pt x="0" y="41185"/>
                      </a:lnTo>
                      <a:arcTo wR="8550" hR="8550" stAng="10800000" swAng="-5400000"/>
                      <a:lnTo>
                        <a:pt x="13050" y="49735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7" name=""/>
                <p:cNvGrpSpPr/>
                <p:nvPr/>
              </p:nvGrpSpPr>
              <p:grpSpPr>
                <a:xfrm>
                  <a:off x="4514760" y="3451320"/>
                  <a:ext cx="838440" cy="651960"/>
                  <a:chOff x="4514760" y="3451320"/>
                  <a:chExt cx="838440" cy="651960"/>
                </a:xfrm>
              </p:grpSpPr>
              <p:grpSp>
                <p:nvGrpSpPr>
                  <p:cNvPr id="1068" name=""/>
                  <p:cNvGrpSpPr/>
                  <p:nvPr/>
                </p:nvGrpSpPr>
                <p:grpSpPr>
                  <a:xfrm>
                    <a:off x="4518000" y="3567240"/>
                    <a:ext cx="835200" cy="107640"/>
                    <a:chOff x="4518000" y="3567240"/>
                    <a:chExt cx="835200" cy="107640"/>
                  </a:xfrm>
                </p:grpSpPr>
                <p:sp>
                  <p:nvSpPr>
                    <p:cNvPr id="1069" name=""/>
                    <p:cNvSpPr/>
                    <p:nvPr/>
                  </p:nvSpPr>
                  <p:spPr>
                    <a:xfrm>
                      <a:off x="4518360" y="35672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 flipH="1">
                      <a:off x="4518000" y="36748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1" name=""/>
                  <p:cNvGrpSpPr/>
                  <p:nvPr/>
                </p:nvGrpSpPr>
                <p:grpSpPr>
                  <a:xfrm>
                    <a:off x="4514760" y="3995640"/>
                    <a:ext cx="835200" cy="107640"/>
                    <a:chOff x="4514760" y="3995640"/>
                    <a:chExt cx="835200" cy="107640"/>
                  </a:xfrm>
                </p:grpSpPr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4515120" y="39956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 flipH="1">
                      <a:off x="4514760" y="41032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4" name=""/>
                  <p:cNvSpPr/>
                  <p:nvPr/>
                </p:nvSpPr>
                <p:spPr>
                  <a:xfrm>
                    <a:off x="4746960" y="3451320"/>
                    <a:ext cx="56880" cy="109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75" name=""/>
            <p:cNvSpPr/>
            <p:nvPr/>
          </p:nvSpPr>
          <p:spPr>
            <a:xfrm>
              <a:off x="4374000" y="265752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946680" y="3581280"/>
              <a:ext cx="502920" cy="304920"/>
            </a:xfrm>
            <a:prstGeom prst="rightArrow">
              <a:avLst>
                <a:gd name="adj1" fmla="val 50000"/>
                <a:gd name="adj2" fmla="val 412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5416560" y="3081240"/>
            <a:ext cx="1684080" cy="1834920"/>
            <a:chOff x="5416560" y="3081240"/>
            <a:chExt cx="1684080" cy="1834920"/>
          </a:xfrm>
        </p:grpSpPr>
        <p:pic>
          <p:nvPicPr>
            <p:cNvPr id="1078" name="" descr=""/>
            <p:cNvPicPr/>
            <p:nvPr/>
          </p:nvPicPr>
          <p:blipFill>
            <a:blip r:embed="rId4"/>
            <a:srcRect l="0" t="2645" r="48869" b="65632"/>
            <a:stretch/>
          </p:blipFill>
          <p:spPr>
            <a:xfrm>
              <a:off x="5854680" y="3081240"/>
              <a:ext cx="1241280" cy="129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79" name=""/>
            <p:cNvSpPr/>
            <p:nvPr/>
          </p:nvSpPr>
          <p:spPr>
            <a:xfrm>
              <a:off x="5883480" y="4395960"/>
              <a:ext cx="121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rger 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4165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922440" y="1554120"/>
            <a:ext cx="2131200" cy="1663560"/>
            <a:chOff x="6922440" y="1554120"/>
            <a:chExt cx="2131200" cy="1663560"/>
          </a:xfrm>
        </p:grpSpPr>
        <p:pic>
          <p:nvPicPr>
            <p:cNvPr id="1082" name="" descr=""/>
            <p:cNvPicPr/>
            <p:nvPr/>
          </p:nvPicPr>
          <p:blipFill>
            <a:blip r:embed="rId5"/>
            <a:stretch/>
          </p:blipFill>
          <p:spPr>
            <a:xfrm>
              <a:off x="7542360" y="1554120"/>
              <a:ext cx="151128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3" name=""/>
            <p:cNvSpPr/>
            <p:nvPr/>
          </p:nvSpPr>
          <p:spPr>
            <a:xfrm>
              <a:off x="7923240" y="27576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8328200">
              <a:off x="6886440" y="266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7031160" y="3311640"/>
            <a:ext cx="2036520" cy="1033920"/>
            <a:chOff x="7031160" y="3311640"/>
            <a:chExt cx="2036520" cy="1033920"/>
          </a:xfrm>
        </p:grpSpPr>
        <p:pic>
          <p:nvPicPr>
            <p:cNvPr id="1086" name="" descr=""/>
            <p:cNvPicPr/>
            <p:nvPr/>
          </p:nvPicPr>
          <p:blipFill>
            <a:blip r:embed="rId6"/>
            <a:srcRect l="32866" t="0" r="8392" b="52606"/>
            <a:stretch/>
          </p:blipFill>
          <p:spPr>
            <a:xfrm>
              <a:off x="7467480" y="3311640"/>
              <a:ext cx="1600200" cy="72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87" name=""/>
            <p:cNvSpPr/>
            <p:nvPr/>
          </p:nvSpPr>
          <p:spPr>
            <a:xfrm>
              <a:off x="7591680" y="403848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equence/Q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311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913080" y="4235040"/>
            <a:ext cx="2010240" cy="2015640"/>
            <a:chOff x="6913080" y="4235040"/>
            <a:chExt cx="2010240" cy="2015640"/>
          </a:xfrm>
        </p:grpSpPr>
        <p:grpSp>
          <p:nvGrpSpPr>
            <p:cNvPr id="1090" name=""/>
            <p:cNvGrpSpPr/>
            <p:nvPr/>
          </p:nvGrpSpPr>
          <p:grpSpPr>
            <a:xfrm>
              <a:off x="7489800" y="4454640"/>
              <a:ext cx="1433520" cy="1796040"/>
              <a:chOff x="7489800" y="4454640"/>
              <a:chExt cx="1433520" cy="1796040"/>
            </a:xfrm>
          </p:grpSpPr>
          <p:pic>
            <p:nvPicPr>
              <p:cNvPr id="109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42080" y="4454640"/>
                <a:ext cx="11289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2" name=""/>
              <p:cNvSpPr/>
              <p:nvPr/>
            </p:nvSpPr>
            <p:spPr>
              <a:xfrm>
                <a:off x="7489800" y="5943600"/>
                <a:ext cx="14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express/ass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 flipV="1" rot="3271800">
              <a:off x="6877080" y="4480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458640" y="6445080"/>
            <a:ext cx="8141400" cy="337320"/>
            <a:chOff x="458640" y="6445080"/>
            <a:chExt cx="8141400" cy="337320"/>
          </a:xfrm>
        </p:grpSpPr>
        <p:sp>
          <p:nvSpPr>
            <p:cNvPr id="1095" name=""/>
            <p:cNvSpPr/>
            <p:nvPr/>
          </p:nvSpPr>
          <p:spPr>
            <a:xfrm>
              <a:off x="458640" y="64450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770280" y="644508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MOLECU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927200" y="64612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26540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2304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8">
              <a:alphaModFix amt="6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2743200" y="2666880"/>
            <a:ext cx="4572000" cy="2438640"/>
            <a:chOff x="2743200" y="2666880"/>
            <a:chExt cx="4572000" cy="2438640"/>
          </a:xfrm>
        </p:grpSpPr>
        <p:grpSp>
          <p:nvGrpSpPr>
            <p:cNvPr id="1102" name=""/>
            <p:cNvGrpSpPr/>
            <p:nvPr/>
          </p:nvGrpSpPr>
          <p:grpSpPr>
            <a:xfrm>
              <a:off x="5638680" y="2743200"/>
              <a:ext cx="1676520" cy="2362320"/>
              <a:chOff x="5638680" y="2743200"/>
              <a:chExt cx="1676520" cy="2362320"/>
            </a:xfrm>
          </p:grpSpPr>
          <p:sp>
            <p:nvSpPr>
              <p:cNvPr id="1103" name=""/>
              <p:cNvSpPr/>
              <p:nvPr/>
            </p:nvSpPr>
            <p:spPr>
              <a:xfrm>
                <a:off x="5638680" y="2743200"/>
                <a:ext cx="1676520" cy="2362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04" name="" descr=""/>
              <p:cNvPicPr/>
              <p:nvPr/>
            </p:nvPicPr>
            <p:blipFill>
              <a:blip r:embed="rId9"/>
              <a:srcRect l="0" t="2645" r="48869" b="65632"/>
              <a:stretch/>
            </p:blipFill>
            <p:spPr>
              <a:xfrm>
                <a:off x="5854680" y="3081240"/>
                <a:ext cx="1241280" cy="1295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105" name=""/>
              <p:cNvSpPr/>
              <p:nvPr/>
            </p:nvSpPr>
            <p:spPr>
              <a:xfrm>
                <a:off x="5883480" y="4395960"/>
                <a:ext cx="1217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larger sca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assembl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2743200" y="2666880"/>
              <a:ext cx="1600200" cy="2438640"/>
              <a:chOff x="2743200" y="2666880"/>
              <a:chExt cx="1600200" cy="2438640"/>
            </a:xfrm>
          </p:grpSpPr>
          <p:sp>
            <p:nvSpPr>
              <p:cNvPr id="1107" name=""/>
              <p:cNvSpPr/>
              <p:nvPr/>
            </p:nvSpPr>
            <p:spPr>
              <a:xfrm>
                <a:off x="2743200" y="2666880"/>
                <a:ext cx="1600200" cy="2438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0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05000" y="2895480"/>
                <a:ext cx="903600" cy="152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9" name=""/>
              <p:cNvSpPr/>
              <p:nvPr/>
            </p:nvSpPr>
            <p:spPr>
              <a:xfrm>
                <a:off x="2768400" y="4410000"/>
                <a:ext cx="1567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assemb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DNA constru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0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icrofluidic Gene Synthesis:</a:t>
            </a:r>
            <a:br>
              <a:rPr sz="3400"/>
            </a:br>
            <a:r>
              <a:rPr b="0" i="1" lang="en-US" sz="3200" spc="-1" strike="noStrike">
                <a:solidFill>
                  <a:srgbClr val="0099ff"/>
                </a:solidFill>
                <a:latin typeface="Trebuchet MS"/>
              </a:rPr>
              <a:t>Integration Roa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" descr=""/>
          <p:cNvPicPr/>
          <p:nvPr/>
        </p:nvPicPr>
        <p:blipFill>
          <a:blip r:embed="rId1"/>
          <a:stretch/>
        </p:blipFill>
        <p:spPr>
          <a:xfrm>
            <a:off x="304920" y="1701720"/>
            <a:ext cx="8486640" cy="408960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Hierarchical gene syn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76320" y="763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Hierarchical gene syn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4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2514600" cy="148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5" name=""/>
          <p:cNvSpPr/>
          <p:nvPr/>
        </p:nvSpPr>
        <p:spPr>
          <a:xfrm>
            <a:off x="1119240" y="236232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4572000" y="1143000"/>
            <a:ext cx="4267080" cy="5103720"/>
            <a:chOff x="4572000" y="1143000"/>
            <a:chExt cx="4267080" cy="5103720"/>
          </a:xfrm>
        </p:grpSpPr>
        <p:pic>
          <p:nvPicPr>
            <p:cNvPr id="1117" name="" descr=""/>
            <p:cNvPicPr/>
            <p:nvPr/>
          </p:nvPicPr>
          <p:blipFill>
            <a:blip r:embed="rId2"/>
            <a:stretch/>
          </p:blipFill>
          <p:spPr>
            <a:xfrm>
              <a:off x="4572000" y="1143000"/>
              <a:ext cx="3657600" cy="16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"/>
            <p:cNvSpPr/>
            <p:nvPr/>
          </p:nvSpPr>
          <p:spPr>
            <a:xfrm>
              <a:off x="5943600" y="3135240"/>
              <a:ext cx="28954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cc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0 nL rea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-chip mixing of synthesized fragments A, B, with a “rejuvenating mixture” of dNTPs, polymerase, and amplifying prim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 A, B, and E sample coll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3733920" y="2057400"/>
            <a:ext cx="60948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762120" y="3124080"/>
            <a:ext cx="4800600" cy="3573720"/>
            <a:chOff x="762120" y="3124080"/>
            <a:chExt cx="4800600" cy="3573720"/>
          </a:xfrm>
        </p:grpSpPr>
        <p:sp>
          <p:nvSpPr>
            <p:cNvPr id="1122" name=""/>
            <p:cNvSpPr/>
            <p:nvPr/>
          </p:nvSpPr>
          <p:spPr>
            <a:xfrm>
              <a:off x="2820240" y="6421320"/>
              <a:ext cx="86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al tim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3" name="" descr=""/>
            <p:cNvPicPr/>
            <p:nvPr/>
          </p:nvPicPr>
          <p:blipFill>
            <a:blip r:embed="rId3"/>
            <a:stretch/>
          </p:blipFill>
          <p:spPr>
            <a:xfrm>
              <a:off x="762120" y="3124080"/>
              <a:ext cx="4800600" cy="3273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Uses for DNA On-Dem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8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360" y="354492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91760" y="4114800"/>
            <a:ext cx="8566560" cy="459720"/>
            <a:chOff x="491760" y="4114800"/>
            <a:chExt cx="8566560" cy="459720"/>
          </a:xfrm>
        </p:grpSpPr>
        <p:sp>
          <p:nvSpPr>
            <p:cNvPr id="64" name=""/>
            <p:cNvSpPr/>
            <p:nvPr/>
          </p:nvSpPr>
          <p:spPr>
            <a:xfrm>
              <a:off x="49176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44020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6068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6984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8080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4972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914400" y="1130400"/>
            <a:ext cx="4343400" cy="2222280"/>
            <a:chOff x="914400" y="1130400"/>
            <a:chExt cx="4343400" cy="22222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612800" y="1130400"/>
              <a:ext cx="13971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04160" y="2895480"/>
              <a:ext cx="15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gle genes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14400" y="33526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514600" y="4681440"/>
            <a:ext cx="3200400" cy="2243160"/>
            <a:chOff x="2514600" y="4681440"/>
            <a:chExt cx="3200400" cy="22431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rcRect l="0" t="2645" r="48869" b="65632"/>
            <a:stretch/>
          </p:blipFill>
          <p:spPr>
            <a:xfrm>
              <a:off x="3238560" y="5095800"/>
              <a:ext cx="1752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269880" y="470376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tic circu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4600" y="468144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781680" y="4681440"/>
            <a:ext cx="2133720" cy="1949400"/>
            <a:chOff x="6781680" y="4681440"/>
            <a:chExt cx="2133720" cy="194940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6946920" y="5148360"/>
              <a:ext cx="1892160" cy="14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000920" y="4703760"/>
              <a:ext cx="175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ome re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81680" y="468144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181480" y="1166760"/>
            <a:ext cx="1909800" cy="2185920"/>
            <a:chOff x="5181480" y="1166760"/>
            <a:chExt cx="1909800" cy="2185920"/>
          </a:xfrm>
        </p:grpSpPr>
        <p:sp>
          <p:nvSpPr>
            <p:cNvPr id="83" name=""/>
            <p:cNvSpPr/>
            <p:nvPr/>
          </p:nvSpPr>
          <p:spPr>
            <a:xfrm>
              <a:off x="5562720" y="335268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3160" y="292248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imal li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5181480" y="1166760"/>
              <a:ext cx="1909800" cy="1728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1676520" y="2209680"/>
            <a:ext cx="5600520" cy="2895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7238880" y="1219320"/>
            <a:ext cx="1905120" cy="5105160"/>
            <a:chOff x="7238880" y="1219320"/>
            <a:chExt cx="1905120" cy="5105160"/>
          </a:xfrm>
        </p:grpSpPr>
        <p:sp>
          <p:nvSpPr>
            <p:cNvPr id="1126" name=""/>
            <p:cNvSpPr/>
            <p:nvPr/>
          </p:nvSpPr>
          <p:spPr>
            <a:xfrm>
              <a:off x="7286760" y="1219320"/>
              <a:ext cx="1857240" cy="5105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238880" y="2220840"/>
              <a:ext cx="76320" cy="2879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53000" y="3220920"/>
            <a:ext cx="1297800" cy="1537920"/>
            <a:chOff x="153000" y="3220920"/>
            <a:chExt cx="1297800" cy="1537920"/>
          </a:xfrm>
        </p:grpSpPr>
        <p:pic>
          <p:nvPicPr>
            <p:cNvPr id="1129" name="" descr=""/>
            <p:cNvPicPr/>
            <p:nvPr/>
          </p:nvPicPr>
          <p:blipFill>
            <a:blip r:embed="rId1"/>
            <a:stretch/>
          </p:blipFill>
          <p:spPr>
            <a:xfrm>
              <a:off x="154080" y="3220920"/>
              <a:ext cx="12952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153000" y="4238640"/>
              <a:ext cx="129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user des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1382760" y="2541600"/>
            <a:ext cx="1473120" cy="1649520"/>
            <a:chOff x="1382760" y="2541600"/>
            <a:chExt cx="1473120" cy="1649520"/>
          </a:xfrm>
        </p:grpSpPr>
        <p:pic>
          <p:nvPicPr>
            <p:cNvPr id="1132" name="" descr=""/>
            <p:cNvPicPr/>
            <p:nvPr/>
          </p:nvPicPr>
          <p:blipFill>
            <a:blip r:embed="rId2"/>
            <a:stretch/>
          </p:blipFill>
          <p:spPr>
            <a:xfrm>
              <a:off x="18111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168300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3827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2670120" y="2895480"/>
            <a:ext cx="1668960" cy="2034720"/>
            <a:chOff x="2670120" y="2895480"/>
            <a:chExt cx="1668960" cy="2034720"/>
          </a:xfrm>
        </p:grpSpPr>
        <p:pic>
          <p:nvPicPr>
            <p:cNvPr id="1136" name="" descr=""/>
            <p:cNvPicPr/>
            <p:nvPr/>
          </p:nvPicPr>
          <p:blipFill>
            <a:blip r:embed="rId3"/>
            <a:stretch/>
          </p:blipFill>
          <p:spPr>
            <a:xfrm>
              <a:off x="3108240" y="2895480"/>
              <a:ext cx="903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>
              <a:off x="277164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67012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3946680" y="2657520"/>
            <a:ext cx="1535040" cy="1609560"/>
            <a:chOff x="3946680" y="2657520"/>
            <a:chExt cx="1535040" cy="1609560"/>
          </a:xfrm>
        </p:grpSpPr>
        <p:grpSp>
          <p:nvGrpSpPr>
            <p:cNvPr id="1140" name=""/>
            <p:cNvGrpSpPr/>
            <p:nvPr/>
          </p:nvGrpSpPr>
          <p:grpSpPr>
            <a:xfrm>
              <a:off x="4384800" y="3200400"/>
              <a:ext cx="1096920" cy="1066680"/>
              <a:chOff x="4384800" y="3200400"/>
              <a:chExt cx="1096920" cy="1066680"/>
            </a:xfrm>
          </p:grpSpPr>
          <p:sp>
            <p:nvSpPr>
              <p:cNvPr id="1141" name=""/>
              <p:cNvSpPr/>
              <p:nvPr/>
            </p:nvSpPr>
            <p:spPr>
              <a:xfrm>
                <a:off x="4384800" y="3200400"/>
                <a:ext cx="10969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4514760" y="3363840"/>
                <a:ext cx="838440" cy="739440"/>
                <a:chOff x="4514760" y="3363840"/>
                <a:chExt cx="838440" cy="73944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4673880" y="3363840"/>
                  <a:ext cx="198360" cy="457200"/>
                </a:xfrm>
                <a:custGeom>
                  <a:avLst/>
                  <a:gdLst>
                    <a:gd name="textAreaLeft" fmla="*/ 22680 w 198360"/>
                    <a:gd name="textAreaRight" fmla="*/ 175680 w 198360"/>
                    <a:gd name="textAreaTop" fmla="*/ 22680 h 457200"/>
                    <a:gd name="textAreaBottom" fmla="*/ 434520 h 457200"/>
                  </a:gdLst>
                  <a:ahLst/>
                  <a:rect l="textAreaLeft" t="textAreaTop" r="textAreaRight" b="textAreaBottom"/>
                  <a:pathLst>
                    <a:path w="21600" h="49735">
                      <a:moveTo>
                        <a:pt x="8550" y="0"/>
                      </a:moveTo>
                      <a:arcTo wR="8550" hR="8550" stAng="16200000" swAng="-5400000"/>
                      <a:lnTo>
                        <a:pt x="0" y="41185"/>
                      </a:lnTo>
                      <a:arcTo wR="8550" hR="8550" stAng="10800000" swAng="-5400000"/>
                      <a:lnTo>
                        <a:pt x="13050" y="49735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4" name=""/>
                <p:cNvGrpSpPr/>
                <p:nvPr/>
              </p:nvGrpSpPr>
              <p:grpSpPr>
                <a:xfrm>
                  <a:off x="4514760" y="3451320"/>
                  <a:ext cx="838440" cy="651960"/>
                  <a:chOff x="4514760" y="3451320"/>
                  <a:chExt cx="838440" cy="651960"/>
                </a:xfrm>
              </p:grpSpPr>
              <p:grpSp>
                <p:nvGrpSpPr>
                  <p:cNvPr id="1145" name=""/>
                  <p:cNvGrpSpPr/>
                  <p:nvPr/>
                </p:nvGrpSpPr>
                <p:grpSpPr>
                  <a:xfrm>
                    <a:off x="4518000" y="3567240"/>
                    <a:ext cx="835200" cy="107640"/>
                    <a:chOff x="4518000" y="3567240"/>
                    <a:chExt cx="835200" cy="107640"/>
                  </a:xfrm>
                </p:grpSpPr>
                <p:sp>
                  <p:nvSpPr>
                    <p:cNvPr id="1146" name=""/>
                    <p:cNvSpPr/>
                    <p:nvPr/>
                  </p:nvSpPr>
                  <p:spPr>
                    <a:xfrm>
                      <a:off x="4518360" y="35672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 flipH="1">
                      <a:off x="4518000" y="36748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8" name=""/>
                  <p:cNvGrpSpPr/>
                  <p:nvPr/>
                </p:nvGrpSpPr>
                <p:grpSpPr>
                  <a:xfrm>
                    <a:off x="4514760" y="3995640"/>
                    <a:ext cx="835200" cy="107640"/>
                    <a:chOff x="4514760" y="3995640"/>
                    <a:chExt cx="835200" cy="107640"/>
                  </a:xfrm>
                </p:grpSpPr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4515120" y="39956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 flipH="1">
                      <a:off x="4514760" y="41032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51" name=""/>
                  <p:cNvSpPr/>
                  <p:nvPr/>
                </p:nvSpPr>
                <p:spPr>
                  <a:xfrm>
                    <a:off x="4746960" y="3451320"/>
                    <a:ext cx="56880" cy="109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52" name=""/>
            <p:cNvSpPr/>
            <p:nvPr/>
          </p:nvSpPr>
          <p:spPr>
            <a:xfrm>
              <a:off x="4374000" y="265752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946680" y="3581280"/>
              <a:ext cx="502920" cy="304920"/>
            </a:xfrm>
            <a:prstGeom prst="rightArrow">
              <a:avLst>
                <a:gd name="adj1" fmla="val 50000"/>
                <a:gd name="adj2" fmla="val 412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5416560" y="3081240"/>
            <a:ext cx="1684080" cy="1834920"/>
            <a:chOff x="5416560" y="3081240"/>
            <a:chExt cx="1684080" cy="1834920"/>
          </a:xfrm>
        </p:grpSpPr>
        <p:pic>
          <p:nvPicPr>
            <p:cNvPr id="1155" name="" descr=""/>
            <p:cNvPicPr/>
            <p:nvPr/>
          </p:nvPicPr>
          <p:blipFill>
            <a:blip r:embed="rId4"/>
            <a:srcRect l="0" t="2645" r="48869" b="65632"/>
            <a:stretch/>
          </p:blipFill>
          <p:spPr>
            <a:xfrm>
              <a:off x="5854680" y="3081240"/>
              <a:ext cx="1241280" cy="129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56" name=""/>
            <p:cNvSpPr/>
            <p:nvPr/>
          </p:nvSpPr>
          <p:spPr>
            <a:xfrm>
              <a:off x="5883480" y="4395960"/>
              <a:ext cx="121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rger 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4165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6922440" y="1554120"/>
            <a:ext cx="2131200" cy="1663560"/>
            <a:chOff x="6922440" y="1554120"/>
            <a:chExt cx="2131200" cy="1663560"/>
          </a:xfrm>
        </p:grpSpPr>
        <p:pic>
          <p:nvPicPr>
            <p:cNvPr id="1159" name="" descr=""/>
            <p:cNvPicPr/>
            <p:nvPr/>
          </p:nvPicPr>
          <p:blipFill>
            <a:blip r:embed="rId5"/>
            <a:stretch/>
          </p:blipFill>
          <p:spPr>
            <a:xfrm>
              <a:off x="7542360" y="1554120"/>
              <a:ext cx="151128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"/>
            <p:cNvSpPr/>
            <p:nvPr/>
          </p:nvSpPr>
          <p:spPr>
            <a:xfrm>
              <a:off x="7923240" y="27576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18328200">
              <a:off x="6886440" y="266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7031160" y="3311640"/>
            <a:ext cx="2036520" cy="1033920"/>
            <a:chOff x="7031160" y="3311640"/>
            <a:chExt cx="2036520" cy="1033920"/>
          </a:xfrm>
        </p:grpSpPr>
        <p:pic>
          <p:nvPicPr>
            <p:cNvPr id="1163" name="" descr=""/>
            <p:cNvPicPr/>
            <p:nvPr/>
          </p:nvPicPr>
          <p:blipFill>
            <a:blip r:embed="rId6"/>
            <a:srcRect l="32866" t="0" r="8392" b="52606"/>
            <a:stretch/>
          </p:blipFill>
          <p:spPr>
            <a:xfrm>
              <a:off x="7467480" y="3311640"/>
              <a:ext cx="1600200" cy="72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64" name=""/>
            <p:cNvSpPr/>
            <p:nvPr/>
          </p:nvSpPr>
          <p:spPr>
            <a:xfrm>
              <a:off x="7591680" y="403848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equence/Q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0311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913080" y="4235040"/>
            <a:ext cx="2010240" cy="2015640"/>
            <a:chOff x="6913080" y="4235040"/>
            <a:chExt cx="2010240" cy="2015640"/>
          </a:xfrm>
        </p:grpSpPr>
        <p:grpSp>
          <p:nvGrpSpPr>
            <p:cNvPr id="1167" name=""/>
            <p:cNvGrpSpPr/>
            <p:nvPr/>
          </p:nvGrpSpPr>
          <p:grpSpPr>
            <a:xfrm>
              <a:off x="7489800" y="4454640"/>
              <a:ext cx="1433520" cy="1796040"/>
              <a:chOff x="7489800" y="4454640"/>
              <a:chExt cx="1433520" cy="1796040"/>
            </a:xfrm>
          </p:grpSpPr>
          <p:pic>
            <p:nvPicPr>
              <p:cNvPr id="116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42080" y="4454640"/>
                <a:ext cx="11289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9" name=""/>
              <p:cNvSpPr/>
              <p:nvPr/>
            </p:nvSpPr>
            <p:spPr>
              <a:xfrm>
                <a:off x="7489800" y="5943600"/>
                <a:ext cx="14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express/ass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0" name=""/>
            <p:cNvSpPr/>
            <p:nvPr/>
          </p:nvSpPr>
          <p:spPr>
            <a:xfrm flipV="1" rot="3271800">
              <a:off x="6877080" y="4480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458640" y="6445080"/>
            <a:ext cx="8141400" cy="337320"/>
            <a:chOff x="458640" y="6445080"/>
            <a:chExt cx="8141400" cy="337320"/>
          </a:xfrm>
        </p:grpSpPr>
        <p:sp>
          <p:nvSpPr>
            <p:cNvPr id="1172" name=""/>
            <p:cNvSpPr/>
            <p:nvPr/>
          </p:nvSpPr>
          <p:spPr>
            <a:xfrm>
              <a:off x="458640" y="64450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70280" y="644508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MOLECU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927200" y="64612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26540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42304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8">
              <a:alphaModFix amt="6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2743200" y="2666880"/>
            <a:ext cx="6248520" cy="3810240"/>
            <a:chOff x="2743200" y="2666880"/>
            <a:chExt cx="6248520" cy="3810240"/>
          </a:xfrm>
        </p:grpSpPr>
        <p:grpSp>
          <p:nvGrpSpPr>
            <p:cNvPr id="1179" name=""/>
            <p:cNvGrpSpPr/>
            <p:nvPr/>
          </p:nvGrpSpPr>
          <p:grpSpPr>
            <a:xfrm>
              <a:off x="7391520" y="4114800"/>
              <a:ext cx="1600200" cy="2362320"/>
              <a:chOff x="7391520" y="4114800"/>
              <a:chExt cx="1600200" cy="2362320"/>
            </a:xfrm>
          </p:grpSpPr>
          <p:sp>
            <p:nvSpPr>
              <p:cNvPr id="1180" name=""/>
              <p:cNvSpPr/>
              <p:nvPr/>
            </p:nvSpPr>
            <p:spPr>
              <a:xfrm>
                <a:off x="7391520" y="4114800"/>
                <a:ext cx="1600200" cy="2362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1" name=""/>
              <p:cNvGrpSpPr/>
              <p:nvPr/>
            </p:nvGrpSpPr>
            <p:grpSpPr>
              <a:xfrm>
                <a:off x="7489800" y="4454640"/>
                <a:ext cx="1433520" cy="1796040"/>
                <a:chOff x="7489800" y="4454640"/>
                <a:chExt cx="1433520" cy="1796040"/>
              </a:xfrm>
            </p:grpSpPr>
            <p:pic>
              <p:nvPicPr>
                <p:cNvPr id="118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642080" y="4454640"/>
                  <a:ext cx="112896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7489800" y="5943600"/>
                  <a:ext cx="1433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rebuchet MS"/>
                    </a:rPr>
                    <a:t>express/assa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4" name=""/>
            <p:cNvGrpSpPr/>
            <p:nvPr/>
          </p:nvGrpSpPr>
          <p:grpSpPr>
            <a:xfrm>
              <a:off x="2743200" y="2666880"/>
              <a:ext cx="1600200" cy="2438640"/>
              <a:chOff x="2743200" y="2666880"/>
              <a:chExt cx="1600200" cy="2438640"/>
            </a:xfrm>
          </p:grpSpPr>
          <p:sp>
            <p:nvSpPr>
              <p:cNvPr id="1185" name=""/>
              <p:cNvSpPr/>
              <p:nvPr/>
            </p:nvSpPr>
            <p:spPr>
              <a:xfrm>
                <a:off x="2743200" y="2666880"/>
                <a:ext cx="1600200" cy="2438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05000" y="2895480"/>
                <a:ext cx="903600" cy="152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>
                <a:off x="2768400" y="4410000"/>
                <a:ext cx="1567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assemb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DNA constru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8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icrofluidic Gene Synthesis:</a:t>
            </a:r>
            <a:br>
              <a:rPr sz="3400"/>
            </a:br>
            <a:r>
              <a:rPr b="0" i="1" lang="en-US" sz="3200" spc="-1" strike="noStrike">
                <a:solidFill>
                  <a:srgbClr val="0099ff"/>
                </a:solidFill>
                <a:latin typeface="Trebuchet MS"/>
              </a:rPr>
              <a:t>Integration Roa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2971800" y="26859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971800" y="26859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Integrated gene and protein syn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6324480" y="1143000"/>
            <a:ext cx="1828800" cy="182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3" name=""/>
          <p:cNvSpPr/>
          <p:nvPr/>
        </p:nvSpPr>
        <p:spPr>
          <a:xfrm>
            <a:off x="5867280" y="3092400"/>
            <a:ext cx="32004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uorescence from GFP expressed in a PDMS microfluidic dev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4" name=""/>
          <p:cNvGraphicFramePr/>
          <p:nvPr/>
        </p:nvGraphicFramePr>
        <p:xfrm>
          <a:off x="5748480" y="3651120"/>
          <a:ext cx="2938320" cy="2444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48480" y="3651120"/>
                    <a:ext cx="293832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6" name=""/>
          <p:cNvSpPr/>
          <p:nvPr/>
        </p:nvSpPr>
        <p:spPr>
          <a:xfrm>
            <a:off x="768240" y="1193760"/>
            <a:ext cx="448956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igos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gene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867280" y="6095880"/>
            <a:ext cx="32004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uorescence from expressed synthetic EGF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68240" y="1676520"/>
            <a:ext cx="448956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igos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gene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68240" y="2209680"/>
            <a:ext cx="448956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igos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gene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638680" y="1219320"/>
            <a:ext cx="0" cy="495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685800" y="2743200"/>
            <a:ext cx="4572000" cy="3810960"/>
            <a:chOff x="685800" y="2743200"/>
            <a:chExt cx="4572000" cy="3810960"/>
          </a:xfrm>
        </p:grpSpPr>
        <p:pic>
          <p:nvPicPr>
            <p:cNvPr id="1202" name="" descr=""/>
            <p:cNvPicPr/>
            <p:nvPr/>
          </p:nvPicPr>
          <p:blipFill>
            <a:blip r:embed="rId4"/>
            <a:stretch/>
          </p:blipFill>
          <p:spPr>
            <a:xfrm>
              <a:off x="685800" y="2743200"/>
              <a:ext cx="4572000" cy="32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838080" y="6064200"/>
              <a:ext cx="41911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5 nL gene synthesis reactors, 12 nL protein synthesis reacto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2593080" y="1752480"/>
            <a:ext cx="3944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u 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elly Ch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yron H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r. Shuguang Zh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f. George 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f. Franco Cer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f. Joseph Jacob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nd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T Media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enter for Bits and Atoms (NS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106704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6324480" y="5918040"/>
            <a:ext cx="2590920" cy="7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rebuchet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coding</a:t>
            </a: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i="1" lang="en-US" sz="2800" spc="-1" strike="noStrike">
                <a:solidFill>
                  <a:srgbClr val="0099ff"/>
                </a:solidFill>
                <a:latin typeface="Trebuchet MS"/>
              </a:rPr>
              <a:t>E.coli</a:t>
            </a:r>
            <a:r>
              <a:rPr b="1" lang="en-US" sz="2800" spc="-1" strike="noStrike">
                <a:solidFill>
                  <a:srgbClr val="0099ff"/>
                </a:solidFill>
                <a:latin typeface="Trebuchet MS"/>
              </a:rPr>
              <a:t>:  </a:t>
            </a:r>
            <a:r>
              <a:rPr b="1" i="1" lang="en-US" sz="2800" spc="-1" strike="noStrike">
                <a:solidFill>
                  <a:srgbClr val="0099ff"/>
                </a:solidFill>
                <a:latin typeface="Trebuchet MS"/>
              </a:rPr>
              <a:t>rE.c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029120" y="3233880"/>
            <a:ext cx="5191200" cy="34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17200" y="2057400"/>
            <a:ext cx="2757960" cy="91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2.  &gt;4000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rare Arg 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two more cod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029120" y="3233880"/>
            <a:ext cx="5191200" cy="3471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029120" y="3233880"/>
            <a:ext cx="5191200" cy="347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3370320"/>
            <a:ext cx="32004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3.  &gt;70,000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 Leu and Ser cod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thogonal genetic cod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029120" y="3233880"/>
            <a:ext cx="5191200" cy="347184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1131840" y="914400"/>
            <a:ext cx="6811200" cy="1839600"/>
            <a:chOff x="1131840" y="914400"/>
            <a:chExt cx="6811200" cy="1839600"/>
          </a:xfrm>
        </p:grpSpPr>
        <p:sp>
          <p:nvSpPr>
            <p:cNvPr id="94" name=""/>
            <p:cNvSpPr/>
            <p:nvPr/>
          </p:nvSpPr>
          <p:spPr>
            <a:xfrm>
              <a:off x="3429720" y="914400"/>
              <a:ext cx="4513320" cy="916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1. &gt;300 chan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G stops  become  TAA st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ves one codon f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1131840" y="990720"/>
              <a:ext cx="1763280" cy="1763280"/>
              <a:chOff x="1131840" y="990720"/>
              <a:chExt cx="1763280" cy="1763280"/>
            </a:xfrm>
          </p:grpSpPr>
          <p:sp>
            <p:nvSpPr>
              <p:cNvPr id="96" name=""/>
              <p:cNvSpPr/>
              <p:nvPr/>
            </p:nvSpPr>
            <p:spPr>
              <a:xfrm>
                <a:off x="1450080" y="1419120"/>
                <a:ext cx="105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E. Col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MG165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.6 M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1131840" y="990720"/>
                <a:ext cx="1763280" cy="1763280"/>
                <a:chOff x="1131840" y="990720"/>
                <a:chExt cx="1763280" cy="1763280"/>
              </a:xfrm>
            </p:grpSpPr>
            <p:sp>
              <p:nvSpPr>
                <p:cNvPr id="98" name=""/>
                <p:cNvSpPr/>
                <p:nvPr/>
              </p:nvSpPr>
              <p:spPr>
                <a:xfrm flipV="1">
                  <a:off x="2021760" y="1045800"/>
                  <a:ext cx="1080" cy="18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774080" y="1025640"/>
                  <a:ext cx="3348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2570760" y="1278720"/>
                  <a:ext cx="95760" cy="86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199160" y="1536840"/>
                  <a:ext cx="11916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 flipV="1">
                  <a:off x="2673360" y="2239920"/>
                  <a:ext cx="111960" cy="60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933920" y="994680"/>
                  <a:ext cx="9360" cy="126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859400" y="1005120"/>
                  <a:ext cx="226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850040" y="1006920"/>
                  <a:ext cx="241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V="1">
                  <a:off x="1199160" y="2161440"/>
                  <a:ext cx="11916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1311480" y="2329560"/>
                  <a:ext cx="102960" cy="77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1783440" y="2601000"/>
                  <a:ext cx="349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flipV="1">
                  <a:off x="2162160" y="2613240"/>
                  <a:ext cx="244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 flipV="1">
                  <a:off x="2702160" y="2181960"/>
                  <a:ext cx="115920" cy="53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2766600" y="1802160"/>
                  <a:ext cx="127080" cy="10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2401560" y="1114920"/>
                  <a:ext cx="64440" cy="110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2393640" y="1110600"/>
                  <a:ext cx="64800" cy="110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2333880" y="1074240"/>
                  <a:ext cx="52560" cy="114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1506240" y="2489040"/>
                  <a:ext cx="73080" cy="103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1506240" y="2490120"/>
                  <a:ext cx="7308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1830960" y="2611800"/>
                  <a:ext cx="2664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 flipV="1">
                  <a:off x="2262600" y="2584800"/>
                  <a:ext cx="43200" cy="119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 flipV="1">
                  <a:off x="2605680" y="2341440"/>
                  <a:ext cx="9972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flipV="1">
                  <a:off x="2613600" y="2331720"/>
                  <a:ext cx="9972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flipV="1">
                  <a:off x="2615400" y="2327760"/>
                  <a:ext cx="10296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 flipV="1">
                  <a:off x="2715480" y="2149200"/>
                  <a:ext cx="118800" cy="47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 flipV="1">
                  <a:off x="2718000" y="2142720"/>
                  <a:ext cx="11988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flipV="1">
                  <a:off x="2718000" y="2142720"/>
                  <a:ext cx="11988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 flipV="1">
                  <a:off x="2722320" y="2137320"/>
                  <a:ext cx="118800" cy="44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 flipV="1">
                  <a:off x="2723760" y="2129040"/>
                  <a:ext cx="121680" cy="442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 flipV="1">
                  <a:off x="2766600" y="1933200"/>
                  <a:ext cx="127080" cy="9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 flipV="1">
                  <a:off x="2766600" y="1925280"/>
                  <a:ext cx="127080" cy="9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 flipV="1">
                  <a:off x="2766600" y="1925280"/>
                  <a:ext cx="127080" cy="7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 flipV="1">
                  <a:off x="2766600" y="1922400"/>
                  <a:ext cx="127080" cy="7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2554200" y="1256760"/>
                  <a:ext cx="88920" cy="88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2550240" y="1252800"/>
                  <a:ext cx="91800" cy="88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2543400" y="1244880"/>
                  <a:ext cx="90360" cy="91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 flipV="1">
                  <a:off x="2722320" y="2137320"/>
                  <a:ext cx="118800" cy="44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>
                  <a:off x="2605680" y="2340000"/>
                  <a:ext cx="10116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2766600" y="1929240"/>
                  <a:ext cx="127080" cy="7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219680" y="1489680"/>
                  <a:ext cx="11592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929600" y="994680"/>
                  <a:ext cx="11880" cy="126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707840" y="1045800"/>
                  <a:ext cx="45360" cy="119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1603800" y="2540520"/>
                  <a:ext cx="59400" cy="113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1851120" y="2613240"/>
                  <a:ext cx="2412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flipV="1">
                  <a:off x="2294640" y="2572920"/>
                  <a:ext cx="4752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>
                  <a:off x="2438280" y="2497320"/>
                  <a:ext cx="72720" cy="106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 flipV="1">
                  <a:off x="2603520" y="2345400"/>
                  <a:ext cx="9864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2693880" y="1489680"/>
                  <a:ext cx="11376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2331360" y="1073160"/>
                  <a:ext cx="5544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346760" y="1297440"/>
                  <a:ext cx="95760" cy="83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2505600" y="2445840"/>
                  <a:ext cx="8388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609640" y="1330200"/>
                  <a:ext cx="9972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238400" y="1454400"/>
                  <a:ext cx="11196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1154520" y="2042640"/>
                  <a:ext cx="124200" cy="30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1158480" y="2056320"/>
                  <a:ext cx="124200" cy="29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flipV="1">
                  <a:off x="2473200" y="2472480"/>
                  <a:ext cx="77040" cy="101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2735640" y="1618200"/>
                  <a:ext cx="122760" cy="36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2098800" y="2621880"/>
                  <a:ext cx="1440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1146600" y="2004840"/>
                  <a:ext cx="124200" cy="21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flipV="1">
                  <a:off x="2623680" y="2317320"/>
                  <a:ext cx="10368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1323720" y="2343960"/>
                  <a:ext cx="10008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135800" y="1792800"/>
                  <a:ext cx="127080" cy="11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247760" y="1434240"/>
                  <a:ext cx="111960" cy="63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1783440" y="2601000"/>
                  <a:ext cx="32400" cy="122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131840" y="1870920"/>
                  <a:ext cx="128160" cy="1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234440" y="1458360"/>
                  <a:ext cx="11376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1262880" y="2269800"/>
                  <a:ext cx="109440" cy="67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2706840" y="1526040"/>
                  <a:ext cx="11628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>
                  <a:off x="2058120" y="2625840"/>
                  <a:ext cx="504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2714040" y="1545120"/>
                  <a:ext cx="118800" cy="48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>
                  <a:off x="2695320" y="1493640"/>
                  <a:ext cx="11592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flipV="1">
                  <a:off x="2055600" y="2625840"/>
                  <a:ext cx="648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flipV="1">
                  <a:off x="2661480" y="2264400"/>
                  <a:ext cx="108000" cy="64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 flipV="1">
                  <a:off x="2734200" y="2100600"/>
                  <a:ext cx="119880" cy="37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2469240" y="1168920"/>
                  <a:ext cx="77040" cy="101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863360" y="1002600"/>
                  <a:ext cx="2016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flipV="1">
                  <a:off x="2752920" y="2028600"/>
                  <a:ext cx="124200" cy="27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974240" y="990720"/>
                  <a:ext cx="540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2719440" y="1562760"/>
                  <a:ext cx="12168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2207160" y="101880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2546280" y="1245960"/>
                  <a:ext cx="88920" cy="91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2390400" y="1109520"/>
                  <a:ext cx="63720" cy="109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1463040" y="2462040"/>
                  <a:ext cx="79920" cy="100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>
                  <a:off x="2554200" y="2398320"/>
                  <a:ext cx="91800" cy="90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2657160" y="1411200"/>
                  <a:ext cx="108000" cy="66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58480" y="1658520"/>
                  <a:ext cx="124200" cy="30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782360" y="1021680"/>
                  <a:ext cx="334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1422360" y="2431800"/>
                  <a:ext cx="84960" cy="96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>
                  <a:off x="1438560" y="2444400"/>
                  <a:ext cx="83520" cy="97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>
                  <a:off x="2014920" y="2628000"/>
                  <a:ext cx="108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2721960" y="1566720"/>
                  <a:ext cx="11988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014920" y="990720"/>
                  <a:ext cx="108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1538640" y="2507760"/>
                  <a:ext cx="68760" cy="108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1348200" y="2368440"/>
                  <a:ext cx="95760" cy="83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1379160" y="2396880"/>
                  <a:ext cx="91800" cy="874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206360" y="1520640"/>
                  <a:ext cx="117360" cy="49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1376280" y="2394360"/>
                  <a:ext cx="91800" cy="87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432080" y="1209600"/>
                  <a:ext cx="8352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1767600" y="2597040"/>
                  <a:ext cx="34920" cy="123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>
                  <a:off x="2149920" y="2615760"/>
                  <a:ext cx="241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flipV="1">
                  <a:off x="2730240" y="2110320"/>
                  <a:ext cx="120240" cy="41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1191240" y="2142720"/>
                  <a:ext cx="118800" cy="47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2697480" y="1497600"/>
                  <a:ext cx="11628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>
                  <a:off x="2738160" y="2085840"/>
                  <a:ext cx="122760" cy="36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160280" y="1650600"/>
                  <a:ext cx="124200" cy="32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406160" y="1233720"/>
                  <a:ext cx="87840" cy="93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93920" y="1245960"/>
                  <a:ext cx="89280" cy="91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>
                  <a:off x="2167920" y="2611800"/>
                  <a:ext cx="2664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2623680" y="2317320"/>
                  <a:ext cx="10368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362960" y="1278720"/>
                  <a:ext cx="93240" cy="86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2657160" y="1411200"/>
                  <a:ext cx="108000" cy="66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23640" y="1478880"/>
                  <a:ext cx="11484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1242720" y="2237040"/>
                  <a:ext cx="111960" cy="63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1332000" y="2349360"/>
                  <a:ext cx="9864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1663200" y="2565000"/>
                  <a:ext cx="51480" cy="117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2732040" y="1599120"/>
                  <a:ext cx="121680" cy="41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350720" y="1293120"/>
                  <a:ext cx="95760" cy="83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>
                  <a:off x="2485080" y="1182600"/>
                  <a:ext cx="79560" cy="99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763280" y="1027080"/>
                  <a:ext cx="36360" cy="122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flipV="1">
                  <a:off x="2466720" y="2476800"/>
                  <a:ext cx="75600" cy="101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26520" y="1478880"/>
                  <a:ext cx="11340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332000" y="1314000"/>
                  <a:ext cx="98640" cy="80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 flipV="1">
                  <a:off x="2346480" y="2549880"/>
                  <a:ext cx="5544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142280" y="1742400"/>
                  <a:ext cx="125640" cy="18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>
                  <a:off x="1771560" y="2599920"/>
                  <a:ext cx="3636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1376280" y="2394000"/>
                  <a:ext cx="94680" cy="90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1483560" y="2473920"/>
                  <a:ext cx="75240" cy="102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flipV="1">
                  <a:off x="2527560" y="2424960"/>
                  <a:ext cx="86400" cy="94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2135160" y="1002600"/>
                  <a:ext cx="2016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>
                  <a:off x="2601720" y="2345400"/>
                  <a:ext cx="10008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763280" y="1027080"/>
                  <a:ext cx="34920" cy="122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>
                  <a:off x="2730240" y="2109240"/>
                  <a:ext cx="123120" cy="38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191240" y="1554480"/>
                  <a:ext cx="119880" cy="47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>
                  <a:off x="2370240" y="1094400"/>
                  <a:ext cx="60840" cy="114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138320" y="1766880"/>
                  <a:ext cx="125640" cy="14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455120" y="2456640"/>
                  <a:ext cx="79560" cy="97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1634760" y="2553480"/>
                  <a:ext cx="55440" cy="114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2118960" y="998640"/>
                  <a:ext cx="1872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1135800" y="1953360"/>
                  <a:ext cx="128160" cy="12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1150560" y="2022480"/>
                  <a:ext cx="124200" cy="244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322280" y="1327320"/>
                  <a:ext cx="99720" cy="78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2745000" y="1654560"/>
                  <a:ext cx="124200" cy="30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>
                  <a:off x="2226960" y="2597040"/>
                  <a:ext cx="36360" cy="123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>
                  <a:off x="2192040" y="2604960"/>
                  <a:ext cx="3096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211400" y="1506960"/>
                  <a:ext cx="115920" cy="54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1802520" y="2604960"/>
                  <a:ext cx="295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>
                  <a:off x="2201400" y="260352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>
                  <a:off x="2217960" y="259956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flipV="1">
                  <a:off x="2217600" y="2599920"/>
                  <a:ext cx="3348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012400" y="2628000"/>
                  <a:ext cx="108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98640" y="998640"/>
                  <a:ext cx="1764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flipV="1">
                  <a:off x="2306520" y="2568960"/>
                  <a:ext cx="4860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>
                  <a:off x="2315160" y="2565000"/>
                  <a:ext cx="5112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flipV="1">
                  <a:off x="2306520" y="2568960"/>
                  <a:ext cx="4860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>
                  <a:off x="2305800" y="2568960"/>
                  <a:ext cx="4968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V="1">
                  <a:off x="1338840" y="235764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2769120" y="1865520"/>
                  <a:ext cx="125640" cy="1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2439360" y="1145880"/>
                  <a:ext cx="74520" cy="103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996200" y="990720"/>
                  <a:ext cx="252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2769120" y="1866960"/>
                  <a:ext cx="125640" cy="1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2094840" y="997200"/>
                  <a:ext cx="1440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>
                  <a:off x="2693880" y="1486800"/>
                  <a:ext cx="11376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>
                  <a:off x="2769120" y="1873440"/>
                  <a:ext cx="125640" cy="1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>
                  <a:off x="2502720" y="2445480"/>
                  <a:ext cx="83880" cy="982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334520" y="131112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2627280" y="1361160"/>
                  <a:ext cx="104040" cy="72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>
                  <a:off x="2445840" y="1150200"/>
                  <a:ext cx="7164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135800" y="1793880"/>
                  <a:ext cx="127080" cy="10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2689560" y="1478880"/>
                  <a:ext cx="11340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2446200" y="1150200"/>
                  <a:ext cx="7272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>
                  <a:off x="2329920" y="2558160"/>
                  <a:ext cx="5256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243800" y="1444680"/>
                  <a:ext cx="110880" cy="60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307520" y="1346040"/>
                  <a:ext cx="10260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311480" y="1341000"/>
                  <a:ext cx="10296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>
                  <a:off x="2241720" y="2593080"/>
                  <a:ext cx="37800" cy="120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>
                  <a:off x="2270520" y="2582640"/>
                  <a:ext cx="4320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1393920" y="2409120"/>
                  <a:ext cx="89280" cy="892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1444320" y="2449800"/>
                  <a:ext cx="8244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 flipV="1">
                  <a:off x="2595240" y="2353680"/>
                  <a:ext cx="10008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139760" y="1753200"/>
                  <a:ext cx="127080" cy="16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287000" y="1374480"/>
                  <a:ext cx="104040" cy="71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939320" y="2624400"/>
                  <a:ext cx="1044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206360" y="1520640"/>
                  <a:ext cx="115920" cy="49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1430640" y="2437560"/>
                  <a:ext cx="8352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526760" y="1137600"/>
                  <a:ext cx="68760" cy="106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2665440" y="1428480"/>
                  <a:ext cx="10944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2145960" y="1005120"/>
                  <a:ext cx="216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 flipV="1">
                  <a:off x="2741040" y="2073600"/>
                  <a:ext cx="124200" cy="34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2459880" y="1162440"/>
                  <a:ext cx="75600" cy="102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>
                  <a:off x="2393640" y="2525400"/>
                  <a:ext cx="64800" cy="110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1284480" y="2296440"/>
                  <a:ext cx="105480" cy="71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943280" y="992880"/>
                  <a:ext cx="1044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223640" y="1482840"/>
                  <a:ext cx="11484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1168200" y="2085840"/>
                  <a:ext cx="122760" cy="34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2367720" y="1094400"/>
                  <a:ext cx="59760" cy="111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>
                  <a:off x="2161800" y="2613240"/>
                  <a:ext cx="2556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838880" y="1009080"/>
                  <a:ext cx="244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131840" y="1841040"/>
                  <a:ext cx="128160" cy="3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1227600" y="2214000"/>
                  <a:ext cx="114840" cy="59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V="1">
                  <a:off x="1322280" y="2340000"/>
                  <a:ext cx="9972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 flipV="1">
                  <a:off x="2703240" y="2180520"/>
                  <a:ext cx="115920" cy="49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>
                  <a:off x="2705760" y="2173680"/>
                  <a:ext cx="117720" cy="514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184400" y="1570680"/>
                  <a:ext cx="121680" cy="43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1334520" y="235368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471320" y="1178640"/>
                  <a:ext cx="76680" cy="99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flipV="1">
                  <a:off x="2626200" y="2314800"/>
                  <a:ext cx="10368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>
                  <a:off x="2490840" y="1189440"/>
                  <a:ext cx="82440" cy="99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1450800" y="2454120"/>
                  <a:ext cx="80640" cy="98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2184120" y="1013400"/>
                  <a:ext cx="295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299600" y="1357200"/>
                  <a:ext cx="10260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297800" y="1358280"/>
                  <a:ext cx="10404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135800" y="1788480"/>
                  <a:ext cx="127080" cy="12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1550880" y="2516040"/>
                  <a:ext cx="67680" cy="108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1438560" y="2444400"/>
                  <a:ext cx="83520" cy="97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2417760" y="1127160"/>
                  <a:ext cx="68760" cy="108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flipV="1">
                  <a:off x="2104200" y="2621880"/>
                  <a:ext cx="17280" cy="126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2070360" y="992880"/>
                  <a:ext cx="936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210320" y="1510920"/>
                  <a:ext cx="115920" cy="54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790640" y="1018800"/>
                  <a:ext cx="3204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767600" y="1025640"/>
                  <a:ext cx="3492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1138320" y="1965240"/>
                  <a:ext cx="125640" cy="16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1196640" y="2157480"/>
                  <a:ext cx="118800" cy="47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1299600" y="2314800"/>
                  <a:ext cx="102600" cy="74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299600" y="2314800"/>
                  <a:ext cx="10368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>
                  <a:off x="2654640" y="2269800"/>
                  <a:ext cx="110880" cy="67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2715480" y="1549080"/>
                  <a:ext cx="11880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2589840" y="130284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>
                  <a:off x="2207160" y="101880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166760" y="1630080"/>
                  <a:ext cx="121680" cy="34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 flipV="1">
                  <a:off x="2121840" y="2619720"/>
                  <a:ext cx="1728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>
                  <a:off x="2653200" y="1402920"/>
                  <a:ext cx="108000" cy="673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359000" y="1282680"/>
                  <a:ext cx="93240" cy="86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>
                  <a:off x="2769120" y="1863000"/>
                  <a:ext cx="125640" cy="2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1166760" y="2081520"/>
                  <a:ext cx="121680" cy="34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 flipV="1">
                  <a:off x="2510280" y="2444400"/>
                  <a:ext cx="8352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895760" y="998640"/>
                  <a:ext cx="1620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63280" y="1027080"/>
                  <a:ext cx="36360" cy="122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139760" y="1746720"/>
                  <a:ext cx="127080" cy="18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1171080" y="2097000"/>
                  <a:ext cx="122760" cy="37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1206360" y="2176560"/>
                  <a:ext cx="117360" cy="49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1246680" y="2244240"/>
                  <a:ext cx="11196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1477800" y="2469960"/>
                  <a:ext cx="76680" cy="102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1482120" y="2473920"/>
                  <a:ext cx="76680" cy="102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1857960" y="2615760"/>
                  <a:ext cx="216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1991880" y="2628000"/>
                  <a:ext cx="396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 flipV="1">
                  <a:off x="2395080" y="2525400"/>
                  <a:ext cx="63360" cy="110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>
                  <a:off x="2686680" y="2214000"/>
                  <a:ext cx="11484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2748960" y="1670760"/>
                  <a:ext cx="124200" cy="29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2615400" y="1341000"/>
                  <a:ext cx="10296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>
                  <a:off x="2395080" y="1110600"/>
                  <a:ext cx="63360" cy="110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2359440" y="1089360"/>
                  <a:ext cx="57960" cy="113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2327400" y="1070280"/>
                  <a:ext cx="5400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2477160" y="1174320"/>
                  <a:ext cx="76680" cy="102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2507400" y="2444400"/>
                  <a:ext cx="8352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V="1">
                  <a:off x="1134360" y="1912680"/>
                  <a:ext cx="125640" cy="5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2639880" y="1381320"/>
                  <a:ext cx="106560" cy="71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270800" y="1397520"/>
                  <a:ext cx="108000" cy="68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243800" y="1440720"/>
                  <a:ext cx="11196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1579320" y="2529720"/>
                  <a:ext cx="63360" cy="110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V="1">
                  <a:off x="1426320" y="2436120"/>
                  <a:ext cx="83880" cy="93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2473200" y="1172880"/>
                  <a:ext cx="77040" cy="101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986480" y="990720"/>
                  <a:ext cx="396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51120" y="1006920"/>
                  <a:ext cx="226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20160" y="1013400"/>
                  <a:ext cx="295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682280" y="1055160"/>
                  <a:ext cx="4860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1142280" y="1985760"/>
                  <a:ext cx="125640" cy="20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1144080" y="1997640"/>
                  <a:ext cx="126720" cy="22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1155960" y="2046960"/>
                  <a:ext cx="124200" cy="30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1203480" y="2172240"/>
                  <a:ext cx="11880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V="1">
                  <a:off x="1226520" y="2210040"/>
                  <a:ext cx="11340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1226520" y="2212920"/>
                  <a:ext cx="113400" cy="56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1311480" y="2329560"/>
                  <a:ext cx="102960" cy="77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1314000" y="2331720"/>
                  <a:ext cx="10008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1314000" y="2331720"/>
                  <a:ext cx="10152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V="1">
                  <a:off x="1314000" y="2331720"/>
                  <a:ext cx="10152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1322280" y="2340000"/>
                  <a:ext cx="9972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1487520" y="2478240"/>
                  <a:ext cx="78480" cy="102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1490400" y="2477880"/>
                  <a:ext cx="7560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1490400" y="2480760"/>
                  <a:ext cx="75600" cy="101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1491480" y="2480400"/>
                  <a:ext cx="7560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1650960" y="2560320"/>
                  <a:ext cx="52560" cy="1162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1802520" y="2604960"/>
                  <a:ext cx="295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2041920" y="2628000"/>
                  <a:ext cx="504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 flipV="1">
                  <a:off x="2149920" y="2615760"/>
                  <a:ext cx="241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flipV="1">
                  <a:off x="2314800" y="2565000"/>
                  <a:ext cx="5220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 flipV="1">
                  <a:off x="2370240" y="2537280"/>
                  <a:ext cx="60840" cy="111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 flipV="1">
                  <a:off x="2427480" y="2502720"/>
                  <a:ext cx="71280" cy="109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 flipV="1">
                  <a:off x="2439360" y="2496960"/>
                  <a:ext cx="7164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 flipV="1">
                  <a:off x="2497680" y="2452320"/>
                  <a:ext cx="80640" cy="99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flipV="1">
                  <a:off x="2531520" y="2421000"/>
                  <a:ext cx="87840" cy="94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2635920" y="2298240"/>
                  <a:ext cx="106560" cy="71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2666880" y="2252520"/>
                  <a:ext cx="110880" cy="64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2734200" y="2100600"/>
                  <a:ext cx="122760" cy="36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2756880" y="2008800"/>
                  <a:ext cx="124200" cy="21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2762640" y="1965240"/>
                  <a:ext cx="127080" cy="16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 flipV="1">
                  <a:off x="2765520" y="1937160"/>
                  <a:ext cx="128160" cy="9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2766960" y="1830240"/>
                  <a:ext cx="128160" cy="64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2752920" y="1697760"/>
                  <a:ext cx="125640" cy="24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2726280" y="1581480"/>
                  <a:ext cx="120240" cy="43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>
                  <a:off x="2718360" y="1553040"/>
                  <a:ext cx="11880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2589840" y="130284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>
                  <a:off x="2359440" y="1089360"/>
                  <a:ext cx="59400" cy="113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>
                  <a:off x="2267280" y="1041840"/>
                  <a:ext cx="45720" cy="120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179000" y="1589760"/>
                  <a:ext cx="120240" cy="403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>
                  <a:off x="2531520" y="1229760"/>
                  <a:ext cx="87840" cy="93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2745000" y="1650600"/>
                  <a:ext cx="124200" cy="32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>
                  <a:off x="2201400" y="101736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171080" y="1616400"/>
                  <a:ext cx="122760" cy="36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2106360" y="2621880"/>
                  <a:ext cx="16200" cy="126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407600" y="1231200"/>
                  <a:ext cx="87480" cy="943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270800" y="1397520"/>
                  <a:ext cx="108000" cy="68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254600" y="1425960"/>
                  <a:ext cx="109440" cy="63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2094840" y="997200"/>
                  <a:ext cx="1440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534680" y="1131120"/>
                  <a:ext cx="68760" cy="108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199160" y="1536840"/>
                  <a:ext cx="11916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1694160" y="2574360"/>
                  <a:ext cx="4464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>
                <a:off x="1258920" y="1117440"/>
                <a:ext cx="1508040" cy="15076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>
            <a:off x="838080" y="4619520"/>
            <a:ext cx="2514600" cy="24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urrent “price tag” &gt;$3 million per gen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and we want several of th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nds in de novo DNA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286240" cy="50292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47920" y="644508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lson, R. (2003) The Pace and Proliferation of Biological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10080" y="3352680"/>
            <a:ext cx="628920" cy="65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913600">
            <a:off x="4156920" y="3417120"/>
            <a:ext cx="2976480" cy="38088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29240" y="4038480"/>
            <a:ext cx="381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22680" y="5438880"/>
            <a:ext cx="3678120" cy="15228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SIRV-1: hjc gene par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78720" y="1279440"/>
            <a:ext cx="8155800" cy="1997280"/>
            <a:chOff x="378720" y="1279440"/>
            <a:chExt cx="8155800" cy="1997280"/>
          </a:xfrm>
        </p:grpSpPr>
        <p:sp>
          <p:nvSpPr>
            <p:cNvPr id="425" name=""/>
            <p:cNvSpPr/>
            <p:nvPr/>
          </p:nvSpPr>
          <p:spPr>
            <a:xfrm>
              <a:off x="5715000" y="1405080"/>
              <a:ext cx="2819520" cy="69120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ers:  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6                    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25 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truction oligos: 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5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48 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gene: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=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90 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3960" y="1584360"/>
              <a:ext cx="38412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14400" y="1584360"/>
              <a:ext cx="38088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8720" y="1279440"/>
              <a:ext cx="48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25 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731760" y="1736640"/>
              <a:ext cx="48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25 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27320" y="1584360"/>
              <a:ext cx="38412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87400" y="1584360"/>
              <a:ext cx="38124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32000" y="1584360"/>
              <a:ext cx="38412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92440" y="1584360"/>
              <a:ext cx="38088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05000" y="1584360"/>
              <a:ext cx="38448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65440" y="1584360"/>
              <a:ext cx="38124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520560" y="1660680"/>
              <a:ext cx="47016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002960" y="1660680"/>
              <a:ext cx="46980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1506240" y="1660680"/>
              <a:ext cx="39852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1968480" y="1660680"/>
              <a:ext cx="39384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2370240" y="1660680"/>
              <a:ext cx="37296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743200" y="1660680"/>
              <a:ext cx="45720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3200040" y="1660680"/>
              <a:ext cx="39852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657600" y="1660680"/>
              <a:ext cx="39384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3520" y="1752480"/>
              <a:ext cx="0" cy="14479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14800" y="1676520"/>
              <a:ext cx="4267080" cy="160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457200" y="33973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CAGGTAATTCCATATGAACATCCGTCAGTCTGGTAAATACTACGAGTACAAAACTCTGGAGATCCTGGAAAAGAATGGTTTCAAAGCGCTGCGTATCCCGGTTTCTGGTACCGGCAAACAGGCGCTGC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GTCCATTAAGGTATACTTGTAGGCAGTCAGACCATTTATGATGCTCATGTTTTGAGACCTCTAGGACCTTTTCTTACCAAAGTTTCGCGACGCATAGGGCCAAAGACCATGGCCGTTTGTCCGCGACG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880" y="449568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GACCTGATCG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CGACCAAAAACAACACCATCTACCCTATTGAAGTTAAATCTACCTCTAAAGACGTTGTTACCGTTCGTAATTTCCAGATCGAAAAACTGTTCAAATTCTGCGCGAAATCTTCAACTTCTGTG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CCTGGACTAGCGCTGGTTTTTGTTGTGGTAGATGGGATAACTTCAATTTAGATGGAGATTTCTGCAACAATGGCAAGCATTAAAGGTCTAGCTTTTTGACAAGTTTAAGACGCTTTAGAAGTTGAAGACACT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560700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ATGCCACCCGCTGGTAACCGTTTACTACAAGAAATACAAAATCGTTATCGTTTATGAACTGTCTCAGGACGTTCGCACCAAAGAAAAAATCAAGTTCAAGTACGGCATCAACTCCTAACTCGAGCGG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TACGGTGGGCGACCATTGGCAAATGATGTTCTTTATGTTTTAGCAATAGCAAATACTTGACAGAGTCCTGCAAGCGTGGTTTCTTTTTTAGTTCAAGTTCATGCCGTAGTTGAGGATTGAGCTCGCCT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80880" y="3124080"/>
            <a:ext cx="8305920" cy="3138480"/>
            <a:chOff x="380880" y="3124080"/>
            <a:chExt cx="8305920" cy="3138480"/>
          </a:xfrm>
        </p:grpSpPr>
        <p:sp>
          <p:nvSpPr>
            <p:cNvPr id="450" name=""/>
            <p:cNvSpPr/>
            <p:nvPr/>
          </p:nvSpPr>
          <p:spPr>
            <a:xfrm>
              <a:off x="457200" y="3408480"/>
              <a:ext cx="15238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50840" y="3124080"/>
              <a:ext cx="285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03400" y="3408480"/>
              <a:ext cx="29494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82840" y="3124080"/>
              <a:ext cx="285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410080" y="3408480"/>
              <a:ext cx="2971800" cy="792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09480" y="3713040"/>
              <a:ext cx="281952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51120" y="3749760"/>
              <a:ext cx="32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125600" y="3713040"/>
              <a:ext cx="235116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31080" y="3749760"/>
              <a:ext cx="32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314840" y="3713040"/>
              <a:ext cx="10666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3000" y="4484520"/>
              <a:ext cx="28954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44400" y="4200480"/>
              <a:ext cx="285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91120" y="4484520"/>
              <a:ext cx="281916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40240" y="4200480"/>
              <a:ext cx="285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56840" y="4789440"/>
              <a:ext cx="19810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70160" y="4826160"/>
              <a:ext cx="32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914400" y="5924520"/>
              <a:ext cx="281952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92760" y="5961240"/>
              <a:ext cx="375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733920" y="5924520"/>
              <a:ext cx="26668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29560" y="5961240"/>
              <a:ext cx="375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11840" y="3124080"/>
              <a:ext cx="285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38880" y="4495680"/>
              <a:ext cx="137160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6800" y="5619600"/>
              <a:ext cx="156060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41920" y="5335560"/>
              <a:ext cx="33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55680" y="5619600"/>
              <a:ext cx="289584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59600" y="5335560"/>
              <a:ext cx="33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43680" y="5619600"/>
              <a:ext cx="28954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47240" y="5335560"/>
              <a:ext cx="33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711840" y="5924520"/>
              <a:ext cx="15940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96560" y="5961240"/>
              <a:ext cx="375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462040" y="4788000"/>
              <a:ext cx="2872080" cy="792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38600" y="4832280"/>
              <a:ext cx="32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562360" y="4795920"/>
              <a:ext cx="2819160" cy="612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10640" y="4832280"/>
              <a:ext cx="375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7200" y="3397320"/>
              <a:ext cx="800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CAGGTAATTCCATATGAACATCCGT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AGTCTGGTAAATACTACGAGTACAAAACTCTGGAGATCCTGGAAAAG       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CAAAGCGCTGCGTATCCCGGTTTCTGGTACCGGCAAACAGGCGCTG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CATTAAGGTATACTTGTAGGCAGTCAGACCATTTATGATGCTCATGT</a:t>
              </a: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        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CTAGGACCTTTTCTTACCAAAGTTTCGCGACGCATAGGG            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GTTTGTCCGCGACG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0880" y="4495680"/>
              <a:ext cx="8305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         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GACCAAAAACAACACCATCTACCCTATTGAAGTTAAATCTACCTCTA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 GACGTTGTTACCGTTCGTAATTTCCAGATCGAAAAACTGTTCAAATT</a:t>
              </a: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GCGAAATCTTCAACTTCTGTGA</a:t>
              </a: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br>
                <a:rPr sz="800"/>
              </a:b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CTGGACTAGCGCTGGTTTTTGTTGTGGTAGA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GGGATAACTTCAATTTAGATGGAGATTTCTGCAACAATGGCAAGCATT 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GGTCTAGCTTTTTGACAAGTTTAAGACGCTTTAGAAGTTGAAGACA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0880" y="5607000"/>
              <a:ext cx="800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ATGCCACCCGCTGGTAACCGTTTACT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CAAGAAATACAAAATCGTTATCGTTTATGAACTGTCTCAGGACGTTCG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CAAAGAAAAAATCAAGTTCAAGTACGGCATCAACTCCTAACTCGAG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      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GGCGACCATTGGCAAATGATGTTCTTTATGTTTTAGCAATAGCAAATA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TTGACAGAGTCCTGCAAGCGTGGTTTCTTTTTTAGTTCAAGTT    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CGTAGTTGAGGATTGAGCTCGCCT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SIRV-1: hjc one-step PC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219320"/>
            <a:ext cx="45720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85800" y="135720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121932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52800" y="121932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81320" y="121932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81400" y="121932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29360" y="121932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48520" y="121932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315200" y="121932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714320" y="135720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2733480" y="135720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762360" y="135720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4790880" y="135720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838840" y="135720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877080" y="135720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7848720" y="1357200"/>
            <a:ext cx="45720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685800" y="6253200"/>
            <a:ext cx="7620120" cy="228600"/>
            <a:chOff x="685800" y="6253200"/>
            <a:chExt cx="7620120" cy="228600"/>
          </a:xfrm>
        </p:grpSpPr>
        <p:sp>
          <p:nvSpPr>
            <p:cNvPr id="505" name=""/>
            <p:cNvSpPr/>
            <p:nvPr/>
          </p:nvSpPr>
          <p:spPr>
            <a:xfrm>
              <a:off x="685800" y="6253200"/>
              <a:ext cx="45720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848720" y="6481800"/>
              <a:ext cx="45720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765000" y="990720"/>
            <a:ext cx="2509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1142640" y="2747880"/>
            <a:ext cx="6706080" cy="571680"/>
            <a:chOff x="1142640" y="2747880"/>
            <a:chExt cx="6706080" cy="571680"/>
          </a:xfrm>
        </p:grpSpPr>
        <p:sp>
          <p:nvSpPr>
            <p:cNvPr id="509" name=""/>
            <p:cNvSpPr/>
            <p:nvPr/>
          </p:nvSpPr>
          <p:spPr>
            <a:xfrm>
              <a:off x="1143000" y="2747880"/>
              <a:ext cx="2590920" cy="97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1142640" y="2833560"/>
              <a:ext cx="25909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57800" y="2747880"/>
              <a:ext cx="2590920" cy="97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257440" y="2833560"/>
              <a:ext cx="25909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33720" y="2909880"/>
              <a:ext cx="266688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2133720" y="2995560"/>
              <a:ext cx="266688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00400" y="3071880"/>
              <a:ext cx="259092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200040" y="3157560"/>
              <a:ext cx="25909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91120" y="3233880"/>
              <a:ext cx="266688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4191120" y="3319560"/>
              <a:ext cx="266688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48520" y="2900520"/>
              <a:ext cx="183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1460520" y="990720"/>
            <a:ext cx="2509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0880" y="990720"/>
            <a:ext cx="2509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27280" y="990720"/>
            <a:ext cx="2509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79840" y="990720"/>
            <a:ext cx="2509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555880" y="990720"/>
            <a:ext cx="28440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546600" y="990720"/>
            <a:ext cx="28440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32360" y="990720"/>
            <a:ext cx="28440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85440" y="6054840"/>
            <a:ext cx="7620480" cy="350640"/>
            <a:chOff x="685440" y="6054840"/>
            <a:chExt cx="7620480" cy="350640"/>
          </a:xfrm>
        </p:grpSpPr>
        <p:sp>
          <p:nvSpPr>
            <p:cNvPr id="528" name=""/>
            <p:cNvSpPr/>
            <p:nvPr/>
          </p:nvSpPr>
          <p:spPr>
            <a:xfrm>
              <a:off x="685800" y="6324480"/>
              <a:ext cx="762012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85440" y="6400800"/>
              <a:ext cx="7620120" cy="46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67800" y="60548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390 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85800" y="4606920"/>
            <a:ext cx="7696080" cy="493560"/>
            <a:chOff x="685800" y="4606920"/>
            <a:chExt cx="7696080" cy="493560"/>
          </a:xfrm>
        </p:grpSpPr>
        <p:sp>
          <p:nvSpPr>
            <p:cNvPr id="532" name=""/>
            <p:cNvSpPr/>
            <p:nvPr/>
          </p:nvSpPr>
          <p:spPr>
            <a:xfrm>
              <a:off x="685800" y="4876920"/>
              <a:ext cx="41148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85800" y="4952880"/>
              <a:ext cx="4114800" cy="9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4266720" y="5091120"/>
              <a:ext cx="4038840" cy="9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67080" y="5024520"/>
              <a:ext cx="41148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35320" y="46069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143000" y="3747960"/>
            <a:ext cx="6705720" cy="847800"/>
            <a:chOff x="1143000" y="3747960"/>
            <a:chExt cx="6705720" cy="847800"/>
          </a:xfrm>
        </p:grpSpPr>
        <p:sp>
          <p:nvSpPr>
            <p:cNvPr id="538" name=""/>
            <p:cNvSpPr/>
            <p:nvPr/>
          </p:nvSpPr>
          <p:spPr>
            <a:xfrm>
              <a:off x="1143000" y="3747960"/>
              <a:ext cx="36576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1143000" y="3824280"/>
              <a:ext cx="365760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91120" y="3900600"/>
              <a:ext cx="36576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191120" y="3976560"/>
              <a:ext cx="36576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33720" y="4052880"/>
              <a:ext cx="36576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2133720" y="4129200"/>
              <a:ext cx="365760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33720" y="4214880"/>
              <a:ext cx="472428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2133360" y="4290840"/>
              <a:ext cx="4724280" cy="97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00400" y="4357800"/>
              <a:ext cx="365760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3200400" y="4443480"/>
              <a:ext cx="36576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00400" y="4510080"/>
              <a:ext cx="464832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3200400" y="4595760"/>
              <a:ext cx="46483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86600" y="411948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113480" y="1357200"/>
            <a:ext cx="2768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80160" y="1357200"/>
            <a:ext cx="2768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70880" y="1357200"/>
            <a:ext cx="2768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90040" y="1357200"/>
            <a:ext cx="2768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28280" y="1357200"/>
            <a:ext cx="3103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61480" y="1357200"/>
            <a:ext cx="3103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28520" y="1357200"/>
            <a:ext cx="3103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014320" y="1371600"/>
            <a:ext cx="3103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142640" y="5176800"/>
            <a:ext cx="6706080" cy="695520"/>
            <a:chOff x="1142640" y="5176800"/>
            <a:chExt cx="6706080" cy="695520"/>
          </a:xfrm>
        </p:grpSpPr>
        <p:sp>
          <p:nvSpPr>
            <p:cNvPr id="560" name=""/>
            <p:cNvSpPr/>
            <p:nvPr/>
          </p:nvSpPr>
          <p:spPr>
            <a:xfrm flipV="1">
              <a:off x="1143000" y="5481360"/>
              <a:ext cx="6705720" cy="468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1142640" y="5557680"/>
              <a:ext cx="6705720" cy="504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143000" y="5176800"/>
              <a:ext cx="46483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1143000" y="5253120"/>
              <a:ext cx="464832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43000" y="5329080"/>
              <a:ext cx="57150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1142640" y="5405400"/>
              <a:ext cx="5715000" cy="97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33720" y="5634000"/>
              <a:ext cx="57150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2133360" y="5710320"/>
              <a:ext cx="57150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5786280"/>
              <a:ext cx="46483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200400" y="5862600"/>
              <a:ext cx="4648320" cy="97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58000" y="518148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85440" y="3311640"/>
            <a:ext cx="7620480" cy="360360"/>
            <a:chOff x="685440" y="3311640"/>
            <a:chExt cx="7620480" cy="360360"/>
          </a:xfrm>
        </p:grpSpPr>
        <p:sp>
          <p:nvSpPr>
            <p:cNvPr id="572" name=""/>
            <p:cNvSpPr/>
            <p:nvPr/>
          </p:nvSpPr>
          <p:spPr>
            <a:xfrm>
              <a:off x="1828800" y="331164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685440" y="3586320"/>
              <a:ext cx="7620480" cy="85680"/>
              <a:chOff x="685440" y="3586320"/>
              <a:chExt cx="7620480" cy="85680"/>
            </a:xfrm>
          </p:grpSpPr>
          <p:sp>
            <p:nvSpPr>
              <p:cNvPr id="574" name=""/>
              <p:cNvSpPr/>
              <p:nvPr/>
            </p:nvSpPr>
            <p:spPr>
              <a:xfrm flipH="1">
                <a:off x="685440" y="3672000"/>
                <a:ext cx="3048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85800" y="3586320"/>
                <a:ext cx="3048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57800" y="3586320"/>
                <a:ext cx="3048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5257440" y="3657600"/>
                <a:ext cx="3048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1142640" y="1204920"/>
            <a:ext cx="6715440" cy="1219320"/>
            <a:chOff x="1142640" y="1204920"/>
            <a:chExt cx="6715440" cy="1219320"/>
          </a:xfrm>
        </p:grpSpPr>
        <p:grpSp>
          <p:nvGrpSpPr>
            <p:cNvPr id="579" name=""/>
            <p:cNvGrpSpPr/>
            <p:nvPr/>
          </p:nvGrpSpPr>
          <p:grpSpPr>
            <a:xfrm>
              <a:off x="1142640" y="1204920"/>
              <a:ext cx="6715440" cy="1219320"/>
              <a:chOff x="1142640" y="1204920"/>
              <a:chExt cx="6715440" cy="1219320"/>
            </a:xfrm>
          </p:grpSpPr>
          <p:sp>
            <p:nvSpPr>
              <p:cNvPr id="580" name=""/>
              <p:cNvSpPr/>
              <p:nvPr/>
            </p:nvSpPr>
            <p:spPr>
              <a:xfrm>
                <a:off x="1143000" y="1833480"/>
                <a:ext cx="1600200" cy="972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143000" y="120492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1142640" y="1919160"/>
                <a:ext cx="160020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3720" y="2004840"/>
                <a:ext cx="1600200" cy="972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133720" y="1204920"/>
                <a:ext cx="0" cy="91440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2133360" y="2090880"/>
                <a:ext cx="160020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733920" y="1357200"/>
                <a:ext cx="0" cy="76212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743200" y="13572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200400" y="2157480"/>
                <a:ext cx="1600200" cy="936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200400" y="120492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200040" y="2243160"/>
                <a:ext cx="160020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257880" y="1833480"/>
                <a:ext cx="1600200" cy="972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6257520" y="1919160"/>
                <a:ext cx="160020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238720" y="2004840"/>
                <a:ext cx="1600200" cy="972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238360" y="2090880"/>
                <a:ext cx="160020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191120" y="2290680"/>
                <a:ext cx="1600200" cy="972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191120" y="1204920"/>
                <a:ext cx="0" cy="121932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91320" y="1357200"/>
                <a:ext cx="0" cy="106704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257800" y="1204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858000" y="135720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8520" y="1204920"/>
                <a:ext cx="0" cy="76212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848720" y="1357200"/>
                <a:ext cx="0" cy="53352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800600" y="13572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930720" y="2016000"/>
                <a:ext cx="58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rebuchet MS"/>
                  </a:rPr>
                  <a:t>73 b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 flipH="1">
              <a:off x="4190760" y="2362320"/>
              <a:ext cx="16002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09120" y="2320920"/>
            <a:ext cx="7696800" cy="331920"/>
            <a:chOff x="609120" y="2320920"/>
            <a:chExt cx="7696800" cy="331920"/>
          </a:xfrm>
        </p:grpSpPr>
        <p:sp>
          <p:nvSpPr>
            <p:cNvPr id="606" name=""/>
            <p:cNvSpPr/>
            <p:nvPr/>
          </p:nvSpPr>
          <p:spPr>
            <a:xfrm>
              <a:off x="1355040" y="2320920"/>
              <a:ext cx="66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108 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2581200"/>
              <a:ext cx="20574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48520" y="2581200"/>
              <a:ext cx="20574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248160" y="2652840"/>
              <a:ext cx="20574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609120" y="2652840"/>
              <a:ext cx="20574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596520" y="1204920"/>
            <a:ext cx="7709400" cy="962280"/>
            <a:chOff x="596520" y="1204920"/>
            <a:chExt cx="7709400" cy="962280"/>
          </a:xfrm>
        </p:grpSpPr>
        <p:sp>
          <p:nvSpPr>
            <p:cNvPr id="612" name=""/>
            <p:cNvSpPr/>
            <p:nvPr/>
          </p:nvSpPr>
          <p:spPr>
            <a:xfrm>
              <a:off x="596520" y="189072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50 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685800" y="1204920"/>
              <a:ext cx="7620120" cy="623520"/>
              <a:chOff x="685800" y="1204920"/>
              <a:chExt cx="7620120" cy="623520"/>
            </a:xfrm>
          </p:grpSpPr>
          <p:sp>
            <p:nvSpPr>
              <p:cNvPr id="614" name=""/>
              <p:cNvSpPr/>
              <p:nvPr/>
            </p:nvSpPr>
            <p:spPr>
              <a:xfrm>
                <a:off x="685800" y="1676520"/>
                <a:ext cx="9907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685800" y="1204920"/>
                <a:ext cx="990720" cy="623520"/>
                <a:chOff x="685800" y="1204920"/>
                <a:chExt cx="990720" cy="6235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85800" y="1204920"/>
                  <a:ext cx="0" cy="6235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676520" y="1383120"/>
                  <a:ext cx="0" cy="4453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8305920" y="1357200"/>
                <a:ext cx="0" cy="381240"/>
              </a:xfrm>
              <a:prstGeom prst="line">
                <a:avLst/>
              </a:prstGeom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315200" y="1204920"/>
                <a:ext cx="0" cy="609480"/>
              </a:xfrm>
              <a:prstGeom prst="line">
                <a:avLst/>
              </a:prstGeom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15200" y="1676520"/>
                <a:ext cx="9907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685800" y="1752480"/>
                <a:ext cx="9907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315200" y="1752480"/>
                <a:ext cx="9907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807200" y="23976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rror Correction for 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219320" y="1371600"/>
            <a:ext cx="2001600" cy="533520"/>
            <a:chOff x="1219320" y="1371600"/>
            <a:chExt cx="2001600" cy="533520"/>
          </a:xfrm>
        </p:grpSpPr>
        <p:sp>
          <p:nvSpPr>
            <p:cNvPr id="625" name=""/>
            <p:cNvSpPr/>
            <p:nvPr/>
          </p:nvSpPr>
          <p:spPr>
            <a:xfrm>
              <a:off x="1219320" y="1371600"/>
              <a:ext cx="2001600" cy="533520"/>
            </a:xfrm>
            <a:prstGeom prst="rightArrow">
              <a:avLst>
                <a:gd name="adj1" fmla="val 59093"/>
                <a:gd name="adj2" fmla="val 88859"/>
              </a:avLst>
            </a:prstGeom>
            <a:solidFill>
              <a:srgbClr val="57a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230120" y="148608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11000" y="148608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92240" y="148608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73120" y="148608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219320" y="3124080"/>
            <a:ext cx="2001600" cy="533520"/>
            <a:chOff x="1219320" y="3124080"/>
            <a:chExt cx="2001600" cy="533520"/>
          </a:xfrm>
        </p:grpSpPr>
        <p:sp>
          <p:nvSpPr>
            <p:cNvPr id="631" name=""/>
            <p:cNvSpPr/>
            <p:nvPr/>
          </p:nvSpPr>
          <p:spPr>
            <a:xfrm>
              <a:off x="1219320" y="3124080"/>
              <a:ext cx="2001600" cy="533520"/>
            </a:xfrm>
            <a:prstGeom prst="rightArrow">
              <a:avLst>
                <a:gd name="adj1" fmla="val 59093"/>
                <a:gd name="adj2" fmla="val 88859"/>
              </a:avLst>
            </a:prstGeom>
            <a:solidFill>
              <a:srgbClr val="57a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230120" y="323856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11000" y="323856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992240" y="323856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73120" y="3238560"/>
              <a:ext cx="380520" cy="304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1219320" y="4876920"/>
            <a:ext cx="2001600" cy="533160"/>
            <a:chOff x="1219320" y="4876920"/>
            <a:chExt cx="2001600" cy="533160"/>
          </a:xfrm>
        </p:grpSpPr>
        <p:sp>
          <p:nvSpPr>
            <p:cNvPr id="637" name=""/>
            <p:cNvSpPr/>
            <p:nvPr/>
          </p:nvSpPr>
          <p:spPr>
            <a:xfrm>
              <a:off x="1219320" y="4876920"/>
              <a:ext cx="2001600" cy="533160"/>
            </a:xfrm>
            <a:prstGeom prst="rightArrow">
              <a:avLst>
                <a:gd name="adj1" fmla="val 59093"/>
                <a:gd name="adj2" fmla="val 88919"/>
              </a:avLst>
            </a:prstGeom>
            <a:solidFill>
              <a:srgbClr val="57a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30120" y="4991040"/>
              <a:ext cx="380520" cy="304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11000" y="4991040"/>
              <a:ext cx="3808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92240" y="4991040"/>
              <a:ext cx="3805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73120" y="4991040"/>
              <a:ext cx="3805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62120" y="1868400"/>
            <a:ext cx="2001600" cy="4151520"/>
            <a:chOff x="762120" y="1868400"/>
            <a:chExt cx="2001600" cy="4151520"/>
          </a:xfrm>
        </p:grpSpPr>
        <p:grpSp>
          <p:nvGrpSpPr>
            <p:cNvPr id="643" name=""/>
            <p:cNvGrpSpPr/>
            <p:nvPr/>
          </p:nvGrpSpPr>
          <p:grpSpPr>
            <a:xfrm>
              <a:off x="762120" y="1868400"/>
              <a:ext cx="2001600" cy="646200"/>
              <a:chOff x="762120" y="1868400"/>
              <a:chExt cx="2001600" cy="64620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762120" y="1981080"/>
                <a:ext cx="2001600" cy="533520"/>
                <a:chOff x="762120" y="1981080"/>
                <a:chExt cx="2001600" cy="533520"/>
              </a:xfrm>
            </p:grpSpPr>
            <p:sp>
              <p:nvSpPr>
                <p:cNvPr id="645" name=""/>
                <p:cNvSpPr/>
                <p:nvPr/>
              </p:nvSpPr>
              <p:spPr>
                <a:xfrm flipH="1">
                  <a:off x="762120" y="1981080"/>
                  <a:ext cx="2001600" cy="533520"/>
                </a:xfrm>
                <a:prstGeom prst="rightArrow">
                  <a:avLst>
                    <a:gd name="adj1" fmla="val 59093"/>
                    <a:gd name="adj2" fmla="val 8885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6" name=""/>
                <p:cNvGrpSpPr/>
                <p:nvPr/>
              </p:nvGrpSpPr>
              <p:grpSpPr>
                <a:xfrm>
                  <a:off x="1228320" y="2124000"/>
                  <a:ext cx="1523160" cy="266760"/>
                  <a:chOff x="1228320" y="2124000"/>
                  <a:chExt cx="1523160" cy="266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>
                    <a:off x="237060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1990080" y="2124000"/>
                    <a:ext cx="38088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>
                    <a:off x="160848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>
                    <a:off x="122796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1" name=""/>
              <p:cNvGrpSpPr/>
              <p:nvPr/>
            </p:nvGrpSpPr>
            <p:grpSpPr>
              <a:xfrm>
                <a:off x="1411200" y="1868400"/>
                <a:ext cx="1160640" cy="154080"/>
                <a:chOff x="1411200" y="1868400"/>
                <a:chExt cx="1160640" cy="15408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141120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79712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18448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571840" y="187020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6" name=""/>
            <p:cNvGrpSpPr/>
            <p:nvPr/>
          </p:nvGrpSpPr>
          <p:grpSpPr>
            <a:xfrm>
              <a:off x="762120" y="3621240"/>
              <a:ext cx="2001600" cy="645840"/>
              <a:chOff x="762120" y="3621240"/>
              <a:chExt cx="2001600" cy="645840"/>
            </a:xfrm>
          </p:grpSpPr>
          <p:grpSp>
            <p:nvGrpSpPr>
              <p:cNvPr id="657" name=""/>
              <p:cNvGrpSpPr/>
              <p:nvPr/>
            </p:nvGrpSpPr>
            <p:grpSpPr>
              <a:xfrm>
                <a:off x="762120" y="3733920"/>
                <a:ext cx="2001600" cy="533160"/>
                <a:chOff x="762120" y="3733920"/>
                <a:chExt cx="2001600" cy="533160"/>
              </a:xfrm>
            </p:grpSpPr>
            <p:sp>
              <p:nvSpPr>
                <p:cNvPr id="658" name=""/>
                <p:cNvSpPr/>
                <p:nvPr/>
              </p:nvSpPr>
              <p:spPr>
                <a:xfrm flipH="1">
                  <a:off x="762120" y="3733920"/>
                  <a:ext cx="2001600" cy="533160"/>
                </a:xfrm>
                <a:prstGeom prst="rightArrow">
                  <a:avLst>
                    <a:gd name="adj1" fmla="val 59093"/>
                    <a:gd name="adj2" fmla="val 8891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9" name=""/>
                <p:cNvGrpSpPr/>
                <p:nvPr/>
              </p:nvGrpSpPr>
              <p:grpSpPr>
                <a:xfrm>
                  <a:off x="1228320" y="3876480"/>
                  <a:ext cx="1523160" cy="266400"/>
                  <a:chOff x="1228320" y="3876480"/>
                  <a:chExt cx="1523160" cy="26640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 flipH="1">
                    <a:off x="2370600" y="387648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>
                    <a:off x="1990080" y="3876480"/>
                    <a:ext cx="38088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flipH="1">
                    <a:off x="1608480" y="387648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flipH="1">
                    <a:off x="1227960" y="387648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4" name=""/>
              <p:cNvGrpSpPr/>
              <p:nvPr/>
            </p:nvGrpSpPr>
            <p:grpSpPr>
              <a:xfrm>
                <a:off x="1411200" y="3621240"/>
                <a:ext cx="1198800" cy="155160"/>
                <a:chOff x="1411200" y="3621240"/>
                <a:chExt cx="1198800" cy="15516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141120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79712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18448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8" name=""/>
                <p:cNvGrpSpPr/>
                <p:nvPr/>
              </p:nvGrpSpPr>
              <p:grpSpPr>
                <a:xfrm>
                  <a:off x="2533680" y="3624120"/>
                  <a:ext cx="76320" cy="152280"/>
                  <a:chOff x="2533680" y="3624120"/>
                  <a:chExt cx="76320" cy="15228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>
                    <a:off x="2533680" y="362412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flipH="1">
                    <a:off x="2533680" y="362412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71" name=""/>
            <p:cNvGrpSpPr/>
            <p:nvPr/>
          </p:nvGrpSpPr>
          <p:grpSpPr>
            <a:xfrm>
              <a:off x="762120" y="5373720"/>
              <a:ext cx="2001600" cy="646200"/>
              <a:chOff x="762120" y="5373720"/>
              <a:chExt cx="2001600" cy="64620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762120" y="5486400"/>
                <a:ext cx="2001600" cy="533520"/>
                <a:chOff x="762120" y="5486400"/>
                <a:chExt cx="2001600" cy="533520"/>
              </a:xfrm>
            </p:grpSpPr>
            <p:sp>
              <p:nvSpPr>
                <p:cNvPr id="673" name=""/>
                <p:cNvSpPr/>
                <p:nvPr/>
              </p:nvSpPr>
              <p:spPr>
                <a:xfrm flipH="1">
                  <a:off x="762120" y="5486400"/>
                  <a:ext cx="2001600" cy="533520"/>
                </a:xfrm>
                <a:prstGeom prst="rightArrow">
                  <a:avLst>
                    <a:gd name="adj1" fmla="val 59093"/>
                    <a:gd name="adj2" fmla="val 8885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4" name=""/>
                <p:cNvGrpSpPr/>
                <p:nvPr/>
              </p:nvGrpSpPr>
              <p:grpSpPr>
                <a:xfrm>
                  <a:off x="1228320" y="5629320"/>
                  <a:ext cx="1523160" cy="266760"/>
                  <a:chOff x="1228320" y="5629320"/>
                  <a:chExt cx="1523160" cy="26676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H="1">
                    <a:off x="2370600" y="5629320"/>
                    <a:ext cx="380520" cy="26676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>
                    <a:off x="1990080" y="5629320"/>
                    <a:ext cx="38088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>
                    <a:off x="1608480" y="562932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>
                    <a:off x="1227960" y="562932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9" name=""/>
              <p:cNvGrpSpPr/>
              <p:nvPr/>
            </p:nvGrpSpPr>
            <p:grpSpPr>
              <a:xfrm>
                <a:off x="1371600" y="5373720"/>
                <a:ext cx="1238400" cy="155520"/>
                <a:chOff x="1371600" y="5373720"/>
                <a:chExt cx="1238400" cy="155520"/>
              </a:xfrm>
            </p:grpSpPr>
            <p:grpSp>
              <p:nvGrpSpPr>
                <p:cNvPr id="680" name=""/>
                <p:cNvGrpSpPr/>
                <p:nvPr/>
              </p:nvGrpSpPr>
              <p:grpSpPr>
                <a:xfrm>
                  <a:off x="2533680" y="5376960"/>
                  <a:ext cx="76320" cy="152280"/>
                  <a:chOff x="2533680" y="5376960"/>
                  <a:chExt cx="76320" cy="15228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>
                    <a:off x="2533680" y="537696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H="1">
                    <a:off x="2533680" y="537696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3" name=""/>
                <p:cNvSpPr/>
                <p:nvPr/>
              </p:nvSpPr>
              <p:spPr>
                <a:xfrm>
                  <a:off x="1797120" y="537372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2184480" y="537372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5" name=""/>
                <p:cNvGrpSpPr/>
                <p:nvPr/>
              </p:nvGrpSpPr>
              <p:grpSpPr>
                <a:xfrm>
                  <a:off x="1371600" y="5376960"/>
                  <a:ext cx="76320" cy="152280"/>
                  <a:chOff x="1371600" y="5376960"/>
                  <a:chExt cx="76320" cy="15228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>
                    <a:off x="1371600" y="537696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H="1">
                    <a:off x="1371600" y="537696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88" name=""/>
          <p:cNvGrpSpPr/>
          <p:nvPr/>
        </p:nvGrpSpPr>
        <p:grpSpPr>
          <a:xfrm>
            <a:off x="5999040" y="1371600"/>
            <a:ext cx="2459160" cy="1143000"/>
            <a:chOff x="5999040" y="1371600"/>
            <a:chExt cx="2459160" cy="1143000"/>
          </a:xfrm>
        </p:grpSpPr>
        <p:grpSp>
          <p:nvGrpSpPr>
            <p:cNvPr id="689" name=""/>
            <p:cNvGrpSpPr/>
            <p:nvPr/>
          </p:nvGrpSpPr>
          <p:grpSpPr>
            <a:xfrm>
              <a:off x="6456240" y="1371600"/>
              <a:ext cx="2001960" cy="533520"/>
              <a:chOff x="6456240" y="1371600"/>
              <a:chExt cx="2001960" cy="533520"/>
            </a:xfrm>
          </p:grpSpPr>
          <p:sp>
            <p:nvSpPr>
              <p:cNvPr id="690" name=""/>
              <p:cNvSpPr/>
              <p:nvPr/>
            </p:nvSpPr>
            <p:spPr>
              <a:xfrm>
                <a:off x="6456240" y="1371600"/>
                <a:ext cx="2001960" cy="533520"/>
              </a:xfrm>
              <a:prstGeom prst="rightArrow">
                <a:avLst>
                  <a:gd name="adj1" fmla="val 59093"/>
                  <a:gd name="adj2" fmla="val 88875"/>
                </a:avLst>
              </a:prstGeom>
              <a:solidFill>
                <a:srgbClr val="57a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467400" y="14860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848280" y="1486080"/>
                <a:ext cx="381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229520" y="14860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10400" y="14860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5999040" y="1868400"/>
              <a:ext cx="2001600" cy="646200"/>
              <a:chOff x="5999040" y="1868400"/>
              <a:chExt cx="2001600" cy="64620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5999040" y="1981080"/>
                <a:ext cx="2001600" cy="533520"/>
                <a:chOff x="5999040" y="1981080"/>
                <a:chExt cx="2001600" cy="533520"/>
              </a:xfrm>
            </p:grpSpPr>
            <p:sp>
              <p:nvSpPr>
                <p:cNvPr id="697" name=""/>
                <p:cNvSpPr/>
                <p:nvPr/>
              </p:nvSpPr>
              <p:spPr>
                <a:xfrm flipH="1">
                  <a:off x="5999040" y="1981080"/>
                  <a:ext cx="2001600" cy="533520"/>
                </a:xfrm>
                <a:prstGeom prst="rightArrow">
                  <a:avLst>
                    <a:gd name="adj1" fmla="val 59093"/>
                    <a:gd name="adj2" fmla="val 8885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8" name=""/>
                <p:cNvGrpSpPr/>
                <p:nvPr/>
              </p:nvGrpSpPr>
              <p:grpSpPr>
                <a:xfrm>
                  <a:off x="6465240" y="2124000"/>
                  <a:ext cx="1523160" cy="266760"/>
                  <a:chOff x="6465240" y="2124000"/>
                  <a:chExt cx="1523160" cy="26676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 flipH="1">
                    <a:off x="760752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flipH="1">
                    <a:off x="7227000" y="2124000"/>
                    <a:ext cx="38088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flipH="1">
                    <a:off x="684540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H="1">
                    <a:off x="646488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3" name=""/>
              <p:cNvGrpSpPr/>
              <p:nvPr/>
            </p:nvGrpSpPr>
            <p:grpSpPr>
              <a:xfrm>
                <a:off x="6648120" y="1868400"/>
                <a:ext cx="1160640" cy="154080"/>
                <a:chOff x="6648120" y="1868400"/>
                <a:chExt cx="1160640" cy="15408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664812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703404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42140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808760" y="187020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8" name=""/>
          <p:cNvSpPr/>
          <p:nvPr/>
        </p:nvSpPr>
        <p:spPr>
          <a:xfrm>
            <a:off x="5562720" y="4680000"/>
            <a:ext cx="3276360" cy="156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pies in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ability of correlated errors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ration (with strand re-partnering) makes more rob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3828960" y="1454040"/>
            <a:ext cx="1447920" cy="493920"/>
            <a:chOff x="3828960" y="1454040"/>
            <a:chExt cx="1447920" cy="493920"/>
          </a:xfrm>
        </p:grpSpPr>
        <p:sp>
          <p:nvSpPr>
            <p:cNvPr id="710" name=""/>
            <p:cNvSpPr/>
            <p:nvPr/>
          </p:nvSpPr>
          <p:spPr>
            <a:xfrm>
              <a:off x="3828960" y="1947960"/>
              <a:ext cx="1447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56840" y="1454040"/>
              <a:ext cx="90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kee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999040" y="3124080"/>
            <a:ext cx="2459160" cy="1142640"/>
            <a:chOff x="5999040" y="3124080"/>
            <a:chExt cx="2459160" cy="1142640"/>
          </a:xfrm>
        </p:grpSpPr>
        <p:grpSp>
          <p:nvGrpSpPr>
            <p:cNvPr id="713" name=""/>
            <p:cNvGrpSpPr/>
            <p:nvPr/>
          </p:nvGrpSpPr>
          <p:grpSpPr>
            <a:xfrm>
              <a:off x="6456240" y="3124080"/>
              <a:ext cx="2001960" cy="533520"/>
              <a:chOff x="6456240" y="3124080"/>
              <a:chExt cx="2001960" cy="533520"/>
            </a:xfrm>
          </p:grpSpPr>
          <p:sp>
            <p:nvSpPr>
              <p:cNvPr id="714" name=""/>
              <p:cNvSpPr/>
              <p:nvPr/>
            </p:nvSpPr>
            <p:spPr>
              <a:xfrm>
                <a:off x="6456240" y="3124080"/>
                <a:ext cx="2001960" cy="533520"/>
              </a:xfrm>
              <a:prstGeom prst="rightArrow">
                <a:avLst>
                  <a:gd name="adj1" fmla="val 59093"/>
                  <a:gd name="adj2" fmla="val 88875"/>
                </a:avLst>
              </a:prstGeom>
              <a:solidFill>
                <a:srgbClr val="57a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467400" y="323856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848280" y="3238560"/>
                <a:ext cx="381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229520" y="323856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610400" y="323856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5999040" y="3621240"/>
              <a:ext cx="2001600" cy="645480"/>
              <a:chOff x="5999040" y="3621240"/>
              <a:chExt cx="2001600" cy="645480"/>
            </a:xfrm>
          </p:grpSpPr>
          <p:grpSp>
            <p:nvGrpSpPr>
              <p:cNvPr id="720" name=""/>
              <p:cNvGrpSpPr/>
              <p:nvPr/>
            </p:nvGrpSpPr>
            <p:grpSpPr>
              <a:xfrm>
                <a:off x="5999040" y="3733560"/>
                <a:ext cx="2001600" cy="533160"/>
                <a:chOff x="5999040" y="3733560"/>
                <a:chExt cx="2001600" cy="533160"/>
              </a:xfrm>
            </p:grpSpPr>
            <p:sp>
              <p:nvSpPr>
                <p:cNvPr id="721" name=""/>
                <p:cNvSpPr/>
                <p:nvPr/>
              </p:nvSpPr>
              <p:spPr>
                <a:xfrm flipH="1">
                  <a:off x="5999040" y="3733560"/>
                  <a:ext cx="2001600" cy="533160"/>
                </a:xfrm>
                <a:prstGeom prst="rightArrow">
                  <a:avLst>
                    <a:gd name="adj1" fmla="val 59093"/>
                    <a:gd name="adj2" fmla="val 8891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2" name=""/>
                <p:cNvGrpSpPr/>
                <p:nvPr/>
              </p:nvGrpSpPr>
              <p:grpSpPr>
                <a:xfrm>
                  <a:off x="6465240" y="3876120"/>
                  <a:ext cx="1523160" cy="266400"/>
                  <a:chOff x="6465240" y="3876120"/>
                  <a:chExt cx="1523160" cy="26640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 flipH="1">
                    <a:off x="7607520" y="387612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H="1">
                    <a:off x="7227000" y="3876120"/>
                    <a:ext cx="38088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>
                    <a:off x="6845400" y="387612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>
                    <a:off x="6464880" y="387612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7" name=""/>
              <p:cNvGrpSpPr/>
              <p:nvPr/>
            </p:nvGrpSpPr>
            <p:grpSpPr>
              <a:xfrm>
                <a:off x="6648120" y="3621240"/>
                <a:ext cx="1160640" cy="153360"/>
                <a:chOff x="6648120" y="3621240"/>
                <a:chExt cx="1160640" cy="15336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664812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703404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742140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7808760" y="3622680"/>
                  <a:ext cx="0" cy="1519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32" name=""/>
          <p:cNvGrpSpPr/>
          <p:nvPr/>
        </p:nvGrpSpPr>
        <p:grpSpPr>
          <a:xfrm>
            <a:off x="3828960" y="3211560"/>
            <a:ext cx="1447920" cy="493560"/>
            <a:chOff x="3828960" y="3211560"/>
            <a:chExt cx="1447920" cy="493560"/>
          </a:xfrm>
        </p:grpSpPr>
        <p:sp>
          <p:nvSpPr>
            <p:cNvPr id="733" name=""/>
            <p:cNvSpPr/>
            <p:nvPr/>
          </p:nvSpPr>
          <p:spPr>
            <a:xfrm>
              <a:off x="3828960" y="3705120"/>
              <a:ext cx="1447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057560" y="321156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ed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828960" y="4964040"/>
            <a:ext cx="1447920" cy="493920"/>
            <a:chOff x="3828960" y="4964040"/>
            <a:chExt cx="1447920" cy="493920"/>
          </a:xfrm>
        </p:grpSpPr>
        <p:sp>
          <p:nvSpPr>
            <p:cNvPr id="736" name=""/>
            <p:cNvSpPr/>
            <p:nvPr/>
          </p:nvSpPr>
          <p:spPr>
            <a:xfrm>
              <a:off x="3828960" y="5457960"/>
              <a:ext cx="1447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99160" y="4964040"/>
              <a:ext cx="120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remov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NA Error Correction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111240" y="1523880"/>
            <a:ext cx="3089160" cy="451656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289800" y="87480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bridization-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2767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30080" y="91440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match Binding/Rem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84560" y="91440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match Cleav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7213680" y="5334120"/>
            <a:ext cx="1371600" cy="533160"/>
            <a:chOff x="7213680" y="5334120"/>
            <a:chExt cx="1371600" cy="533160"/>
          </a:xfrm>
        </p:grpSpPr>
        <p:sp>
          <p:nvSpPr>
            <p:cNvPr id="745" name=""/>
            <p:cNvSpPr/>
            <p:nvPr/>
          </p:nvSpPr>
          <p:spPr>
            <a:xfrm>
              <a:off x="7213680" y="533412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13680" y="560052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213680" y="586728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7213680" y="1371600"/>
            <a:ext cx="1371600" cy="677880"/>
            <a:chOff x="7213680" y="1371600"/>
            <a:chExt cx="1371600" cy="677880"/>
          </a:xfrm>
        </p:grpSpPr>
        <p:grpSp>
          <p:nvGrpSpPr>
            <p:cNvPr id="749" name=""/>
            <p:cNvGrpSpPr/>
            <p:nvPr/>
          </p:nvGrpSpPr>
          <p:grpSpPr>
            <a:xfrm>
              <a:off x="7213680" y="1447560"/>
              <a:ext cx="1371600" cy="533520"/>
              <a:chOff x="7213680" y="1447560"/>
              <a:chExt cx="1371600" cy="533520"/>
            </a:xfrm>
          </p:grpSpPr>
          <p:sp>
            <p:nvSpPr>
              <p:cNvPr id="750" name=""/>
              <p:cNvSpPr/>
              <p:nvPr/>
            </p:nvSpPr>
            <p:spPr>
              <a:xfrm>
                <a:off x="7213680" y="1447560"/>
                <a:ext cx="1371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13680" y="1714320"/>
                <a:ext cx="1371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213680" y="1981080"/>
                <a:ext cx="1371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7450200" y="1912680"/>
              <a:ext cx="136440" cy="136800"/>
            </a:xfrm>
            <a:prstGeom prst="flowChartSummingJunction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356680" y="1371600"/>
              <a:ext cx="136440" cy="136440"/>
            </a:xfrm>
            <a:prstGeom prst="flowChartSummingJunction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75560" y="1652400"/>
              <a:ext cx="136440" cy="136440"/>
            </a:xfrm>
            <a:prstGeom prst="flowChartSummingJunction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7899480" y="218448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899480" y="352584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7213680" y="2624040"/>
            <a:ext cx="1371600" cy="766440"/>
            <a:chOff x="7213680" y="2624040"/>
            <a:chExt cx="1371600" cy="766440"/>
          </a:xfrm>
        </p:grpSpPr>
        <p:grpSp>
          <p:nvGrpSpPr>
            <p:cNvPr id="759" name=""/>
            <p:cNvGrpSpPr/>
            <p:nvPr/>
          </p:nvGrpSpPr>
          <p:grpSpPr>
            <a:xfrm>
              <a:off x="7213680" y="2668320"/>
              <a:ext cx="1371600" cy="677880"/>
              <a:chOff x="7213680" y="2668320"/>
              <a:chExt cx="1371600" cy="67788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7213680" y="2744280"/>
                <a:ext cx="1371600" cy="533520"/>
                <a:chOff x="7213680" y="2744280"/>
                <a:chExt cx="1371600" cy="5335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7213680" y="274428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213680" y="301104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7213680" y="327780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" name=""/>
              <p:cNvSpPr/>
              <p:nvPr/>
            </p:nvSpPr>
            <p:spPr>
              <a:xfrm>
                <a:off x="7450200" y="3209400"/>
                <a:ext cx="136440" cy="13680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356680" y="2668320"/>
                <a:ext cx="136440" cy="13644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75560" y="2949120"/>
                <a:ext cx="136440" cy="13644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>
              <a:off x="8331120" y="2624040"/>
              <a:ext cx="0" cy="2286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37560" y="2889000"/>
              <a:ext cx="0" cy="2286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424640" y="3161880"/>
              <a:ext cx="0" cy="2286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213680" y="3965400"/>
            <a:ext cx="1371600" cy="793800"/>
            <a:chOff x="7213680" y="3965400"/>
            <a:chExt cx="1371600" cy="793800"/>
          </a:xfrm>
        </p:grpSpPr>
        <p:grpSp>
          <p:nvGrpSpPr>
            <p:cNvPr id="771" name=""/>
            <p:cNvGrpSpPr/>
            <p:nvPr/>
          </p:nvGrpSpPr>
          <p:grpSpPr>
            <a:xfrm>
              <a:off x="7213680" y="4005000"/>
              <a:ext cx="1371600" cy="677880"/>
              <a:chOff x="7213680" y="4005000"/>
              <a:chExt cx="1371600" cy="677880"/>
            </a:xfrm>
          </p:grpSpPr>
          <p:grpSp>
            <p:nvGrpSpPr>
              <p:cNvPr id="772" name=""/>
              <p:cNvGrpSpPr/>
              <p:nvPr/>
            </p:nvGrpSpPr>
            <p:grpSpPr>
              <a:xfrm>
                <a:off x="7213680" y="4080960"/>
                <a:ext cx="1371600" cy="533520"/>
                <a:chOff x="7213680" y="4080960"/>
                <a:chExt cx="1371600" cy="5335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213680" y="408096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213680" y="434772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7213680" y="461448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" name=""/>
              <p:cNvSpPr/>
              <p:nvPr/>
            </p:nvSpPr>
            <p:spPr>
              <a:xfrm>
                <a:off x="7450200" y="4546080"/>
                <a:ext cx="136440" cy="13680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56680" y="4005000"/>
                <a:ext cx="136440" cy="13644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75560" y="4285800"/>
                <a:ext cx="136440" cy="13644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>
              <a:off x="7391520" y="4530600"/>
              <a:ext cx="304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620120" y="4225680"/>
              <a:ext cx="304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229600" y="3965400"/>
              <a:ext cx="304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7899480" y="48942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2940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3757680" y="1447920"/>
            <a:ext cx="2381760" cy="4540680"/>
            <a:chOff x="3757680" y="1447920"/>
            <a:chExt cx="2381760" cy="4540680"/>
          </a:xfrm>
        </p:grpSpPr>
        <p:grpSp>
          <p:nvGrpSpPr>
            <p:cNvPr id="785" name=""/>
            <p:cNvGrpSpPr/>
            <p:nvPr/>
          </p:nvGrpSpPr>
          <p:grpSpPr>
            <a:xfrm>
              <a:off x="3890520" y="5376600"/>
              <a:ext cx="1600560" cy="107640"/>
              <a:chOff x="3890520" y="5376600"/>
              <a:chExt cx="1600560" cy="107640"/>
            </a:xfrm>
          </p:grpSpPr>
          <p:sp>
            <p:nvSpPr>
              <p:cNvPr id="786" name=""/>
              <p:cNvSpPr/>
              <p:nvPr/>
            </p:nvSpPr>
            <p:spPr>
              <a:xfrm>
                <a:off x="3890880" y="5376600"/>
                <a:ext cx="1600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3890520" y="5484240"/>
                <a:ext cx="1600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3887280" y="1447920"/>
              <a:ext cx="1607040" cy="651600"/>
              <a:chOff x="3887280" y="1447920"/>
              <a:chExt cx="1607040" cy="651600"/>
            </a:xfrm>
          </p:grpSpPr>
          <p:grpSp>
            <p:nvGrpSpPr>
              <p:cNvPr id="789" name=""/>
              <p:cNvGrpSpPr/>
              <p:nvPr/>
            </p:nvGrpSpPr>
            <p:grpSpPr>
              <a:xfrm>
                <a:off x="3893760" y="1563480"/>
                <a:ext cx="1600560" cy="107280"/>
                <a:chOff x="3893760" y="1563480"/>
                <a:chExt cx="1600560" cy="10728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3894120" y="1563480"/>
                  <a:ext cx="1600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>
                  <a:off x="3893760" y="1670760"/>
                  <a:ext cx="16002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3887280" y="1991880"/>
                <a:ext cx="1600560" cy="107640"/>
                <a:chOff x="3887280" y="1991880"/>
                <a:chExt cx="1600560" cy="1076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3887640" y="1991880"/>
                  <a:ext cx="1600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>
                  <a:off x="3887280" y="2099520"/>
                  <a:ext cx="16002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4332240" y="1447920"/>
                <a:ext cx="109440" cy="10908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4691160" y="23284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931640" y="252720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nd M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887280" y="3232080"/>
              <a:ext cx="1607040" cy="738720"/>
              <a:chOff x="3887280" y="3232080"/>
              <a:chExt cx="1607040" cy="738720"/>
            </a:xfrm>
          </p:grpSpPr>
          <p:sp>
            <p:nvSpPr>
              <p:cNvPr id="799" name=""/>
              <p:cNvSpPr/>
              <p:nvPr/>
            </p:nvSpPr>
            <p:spPr>
              <a:xfrm>
                <a:off x="4192560" y="3232080"/>
                <a:ext cx="380880" cy="456840"/>
              </a:xfrm>
              <a:custGeom>
                <a:avLst/>
                <a:gdLst>
                  <a:gd name="textAreaLeft" fmla="*/ 43920 w 380880"/>
                  <a:gd name="textAreaRight" fmla="*/ 336960 w 380880"/>
                  <a:gd name="textAreaTop" fmla="*/ 43920 h 456840"/>
                  <a:gd name="textAreaBottom" fmla="*/ 412920 h 456840"/>
                </a:gdLst>
                <a:ahLst/>
                <a:rect l="textAreaLeft" t="textAreaTop" r="textAreaRight" b="textAreaBottom"/>
                <a:pathLst>
                  <a:path w="21600" h="25904">
                    <a:moveTo>
                      <a:pt x="8550" y="0"/>
                    </a:moveTo>
                    <a:arcTo wR="8550" hR="8550" stAng="16200000" swAng="-5400000"/>
                    <a:lnTo>
                      <a:pt x="0" y="17354"/>
                    </a:lnTo>
                    <a:arcTo wR="8550" hR="8550" stAng="10800000" swAng="-5400000"/>
                    <a:lnTo>
                      <a:pt x="13050" y="25904"/>
                    </a:lnTo>
                    <a:arcTo wR="8550" hR="8550" stAng="5400000" swAng="-5400000"/>
                    <a:lnTo>
                      <a:pt x="21600" y="8550"/>
                    </a:lnTo>
                    <a:arcTo wR="8550" hR="8550" stAng="0" swAng="-5400000"/>
                    <a:close/>
                  </a:path>
                </a:pathLst>
              </a:custGeom>
              <a:solidFill>
                <a:srgbClr val="8ffd7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"/>
              <p:cNvGrpSpPr/>
              <p:nvPr/>
            </p:nvGrpSpPr>
            <p:grpSpPr>
              <a:xfrm>
                <a:off x="3887280" y="3319200"/>
                <a:ext cx="1607040" cy="651600"/>
                <a:chOff x="3887280" y="3319200"/>
                <a:chExt cx="1607040" cy="651600"/>
              </a:xfrm>
            </p:grpSpPr>
            <p:grpSp>
              <p:nvGrpSpPr>
                <p:cNvPr id="801" name=""/>
                <p:cNvGrpSpPr/>
                <p:nvPr/>
              </p:nvGrpSpPr>
              <p:grpSpPr>
                <a:xfrm>
                  <a:off x="3893760" y="3434760"/>
                  <a:ext cx="1600560" cy="107280"/>
                  <a:chOff x="3893760" y="3434760"/>
                  <a:chExt cx="1600560" cy="10728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>
                    <a:off x="3894120" y="3434760"/>
                    <a:ext cx="1600200" cy="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>
                    <a:off x="3893760" y="3542040"/>
                    <a:ext cx="160020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3887280" y="3863160"/>
                  <a:ext cx="1600560" cy="107640"/>
                  <a:chOff x="3887280" y="3863160"/>
                  <a:chExt cx="1600560" cy="10764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3887640" y="3863160"/>
                    <a:ext cx="1600200" cy="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>
                    <a:off x="3887280" y="3970800"/>
                    <a:ext cx="160020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7" name=""/>
                <p:cNvSpPr/>
                <p:nvPr/>
              </p:nvSpPr>
              <p:spPr>
                <a:xfrm>
                  <a:off x="4332240" y="3319200"/>
                  <a:ext cx="109440" cy="109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8" name=""/>
            <p:cNvSpPr/>
            <p:nvPr/>
          </p:nvSpPr>
          <p:spPr>
            <a:xfrm>
              <a:off x="4691160" y="423360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31280" y="4198680"/>
              <a:ext cx="1157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tS +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sma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57680" y="5651280"/>
              <a:ext cx="18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error-free D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492120" y="6400800"/>
            <a:ext cx="217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Natu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07720" y="6400800"/>
            <a:ext cx="19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N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549120" y="6400800"/>
            <a:ext cx="24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th &amp; Modrich PNAS 94 (199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457200" y="1523880"/>
            <a:ext cx="8400960" cy="2797920"/>
            <a:chOff x="457200" y="1523880"/>
            <a:chExt cx="8400960" cy="2797920"/>
          </a:xfrm>
        </p:grpSpPr>
        <p:grpSp>
          <p:nvGrpSpPr>
            <p:cNvPr id="815" name=""/>
            <p:cNvGrpSpPr/>
            <p:nvPr/>
          </p:nvGrpSpPr>
          <p:grpSpPr>
            <a:xfrm>
              <a:off x="457200" y="1523880"/>
              <a:ext cx="3179880" cy="2797920"/>
              <a:chOff x="457200" y="1523880"/>
              <a:chExt cx="3179880" cy="2797920"/>
            </a:xfrm>
          </p:grpSpPr>
          <p:pic>
            <p:nvPicPr>
              <p:cNvPr id="8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1523880"/>
                <a:ext cx="3179880" cy="206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"/>
              <p:cNvSpPr/>
              <p:nvPr/>
            </p:nvSpPr>
            <p:spPr>
              <a:xfrm>
                <a:off x="512640" y="3618000"/>
                <a:ext cx="3068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kjet-printed microarray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e.g. Agilen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3981600" y="1576440"/>
              <a:ext cx="4876560" cy="2745360"/>
              <a:chOff x="3981600" y="1576440"/>
              <a:chExt cx="4876560" cy="2745360"/>
            </a:xfrm>
          </p:grpSpPr>
          <p:pic>
            <p:nvPicPr>
              <p:cNvPr id="819" name="" descr=""/>
              <p:cNvPicPr/>
              <p:nvPr/>
            </p:nvPicPr>
            <p:blipFill>
              <a:blip r:embed="rId2"/>
              <a:srcRect l="0" t="-2505" r="-2392" b="71120"/>
              <a:stretch/>
            </p:blipFill>
            <p:spPr>
              <a:xfrm>
                <a:off x="3981600" y="1576440"/>
                <a:ext cx="4876560" cy="1905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820" name=""/>
              <p:cNvSpPr/>
              <p:nvPr/>
            </p:nvSpPr>
            <p:spPr>
              <a:xfrm>
                <a:off x="4791240" y="3618000"/>
                <a:ext cx="3257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skless array synthesiz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e.g. Nimblegen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igh Density Oligonucleotide Microarrays</a:t>
            </a:r>
            <a:br>
              <a:rPr sz="3200"/>
            </a:br>
            <a:r>
              <a:rPr b="0" i="1" lang="en-US" sz="2600" spc="-1" strike="noStrike">
                <a:solidFill>
                  <a:srgbClr val="0099ff"/>
                </a:solidFill>
                <a:latin typeface="Trebuchet MS"/>
              </a:rPr>
              <a:t>a massive feedstock of  DNA building b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30320" y="4648320"/>
            <a:ext cx="8898480" cy="825480"/>
            <a:chOff x="130320" y="4648320"/>
            <a:chExt cx="8898480" cy="825480"/>
          </a:xfrm>
        </p:grpSpPr>
        <p:sp>
          <p:nvSpPr>
            <p:cNvPr id="823" name=""/>
            <p:cNvSpPr/>
            <p:nvPr/>
          </p:nvSpPr>
          <p:spPr>
            <a:xfrm>
              <a:off x="6022440" y="4648320"/>
              <a:ext cx="300636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&gt;1000x reduction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oligonucleotide c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30320" y="4648320"/>
              <a:ext cx="23842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&gt;10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oligos 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icroar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85760" y="4648320"/>
              <a:ext cx="2754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&gt;5 megab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of DNA 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04520" y="4805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38320" y="4805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371160" y="5791320"/>
            <a:ext cx="8114760" cy="825480"/>
            <a:chOff x="371160" y="5791320"/>
            <a:chExt cx="8114760" cy="825480"/>
          </a:xfrm>
        </p:grpSpPr>
        <p:sp>
          <p:nvSpPr>
            <p:cNvPr id="829" name=""/>
            <p:cNvSpPr/>
            <p:nvPr/>
          </p:nvSpPr>
          <p:spPr>
            <a:xfrm>
              <a:off x="371160" y="5791320"/>
              <a:ext cx="811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an &amp; Church (2004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600 oligos            21 genes            15 kb construc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43240" y="6400800"/>
              <a:ext cx="533520" cy="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486400" y="6400800"/>
              <a:ext cx="533520" cy="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2:28:55Z</dcterms:created>
  <dc:creator>Peter Carr</dc:creator>
  <dc:description/>
  <dc:language>en-US</dc:language>
  <cp:lastModifiedBy>Sunkong</cp:lastModifiedBy>
  <dcterms:modified xsi:type="dcterms:W3CDTF">2007-05-24T13:15:39Z</dcterms:modified>
  <cp:revision>71</cp:revision>
  <dc:subject/>
  <dc:title>PowerPoint Presentation</dc:title>
</cp:coreProperties>
</file>