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jpeg" ContentType="image/jpeg"/>
  <Override PartName="/ppt/media/image30.jpeg" ContentType="image/jpe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32.jpeg" ContentType="image/jpeg"/>
  <Override PartName="/ppt/media/image72.png" ContentType="image/png"/>
  <Override PartName="/ppt/media/image29.jpeg" ContentType="image/jpeg"/>
  <Override PartName="/ppt/media/image71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81.png" ContentType="image/png"/>
  <Override PartName="/ppt/media/image16.png" ContentType="image/png"/>
  <Override PartName="/ppt/media/image4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3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25B4-695B-4B25-87D7-FCD06963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44E7-8A5A-450C-8FEB-6C5A2676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84CE-45D5-400E-9AA1-076F9606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9A43-970F-42FB-81D5-6568ABE1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1270-ADE0-44ED-A6DE-A1C86159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BDDF-3C50-4E57-96B3-8A8A92F6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FFBD-0675-4B8B-8330-7C463797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A96-1951-49CA-958D-28BC42A3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DB69-D412-4BA4-9589-542E73CD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01A-B0E6-4EA1-9B2F-108E0CCA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979-E8B6-4CC7-A6B9-68CDF0E4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9747-BEA7-4BB3-8A46-6A8607BD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E71E-3190-44D8-941A-1F918BB4F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7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6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9.png"/><Relationship Id="rId8" Type="http://schemas.openxmlformats.org/officeDocument/2006/relationships/image" Target="../media/image60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image" Target="../media/image73.pn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67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68.png"/><Relationship Id="rId6" Type="http://schemas.openxmlformats.org/officeDocument/2006/relationships/image" Target="../media/image75.png"/><Relationship Id="rId7" Type="http://schemas.openxmlformats.org/officeDocument/2006/relationships/image" Target="../media/image65.png"/><Relationship Id="rId8" Type="http://schemas.openxmlformats.org/officeDocument/2006/relationships/image" Target="../media/image66.png"/><Relationship Id="rId9" Type="http://schemas.openxmlformats.org/officeDocument/2006/relationships/image" Target="../media/image64.png"/><Relationship Id="rId10" Type="http://schemas.openxmlformats.org/officeDocument/2006/relationships/image" Target="../media/image72.png"/><Relationship Id="rId11" Type="http://schemas.openxmlformats.org/officeDocument/2006/relationships/image" Target="../media/image73.png"/><Relationship Id="rId1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png"/><Relationship Id="rId3" Type="http://schemas.openxmlformats.org/officeDocument/2006/relationships/image" Target="../media/image76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e-Space Representations and their Applications to 3D Matching of Solid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123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mitriy Bespalo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Ali Shokoufande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iam C. Regl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†‡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 Su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Computer Scienc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Mechanical Engineering &amp; Mechanic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 of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exel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41 Chestnut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adelphia, PA 191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696080" y="5754600"/>
          <a:ext cx="1371600" cy="10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754600"/>
                    <a:ext cx="137160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1280" y="5791320"/>
            <a:ext cx="9334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Scale Space Represen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nified framework for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features can be parameterized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scale space decom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, manufacturing, topology or shape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 &amp; consistent across noisy and diverse data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682720" y="4105440"/>
            <a:ext cx="3984840" cy="2058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603520" y="4230720"/>
            <a:ext cx="4097160" cy="1933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505240" y="4356000"/>
            <a:ext cx="4159080" cy="1808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443320" y="4468680"/>
            <a:ext cx="4221000" cy="1695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2679840" y="4178160"/>
            <a:ext cx="3984480" cy="2059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2682720" y="3968640"/>
            <a:ext cx="398484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500"/>
                            </p:stCondLst>
                            <p:childTnLst>
                              <p:par>
                                <p:cTn id="153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072200" y="3446640"/>
            <a:ext cx="1766880" cy="896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ach to Scale Space Matching of Soli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CA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polyhedr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geometry-based de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a segmentation into “featur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hierarchical “feature”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ular value de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hierarchical matching to compare 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872480" y="1981080"/>
            <a:ext cx="585720" cy="914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943600" y="1981080"/>
            <a:ext cx="888840" cy="914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0" y="243828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371600" y="5478480"/>
            <a:ext cx="693900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021440" y="3957480"/>
            <a:ext cx="1741680" cy="2519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780160" y="1681200"/>
            <a:ext cx="2144520" cy="2128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192640" y="3987720"/>
            <a:ext cx="1347840" cy="24894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 Note: Compare Feature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cale Spa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D/C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52280" y="2438280"/>
            <a:ext cx="4267440" cy="3017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800600" y="10666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10666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 Overview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828800"/>
            <a:ext cx="82296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mod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mpute mesh representa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asurement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hortest path (approx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every two points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captured in a pair-wi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matri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imilar to approximation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desic distance meas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Hilaga in SIGGRAPH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29760" y="5486400"/>
            <a:ext cx="948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(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479920" y="2286000"/>
            <a:ext cx="586080" cy="914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930320" y="2286000"/>
            <a:ext cx="889200" cy="914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352680" y="2743200"/>
            <a:ext cx="17528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7039080" y="3352680"/>
            <a:ext cx="1031760" cy="2133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019920" y="3352680"/>
            <a:ext cx="1019160" cy="2133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066000" y="3429000"/>
            <a:ext cx="71568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4572000"/>
            <a:ext cx="304560" cy="7621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 Overview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0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om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components relevant using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ngular value decom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distance matrix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this create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uster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angle between a vector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basis vecto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-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3838680"/>
            <a:ext cx="3200400" cy="2724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772400" y="2523960"/>
            <a:ext cx="1066680" cy="885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7772400" y="3514680"/>
            <a:ext cx="1066680" cy="885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7772400" y="4705200"/>
            <a:ext cx="1066680" cy="885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7772400" y="5743440"/>
            <a:ext cx="1066680" cy="885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V="1">
            <a:off x="7078680" y="2814120"/>
            <a:ext cx="67320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78680" y="3549600"/>
            <a:ext cx="61740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078680" y="5025600"/>
            <a:ext cx="67320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78680" y="5761080"/>
            <a:ext cx="61740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937120" y="3912840"/>
            <a:ext cx="67320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37120" y="4648320"/>
            <a:ext cx="61776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6230880" y="2994120"/>
            <a:ext cx="1049400" cy="873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6230880" y="5230800"/>
            <a:ext cx="1050840" cy="873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5114880" y="4116240"/>
            <a:ext cx="1049400" cy="8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9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 Overview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 Recursi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ature decom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two principle components creates binary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ature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724280" y="3260880"/>
            <a:ext cx="4267440" cy="3016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15000" y="62326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 tree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28600" y="3260880"/>
            <a:ext cx="4267080" cy="3017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09480" y="62326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 tree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_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 Overview (I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828800"/>
            <a:ext cx="83822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ompare feature trees (bottom up dynamic programming) using sub-tree edit d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Calcul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del simila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sed on an overall similarity of matched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04920" y="4168800"/>
            <a:ext cx="3657600" cy="2246040"/>
            <a:chOff x="304920" y="4168800"/>
            <a:chExt cx="3657600" cy="224604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304920" y="4172760"/>
              <a:ext cx="3657600" cy="224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1054440" y="5822640"/>
              <a:ext cx="26604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1725840" y="5754960"/>
              <a:ext cx="1346760" cy="1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4"/>
            <a:stretch/>
          </p:blipFill>
          <p:spPr>
            <a:xfrm>
              <a:off x="1590120" y="5224320"/>
              <a:ext cx="1680120" cy="18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5"/>
            <a:stretch/>
          </p:blipFill>
          <p:spPr>
            <a:xfrm>
              <a:off x="1886400" y="4683600"/>
              <a:ext cx="1053360" cy="1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6"/>
            <a:stretch/>
          </p:blipFill>
          <p:spPr>
            <a:xfrm>
              <a:off x="1738440" y="4168800"/>
              <a:ext cx="1315800" cy="15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"/>
          <p:cNvGrpSpPr/>
          <p:nvPr/>
        </p:nvGrpSpPr>
        <p:grpSpPr>
          <a:xfrm>
            <a:off x="4114800" y="4129200"/>
            <a:ext cx="4772160" cy="2425320"/>
            <a:chOff x="4114800" y="4129200"/>
            <a:chExt cx="4772160" cy="2425320"/>
          </a:xfrm>
        </p:grpSpPr>
        <p:pic>
          <p:nvPicPr>
            <p:cNvPr id="185" name="" descr=""/>
            <p:cNvPicPr/>
            <p:nvPr/>
          </p:nvPicPr>
          <p:blipFill>
            <a:blip r:embed="rId7"/>
            <a:stretch/>
          </p:blipFill>
          <p:spPr>
            <a:xfrm>
              <a:off x="6524640" y="4129200"/>
              <a:ext cx="2362320" cy="20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7143840" y="61862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wi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8"/>
            <a:stretch/>
          </p:blipFill>
          <p:spPr>
            <a:xfrm>
              <a:off x="4114800" y="4129200"/>
              <a:ext cx="2340000" cy="20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250160" y="6186240"/>
              <a:ext cx="21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imple_bra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8160" y="4509720"/>
              <a:ext cx="26701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29320" y="4357440"/>
              <a:ext cx="26701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86200" y="4814640"/>
              <a:ext cx="283068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00760" y="5652720"/>
              <a:ext cx="26701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13240" y="5271840"/>
              <a:ext cx="23623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70760" y="4966920"/>
              <a:ext cx="228096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3960" y="4205160"/>
              <a:ext cx="22129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ic 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ection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D decomposition tak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hedral representation creates a planar graph (2D manifold); if only neighboring vertices are used in construction of the distance matrix, SVD decomposition is faster and tak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match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number of nodes in the graph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branching factor (e.g.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038480" y="4495680"/>
                <a:ext cx="312444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826240" y="3465360"/>
            <a:ext cx="3066840" cy="3157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818320" y="3459240"/>
            <a:ext cx="3074760" cy="31636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797440" y="3446640"/>
            <a:ext cx="3095640" cy="3186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85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“technique’s performance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technique to distinguish between human-defined categ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distance matrix for illustration of experimenta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363640" y="2997000"/>
            <a:ext cx="462240" cy="3632400"/>
            <a:chOff x="5363640" y="2997000"/>
            <a:chExt cx="462240" cy="3632400"/>
          </a:xfrm>
        </p:grpSpPr>
        <p:grpSp>
          <p:nvGrpSpPr>
            <p:cNvPr id="205" name=""/>
            <p:cNvGrpSpPr/>
            <p:nvPr/>
          </p:nvGrpSpPr>
          <p:grpSpPr>
            <a:xfrm>
              <a:off x="5651280" y="4048200"/>
              <a:ext cx="174600" cy="2581200"/>
              <a:chOff x="5651280" y="4048200"/>
              <a:chExt cx="174600" cy="2581200"/>
            </a:xfrm>
          </p:grpSpPr>
          <p:sp>
            <p:nvSpPr>
              <p:cNvPr id="206" name=""/>
              <p:cNvSpPr/>
              <p:nvPr/>
            </p:nvSpPr>
            <p:spPr>
              <a:xfrm flipH="1">
                <a:off x="5651280" y="4054680"/>
                <a:ext cx="17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651640" y="4048200"/>
                <a:ext cx="0" cy="258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5651280" y="6620040"/>
                <a:ext cx="17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363640" y="2997000"/>
              <a:ext cx="287640" cy="2376720"/>
              <a:chOff x="5363640" y="2997000"/>
              <a:chExt cx="287640" cy="2376720"/>
            </a:xfrm>
          </p:grpSpPr>
          <p:sp>
            <p:nvSpPr>
              <p:cNvPr id="210" name=""/>
              <p:cNvSpPr/>
              <p:nvPr/>
            </p:nvSpPr>
            <p:spPr>
              <a:xfrm flipH="1">
                <a:off x="5363640" y="5373720"/>
                <a:ext cx="28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364000" y="2997000"/>
                <a:ext cx="0" cy="237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364000" y="299736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5654880" y="281304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in the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311880" y="3179880"/>
            <a:ext cx="2581200" cy="285120"/>
            <a:chOff x="6311880" y="3179880"/>
            <a:chExt cx="2581200" cy="285120"/>
          </a:xfrm>
        </p:grpSpPr>
        <p:grpSp>
          <p:nvGrpSpPr>
            <p:cNvPr id="215" name=""/>
            <p:cNvGrpSpPr/>
            <p:nvPr/>
          </p:nvGrpSpPr>
          <p:grpSpPr>
            <a:xfrm>
              <a:off x="6311880" y="3290400"/>
              <a:ext cx="2581200" cy="174600"/>
              <a:chOff x="6311880" y="3290400"/>
              <a:chExt cx="2581200" cy="174600"/>
            </a:xfrm>
          </p:grpSpPr>
          <p:sp>
            <p:nvSpPr>
              <p:cNvPr id="216" name=""/>
              <p:cNvSpPr/>
              <p:nvPr/>
            </p:nvSpPr>
            <p:spPr>
              <a:xfrm flipV="1">
                <a:off x="8886600" y="3290400"/>
                <a:ext cx="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6311880" y="3290760"/>
                <a:ext cx="2581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6321240" y="3290400"/>
                <a:ext cx="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 flipV="1">
              <a:off x="7559640" y="3179880"/>
              <a:ext cx="0" cy="11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985080" y="3465360"/>
            <a:ext cx="682560" cy="588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89440" y="5432400"/>
            <a:ext cx="682920" cy="588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85080" y="5408640"/>
            <a:ext cx="682560" cy="588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003280" y="6070320"/>
            <a:ext cx="2305080" cy="262080"/>
            <a:chOff x="5003280" y="6070320"/>
            <a:chExt cx="2305080" cy="262080"/>
          </a:xfrm>
        </p:grpSpPr>
        <p:sp>
          <p:nvSpPr>
            <p:cNvPr id="224" name=""/>
            <p:cNvSpPr/>
            <p:nvPr/>
          </p:nvSpPr>
          <p:spPr>
            <a:xfrm flipV="1">
              <a:off x="7302600" y="6070320"/>
              <a:ext cx="0" cy="261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003280" y="6332400"/>
              <a:ext cx="2305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013040" y="6154560"/>
            <a:ext cx="38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ity value between two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226120" y="5265720"/>
            <a:ext cx="1398600" cy="50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219640" y="5769000"/>
            <a:ext cx="1873440" cy="10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71240" y="5513400"/>
            <a:ext cx="29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ker regions correspo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igher similarity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003280" y="4160880"/>
            <a:ext cx="735120" cy="1274760"/>
            <a:chOff x="5003280" y="4160880"/>
            <a:chExt cx="735120" cy="1274760"/>
          </a:xfrm>
        </p:grpSpPr>
        <p:grpSp>
          <p:nvGrpSpPr>
            <p:cNvPr id="231" name=""/>
            <p:cNvGrpSpPr/>
            <p:nvPr/>
          </p:nvGrpSpPr>
          <p:grpSpPr>
            <a:xfrm>
              <a:off x="5563800" y="4160880"/>
              <a:ext cx="174600" cy="1212840"/>
              <a:chOff x="5563800" y="4160880"/>
              <a:chExt cx="174600" cy="1212840"/>
            </a:xfrm>
          </p:grpSpPr>
          <p:sp>
            <p:nvSpPr>
              <p:cNvPr id="232" name=""/>
              <p:cNvSpPr/>
              <p:nvPr/>
            </p:nvSpPr>
            <p:spPr>
              <a:xfrm flipH="1">
                <a:off x="5563800" y="4163760"/>
                <a:ext cx="17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564160" y="4160880"/>
                <a:ext cx="0" cy="121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5563800" y="5369400"/>
                <a:ext cx="17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 flipH="1">
              <a:off x="5003280" y="4797360"/>
              <a:ext cx="56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03640" y="4797360"/>
              <a:ext cx="0" cy="6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225760" y="5432400"/>
            <a:ext cx="512640" cy="1212840"/>
            <a:chOff x="5225760" y="5432400"/>
            <a:chExt cx="512640" cy="1212840"/>
          </a:xfrm>
        </p:grpSpPr>
        <p:grpSp>
          <p:nvGrpSpPr>
            <p:cNvPr id="238" name=""/>
            <p:cNvGrpSpPr/>
            <p:nvPr/>
          </p:nvGrpSpPr>
          <p:grpSpPr>
            <a:xfrm>
              <a:off x="5563800" y="5432400"/>
              <a:ext cx="174600" cy="1212840"/>
              <a:chOff x="5563800" y="5432400"/>
              <a:chExt cx="174600" cy="1212840"/>
            </a:xfrm>
          </p:grpSpPr>
          <p:sp>
            <p:nvSpPr>
              <p:cNvPr id="239" name=""/>
              <p:cNvSpPr/>
              <p:nvPr/>
            </p:nvSpPr>
            <p:spPr>
              <a:xfrm flipH="1">
                <a:off x="5563800" y="5435280"/>
                <a:ext cx="17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64160" y="5432400"/>
                <a:ext cx="0" cy="121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5563800" y="6640920"/>
                <a:ext cx="17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 flipH="1">
              <a:off x="5225760" y="6021360"/>
              <a:ext cx="33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380680" y="563076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grouped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32520" y="615456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able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06960" y="4868640"/>
            <a:ext cx="1866960" cy="1409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100480" y="6070320"/>
            <a:ext cx="3071880" cy="315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set of 40 CAD model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different 10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based on engineer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specifically their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04920" y="1219320"/>
            <a:ext cx="8555040" cy="5506920"/>
            <a:chOff x="304920" y="1219320"/>
            <a:chExt cx="8555040" cy="550692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6686640" y="1219320"/>
              <a:ext cx="2173320" cy="16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7162920" y="5049720"/>
              <a:ext cx="136368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3"/>
            <a:stretch/>
          </p:blipFill>
          <p:spPr>
            <a:xfrm>
              <a:off x="5683320" y="5049720"/>
              <a:ext cx="13381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4"/>
            <a:stretch/>
          </p:blipFill>
          <p:spPr>
            <a:xfrm>
              <a:off x="304920" y="3605040"/>
              <a:ext cx="2422440" cy="29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5"/>
            <a:stretch/>
          </p:blipFill>
          <p:spPr>
            <a:xfrm>
              <a:off x="6005520" y="3605040"/>
              <a:ext cx="1231920" cy="12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6"/>
            <a:stretch/>
          </p:blipFill>
          <p:spPr>
            <a:xfrm>
              <a:off x="7391520" y="3000240"/>
              <a:ext cx="1406520" cy="185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7"/>
            <a:stretch/>
          </p:blipFill>
          <p:spPr>
            <a:xfrm>
              <a:off x="2803680" y="3605040"/>
              <a:ext cx="1334880" cy="12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8"/>
            <a:stretch/>
          </p:blipFill>
          <p:spPr>
            <a:xfrm>
              <a:off x="4267080" y="3605040"/>
              <a:ext cx="1582920" cy="12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9"/>
            <a:stretch/>
          </p:blipFill>
          <p:spPr>
            <a:xfrm>
              <a:off x="2803680" y="5033880"/>
              <a:ext cx="136980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10"/>
            <a:stretch/>
          </p:blipFill>
          <p:spPr>
            <a:xfrm>
              <a:off x="4267080" y="5049720"/>
              <a:ext cx="123696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content-based, feature-based and shape-based retrieval of CA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large-scale engineering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 unified approach to 3D model matching based on ideas 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Vision &amp; Pattern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Aided Design &amp; Solid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Graphics &amp; Computational 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and test new algorithms with the National Design Repository (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http://www.designrepository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e Space Distance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111640" y="1844640"/>
            <a:ext cx="3956040" cy="39466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638680" y="5791320"/>
            <a:ext cx="33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Darker color represents higher simila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73160" y="1785960"/>
            <a:ext cx="2112840" cy="231948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2401920" y="1785960"/>
            <a:ext cx="1379520" cy="2242800"/>
            <a:chOff x="2401920" y="1785960"/>
            <a:chExt cx="1379520" cy="2242800"/>
          </a:xfrm>
        </p:grpSpPr>
        <p:pic>
          <p:nvPicPr>
            <p:cNvPr id="265" name="" descr=""/>
            <p:cNvPicPr/>
            <p:nvPr/>
          </p:nvPicPr>
          <p:blipFill>
            <a:blip r:embed="rId3"/>
            <a:stretch/>
          </p:blipFill>
          <p:spPr>
            <a:xfrm>
              <a:off x="2508840" y="1785960"/>
              <a:ext cx="1163520" cy="9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4"/>
            <a:stretch/>
          </p:blipFill>
          <p:spPr>
            <a:xfrm>
              <a:off x="2401920" y="3021120"/>
              <a:ext cx="1379520" cy="100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"/>
          <p:cNvGrpSpPr/>
          <p:nvPr/>
        </p:nvGrpSpPr>
        <p:grpSpPr>
          <a:xfrm>
            <a:off x="3886200" y="1785960"/>
            <a:ext cx="1225440" cy="2557080"/>
            <a:chOff x="3886200" y="1785960"/>
            <a:chExt cx="1225440" cy="2557080"/>
          </a:xfrm>
        </p:grpSpPr>
        <p:pic>
          <p:nvPicPr>
            <p:cNvPr id="268" name="" descr=""/>
            <p:cNvPicPr/>
            <p:nvPr/>
          </p:nvPicPr>
          <p:blipFill>
            <a:blip r:embed="rId5"/>
            <a:stretch/>
          </p:blipFill>
          <p:spPr>
            <a:xfrm>
              <a:off x="3960000" y="1785960"/>
              <a:ext cx="107568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6"/>
            <a:stretch/>
          </p:blipFill>
          <p:spPr>
            <a:xfrm>
              <a:off x="3886200" y="2891160"/>
              <a:ext cx="1225440" cy="1451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3917880" y="4419720"/>
            <a:ext cx="1187640" cy="80964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1784520" y="4191120"/>
            <a:ext cx="1893600" cy="2284200"/>
            <a:chOff x="1784520" y="4191120"/>
            <a:chExt cx="1893600" cy="2284200"/>
          </a:xfrm>
        </p:grpSpPr>
        <p:pic>
          <p:nvPicPr>
            <p:cNvPr id="272" name="" descr=""/>
            <p:cNvPicPr/>
            <p:nvPr/>
          </p:nvPicPr>
          <p:blipFill>
            <a:blip r:embed="rId8"/>
            <a:stretch/>
          </p:blipFill>
          <p:spPr>
            <a:xfrm>
              <a:off x="2148120" y="4191120"/>
              <a:ext cx="1166040" cy="89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9"/>
            <a:stretch/>
          </p:blipFill>
          <p:spPr>
            <a:xfrm>
              <a:off x="1784520" y="5166000"/>
              <a:ext cx="1893600" cy="130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4" name=""/>
          <p:cNvGrpSpPr/>
          <p:nvPr/>
        </p:nvGrpSpPr>
        <p:grpSpPr>
          <a:xfrm>
            <a:off x="304920" y="4191120"/>
            <a:ext cx="1195200" cy="2285640"/>
            <a:chOff x="304920" y="4191120"/>
            <a:chExt cx="1195200" cy="2285640"/>
          </a:xfrm>
        </p:grpSpPr>
        <p:pic>
          <p:nvPicPr>
            <p:cNvPr id="275" name="" descr=""/>
            <p:cNvPicPr/>
            <p:nvPr/>
          </p:nvPicPr>
          <p:blipFill>
            <a:blip r:embed="rId10"/>
            <a:stretch/>
          </p:blipFill>
          <p:spPr>
            <a:xfrm>
              <a:off x="304920" y="4191120"/>
              <a:ext cx="1195200" cy="85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11"/>
            <a:stretch/>
          </p:blipFill>
          <p:spPr>
            <a:xfrm>
              <a:off x="363600" y="5166000"/>
              <a:ext cx="1076040" cy="1310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ling Feature Decomposi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to Sto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e by assigning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ment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o assess the “quality” of each bi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685800" y="5168880"/>
                <a:ext cx="40384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457200" y="2743200"/>
            <a:ext cx="480060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(u,v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stance between poi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model’s 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iginal model’s point se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ges connecting poin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isting componen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96000" y="2743200"/>
            <a:ext cx="4022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compon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compon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203800" y="3048120"/>
                <a:ext cx="151596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203800" y="4267080"/>
                <a:ext cx="1521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5029200" y="533412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h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component relative to a potential decom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Example: Bisection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=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case of bisection, comp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respect to decomposi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bisec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f the resulting coherence is better than tha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one: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lt;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433760" y="2057400"/>
                <a:ext cx="3308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433760" y="4762440"/>
                <a:ext cx="27432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sub>
                          <m:sup/>
                          <m:e/>
                        </m:nary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E</m:t>
                        </m:r>
                        <m:r>
                          <m:t xml:space="preserve">,</m:t>
                        </m:r>
                      </m:e>
                    </m:eqArr>
                    <m:r>
                      <m:t xml:space="preserve">v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433760" y="3427560"/>
                <a:ext cx="448164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sub>
                          <m:sup/>
                          <m:e/>
                        </m:nary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E</m:t>
                        </m:r>
                        <m:r>
                          <m:t xml:space="preserve">,</m:t>
                        </m:r>
                      </m:e>
                    </m:eqArr>
                    <m:r>
                      <m:t xml:space="preserve">v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695600" y="1295280"/>
            <a:ext cx="3333600" cy="29736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Decom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4680" y="139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k.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85640" y="1295280"/>
            <a:ext cx="4543560" cy="42055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Decom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4680" y="139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k.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93560" y="1295280"/>
            <a:ext cx="7278840" cy="42055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Decom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680" y="139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k.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Decom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71600" y="1295280"/>
            <a:ext cx="4557600" cy="3888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74680" y="139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k.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65120" y="1295280"/>
            <a:ext cx="6926400" cy="3888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Decom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4680" y="139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k.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65120" y="1295280"/>
            <a:ext cx="6926400" cy="5220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Decom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1600200" y="3657240"/>
            <a:ext cx="108000" cy="2149560"/>
          </a:xfrm>
          <a:prstGeom prst="line">
            <a:avLst/>
          </a:prstGeom>
          <a:ln w="255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248520" y="3741480"/>
            <a:ext cx="193680" cy="1973160"/>
          </a:xfrm>
          <a:prstGeom prst="line">
            <a:avLst/>
          </a:prstGeom>
          <a:ln w="255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3949560" y="5105520"/>
            <a:ext cx="2146320" cy="637920"/>
          </a:xfrm>
          <a:prstGeom prst="line">
            <a:avLst/>
          </a:prstGeom>
          <a:ln w="255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5791320"/>
            <a:ext cx="16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o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66400" y="583092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mall no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74680" y="139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k.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 Note: Compare Feature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cale Spa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D/C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4876920" y="1863720"/>
          <a:ext cx="3581280" cy="35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863720"/>
                    <a:ext cx="3581280" cy="35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457200" y="2062080"/>
            <a:ext cx="4038480" cy="36021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733920" y="3429000"/>
            <a:ext cx="3733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609480" y="4459320"/>
            <a:ext cx="2210040" cy="20178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467480" y="297180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5486400" y="5452920"/>
            <a:ext cx="3429000" cy="11001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572000" y="990720"/>
            <a:ext cx="0" cy="5562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24280" y="990720"/>
            <a:ext cx="0" cy="5562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Related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ing Solid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M &amp; Engineering commun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relationship graphs [Elinson et al. 97; Cicirello and Regli 99,00,01,0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detection of part families [Ramesh et al 0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ological similarity assessment [Sun et al 95; McWherter et al 01,0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ing Shape Mode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raphics commun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resolutional Reeb Graphs [Hilaga et al., 0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pe distributions [Osada, Funkhouser et al, 01,02,03]; [Ip et al 02,03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D views of 3D objects [Cyr and Kimia, 0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erarchical graph match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puter Vision commun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Shokoufandeh et al 99], coarse-to-fine bipartite matching to multi-scale blob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Siddiqi et al 99], spectral graph characterization for matching of shock graph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elillo et al 99] hierarchical matching as a maximum clique probl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Shokoufandeh et al 02] combined spectral and geometric neighborhood information to match multi-scale blob and ridge decompos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Related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Lamdan/Wolfson 88]; S3 [Berchtold et al SIGMOD 97]; [Smith et al IEEEToNN 97]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Elber et al 97,99,01]; 3DBase [Cybenko et al 96,97]; [Szykman et al 99,00,01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Con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ale-space approach to matching CA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ing “CAD Features” and “Computer Vision Featur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eneral framework for CAD ind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irical validation/assessment of the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cale-Space representation to index and retrieve solid models in the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 this approach into the National Design Repository: from 40 parts to 40,000 par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 more inform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ttp://gicl.cs.drexel.edu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ttp://aal.cs.drexel.edu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ttp://www.designrepository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onsored (in part) by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R Grant N00014-01-1-0618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F ITR/DMI-0219176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F CAREER Award CISE/IIS-9733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7219800" y="4873680"/>
            <a:ext cx="131472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8" name=""/>
          <p:cNvGraphicFramePr/>
          <p:nvPr/>
        </p:nvGraphicFramePr>
        <p:xfrm>
          <a:off x="4952880" y="4405320"/>
          <a:ext cx="226692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4405320"/>
                    <a:ext cx="226692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191120" y="4267080"/>
            <a:ext cx="4809960" cy="1770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itional CAD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tight boundary-representation 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it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RB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ologically and geometrically consis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by kernel modelers and CA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05720" y="1600200"/>
            <a:ext cx="2028600" cy="2666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876920" y="1600200"/>
            <a:ext cx="1666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itional Shape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a mesh or poi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an approximate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xplicit in/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error p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L files, acquir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by CAD systems, animation tools, laser scanner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138720" y="4191120"/>
          <a:ext cx="2853000" cy="23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8720" y="4191120"/>
                    <a:ext cx="285300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952880" y="1600200"/>
            <a:ext cx="2000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Previou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Reeb Graph based matching technique introduced by [Hilaga et al., 01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eb graph: an object skeleton determined using continuous scalar function µ defined o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al basis in Morse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eb graph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invariant to translation and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multi-resolutional, i.e. hierarchical, for faster matching of objects and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392200" y="5291280"/>
            <a:ext cx="855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4444920"/>
            <a:ext cx="1843200" cy="1709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66640" y="1695600"/>
            <a:ext cx="1498680" cy="1709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resolutional Reeb Graphs for the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938760" y="1592280"/>
            <a:ext cx="620640" cy="2305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329080" y="2147760"/>
            <a:ext cx="447840" cy="1193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548400" y="2462040"/>
            <a:ext cx="444600" cy="563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7763040" y="2622600"/>
            <a:ext cx="285480" cy="244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8820000" y="2700360"/>
            <a:ext cx="130320" cy="88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3938760" y="4041720"/>
            <a:ext cx="847440" cy="2300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5345280" y="4595760"/>
            <a:ext cx="603000" cy="1192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6507000" y="4910040"/>
            <a:ext cx="598680" cy="561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7664400" y="5068800"/>
            <a:ext cx="600120" cy="244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8823240" y="5148360"/>
            <a:ext cx="127080" cy="87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394000" y="2462040"/>
            <a:ext cx="855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64240" y="274464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81760" y="274464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274464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53360" y="274464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84840" y="519264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46920" y="519120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03960" y="519120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62800" y="519120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457200" y="3990960"/>
            <a:ext cx="8502480" cy="2656080"/>
            <a:chOff x="457200" y="3990960"/>
            <a:chExt cx="8502480" cy="265608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5724360" y="3990960"/>
              <a:ext cx="3235320" cy="26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457200" y="4440240"/>
              <a:ext cx="5194440" cy="156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the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ften false-positives and non-simila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topology affec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significant shape deformations affec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lassify groups with homogeneous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ensitive to quality of mesh refi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628280" y="4005360"/>
            <a:ext cx="5891760" cy="2771640"/>
            <a:chOff x="1628280" y="4005360"/>
            <a:chExt cx="5891760" cy="2771640"/>
          </a:xfrm>
        </p:grpSpPr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4495680" y="4005360"/>
              <a:ext cx="3024360" cy="26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559320" y="5553000"/>
              <a:ext cx="1296720" cy="43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28280" y="5222880"/>
              <a:ext cx="201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n-similar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37080" y="6264360"/>
              <a:ext cx="287280" cy="512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56000" y="6381720"/>
              <a:ext cx="1908000" cy="108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51040" y="6197760"/>
              <a:ext cx="17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lse-posi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257560" y="4902120"/>
            <a:ext cx="4627080" cy="687600"/>
            <a:chOff x="2257560" y="4902120"/>
            <a:chExt cx="4627080" cy="68760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3900600" y="4995720"/>
              <a:ext cx="96984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5"/>
            <a:stretch/>
          </p:blipFill>
          <p:spPr>
            <a:xfrm>
              <a:off x="2257560" y="4902120"/>
              <a:ext cx="969840" cy="6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340080" y="49258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83120" y="49258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44000" y="5046840"/>
              <a:ext cx="134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t simil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52520" y="4925880"/>
            <a:ext cx="4632120" cy="642600"/>
            <a:chOff x="2252520" y="4925880"/>
            <a:chExt cx="4632120" cy="642600"/>
          </a:xfrm>
        </p:grpSpPr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2252520" y="5046480"/>
              <a:ext cx="97488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3898800" y="5041800"/>
              <a:ext cx="97308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338640" y="49258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83120" y="49258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44000" y="5048280"/>
              <a:ext cx="134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t simil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 flipV="1">
            <a:off x="1368360" y="4365720"/>
            <a:ext cx="5256360" cy="1077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368360" y="4925880"/>
            <a:ext cx="5688000" cy="122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067280" y="4653000"/>
            <a:ext cx="2817720" cy="8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69880" y="4402080"/>
            <a:ext cx="8002080" cy="1577880"/>
            <a:chOff x="569880" y="4402080"/>
            <a:chExt cx="8002080" cy="1577880"/>
          </a:xfrm>
        </p:grpSpPr>
        <p:pic>
          <p:nvPicPr>
            <p:cNvPr id="113" name="" descr=""/>
            <p:cNvPicPr/>
            <p:nvPr/>
          </p:nvPicPr>
          <p:blipFill>
            <a:blip r:embed="rId8"/>
            <a:stretch/>
          </p:blipFill>
          <p:spPr>
            <a:xfrm>
              <a:off x="569880" y="4402080"/>
              <a:ext cx="2455920" cy="15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9"/>
            <a:stretch/>
          </p:blipFill>
          <p:spPr>
            <a:xfrm>
              <a:off x="3900600" y="4403880"/>
              <a:ext cx="2455560" cy="15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224880" y="484020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55240" y="484020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31320" y="4992840"/>
              <a:ext cx="134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t simil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75360" y="1900080"/>
            <a:ext cx="2687760" cy="4300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e Space Represen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59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ly used for Coarse-to-Fine representations of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popular in computer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ed via spatial filters: Gaussian pyramids, Wavele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ac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c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opologically relevant components wil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com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object into so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alient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cur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lication of this paradigm will create the object’s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cale space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7:52:38Z</dcterms:created>
  <dc:creator>dbespalo</dc:creator>
  <dc:description/>
  <dc:language>en-US</dc:language>
  <cp:lastModifiedBy>Linda Casals</cp:lastModifiedBy>
  <cp:lastPrinted>2003-10-13T14:37:42Z</cp:lastPrinted>
  <dcterms:modified xsi:type="dcterms:W3CDTF">2003-10-13T14:40:33Z</dcterms:modified>
  <cp:revision>129</cp:revision>
  <dc:subject/>
  <dc:title>Scale-Space Representation of 3D Models and Topological Matching</dc:title>
</cp:coreProperties>
</file>