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4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538200" y="763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5105520" y="763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49000" y="434340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537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F401-7A8A-4FB9-8766-FE781FD136A8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is a world-leader in three selected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oo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pecialises in cemented carbide and high-speed steel tools for metalworking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andvik Coroma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art of this business area. Tooling is active in three areas, indexable tools – where you can find Sandvik Coromant, solid tools and blanks and wear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ining &amp; 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ncentrates on machinery, tools and service for rock exca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terials Technolog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cuses on products in advanced materials, special alloys, resistance materials — and stainless ste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has more than 95% of the sales and two thirds of production outside Swe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operates in 130 countries across the world. In Europe and North America. In South America, Africa and the Mid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st. In Asia and Austral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s are active in many industries, including automotive and aerospace, mining and construction, chemical, oil and gas, power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p and paper, household appliances, electronics, medical technology and pharmaceut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wo thirds of the products are industrial consumption goods, and one third investment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Due to accountancy restrictions we are not allowed to present financial figures regarding Sandvik Coromant. This can only be presented on Tooling or Group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dvik Coromant is represented in 130 countries. We have local co-operation with distributors, agents, machine tool manufacturers, machine tool suppliers, customers and universities all over the wor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Sandvik Coromant direct delivery system (DD) operates deliveries to end-users from our central warehouses in Netherlands, US and Singapore within 24 hou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vik Coromant have 3 central distribution centers (stocking points) in the Netherlands, Singapore and the 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20 productivity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are also building and planning application centers around the world, which gives us the opportunity to increase our customers as well as our own knowledge in different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cts: Coromant in Swe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d office is in Sandviken. Locate e.g. management, central administration, product design and research and development. Number of employees: around 6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 Gimo, close by, is the production unit for standard products and the world’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rgest carbide insert manufacturing plant. Number of employees: around 16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ästberga in Stockholm is a major base for research and development in powder and grades. Number of employees: around 17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49000" y="434340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ntribute to make relevant and current information available before strategic decisions are being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8F7-8490-4ED1-8395-58D3020F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0000" y="39603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8F8-191A-4A50-9B38-4225F4F9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762-5386-4E3B-AEF4-E2007D6D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724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412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000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724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412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E63-A10A-479D-B18F-C1E58F34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431280"/>
            <a:ext cx="84200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ADD-E750-416C-A82D-1F15EE36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39603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724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4120" y="17985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724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4120" y="3960360"/>
            <a:ext cx="27111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21D-0453-4A41-A522-767FC359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C0C-3BB6-4AE3-BE57-A038690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68D-0285-4D5A-8B66-169BD83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0000" y="431280"/>
            <a:ext cx="84200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7D3-B21A-4782-A38B-C42985F6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DDF-8445-4091-936D-8129534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39603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0A3-471E-440F-B0C2-A731F7FA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798560"/>
            <a:ext cx="4108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0000" y="3960360"/>
            <a:ext cx="8420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547-389B-4635-8100-7A7D727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56720" y="6419880"/>
            <a:ext cx="931680" cy="34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42880" indent="-131760">
              <a:spcBef>
                <a:spcPts val="499"/>
              </a:spcBef>
              <a:buClr>
                <a:srgbClr val="5f5f5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6938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112840" indent="-2286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2112840" indent="-2286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2112840" indent="-2286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50560" y="6188040"/>
            <a:ext cx="28810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66560" y="6426360"/>
            <a:ext cx="133200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E2A1-A424-4D0E-AD3F-F39B15718757}" type="datetime">
              <a:rPr b="0" lang="en-US" sz="7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50560" y="6427800"/>
            <a:ext cx="5396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F71-AA33-46AF-8805-F0DD9F7E0DF9}" type="slidenum">
              <a:rPr b="0" lang="en-US" sz="7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17200"/>
            <a:ext cx="84200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56720" y="6419880"/>
            <a:ext cx="93168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2826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411120" algn="ctr">
              <a:spcBef>
                <a:spcPts val="349"/>
              </a:spcBef>
              <a:buClr>
                <a:srgbClr val="5f5f5f"/>
              </a:buClr>
              <a:buSzPct val="9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93600" algn="ctr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55440" algn="ctr">
              <a:spcBef>
                <a:spcPts val="34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55440">
              <a:spcBef>
                <a:spcPts val="34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55440">
              <a:spcBef>
                <a:spcPts val="34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859280" y="260280"/>
            <a:ext cx="3962520" cy="423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1717200"/>
            <a:ext cx="84200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5f5f5f"/>
                </a:solidFill>
                <a:latin typeface="Arial"/>
              </a:rPr>
              <a:t>Machining of</a:t>
            </a:r>
            <a:br>
              <a:rPr sz="4000"/>
            </a:br>
            <a:r>
              <a:rPr b="0" lang="sv-SE" sz="4000" spc="-1" strike="noStrike">
                <a:solidFill>
                  <a:srgbClr val="5f5f5f"/>
                </a:solidFill>
                <a:latin typeface="Arial"/>
              </a:rPr>
              <a:t>6.3” Impeller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0000" y="4116240"/>
            <a:ext cx="8420040" cy="27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f5f5f"/>
                </a:solidFill>
                <a:latin typeface="Arial"/>
              </a:rPr>
              <a:t>Bengt Olss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Project Mana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ompetence Center PL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Sandvik Tooli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bengt.olsson@sandvik.com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4190" t="8706" r="0" b="13066"/>
          <a:stretch/>
        </p:blipFill>
        <p:spPr>
          <a:xfrm>
            <a:off x="-9360" y="2556000"/>
            <a:ext cx="3079440" cy="2171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52880" y="2614680"/>
            <a:ext cx="2806560" cy="211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14062" t="23559" r="0" b="13008"/>
          <a:stretch/>
        </p:blipFill>
        <p:spPr>
          <a:xfrm>
            <a:off x="6040440" y="2521080"/>
            <a:ext cx="3103560" cy="2206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281320"/>
            <a:ext cx="9144000" cy="333360"/>
          </a:xfrm>
          <a:prstGeom prst="rect">
            <a:avLst/>
          </a:prstGeom>
          <a:solidFill>
            <a:srgbClr val="fcd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5f5f5f"/>
                </a:solidFill>
                <a:latin typeface="Arial"/>
              </a:rPr>
              <a:t>Part of the Sandvik Group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27664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37280" y="2276640"/>
            <a:ext cx="30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Materials Technology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227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Mining &amp; Construction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CF8-C434-4D7B-99A8-0594951591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Sandvik Coromant Fact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08000" y="1700280"/>
            <a:ext cx="5435640" cy="33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f5f5f"/>
                </a:solidFill>
                <a:latin typeface="Arial"/>
              </a:rPr>
              <a:t>World’s Largest Cutting Tool Producer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mployees: 8 00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presentation in 130 countr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3 central distribution cent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ore than 20 productivity cent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1001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Application cent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27" t="936" r="1512" b="1058"/>
          <a:stretch/>
        </p:blipFill>
        <p:spPr>
          <a:xfrm>
            <a:off x="395280" y="1197000"/>
            <a:ext cx="3144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F5E-1ECF-4598-8442-08B05B794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783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The Driving Force</a:t>
            </a:r>
            <a:br>
              <a:rPr sz="3200"/>
            </a:b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ontribute to Customer Success in Manufactur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uccessful customers make smart decisions at multiple areas of their manufacturing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mart decisions are made in presence of relevant and accurate information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andvik Coromant offers in addition to high performing cutting tools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levant and accurate information in order to enable smart decisio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6CB-5C08-4C64-9788-9301F0FB4C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532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Smart Decisions</a:t>
            </a:r>
            <a:br>
              <a:rPr sz="3200"/>
            </a:b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nfluenced by Cutting Tool Inform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695600"/>
            <a:ext cx="1297080" cy="936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24000" y="5369040"/>
            <a:ext cx="1368360" cy="939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95440" y="2847960"/>
            <a:ext cx="102528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395280" y="4145040"/>
            <a:ext cx="1297080" cy="936720"/>
            <a:chOff x="395280" y="4145040"/>
            <a:chExt cx="1297080" cy="93672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rcRect l="4135" t="0" r="0" b="0"/>
            <a:stretch/>
          </p:blipFill>
          <p:spPr>
            <a:xfrm>
              <a:off x="395280" y="4145040"/>
              <a:ext cx="1297080" cy="93672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rcRect l="36418" t="35601" r="0" b="12503"/>
            <a:stretch/>
          </p:blipFill>
          <p:spPr>
            <a:xfrm>
              <a:off x="395280" y="4294800"/>
              <a:ext cx="1295640" cy="70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66247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AD/CA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choice of operations, machines, cutting tool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creation of efficient tool path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Tool Manage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efficient inventory and service of items in tool cri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selection and creation of tool assembli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Simul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verification of tool path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selection of cutting dat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NC Machini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optimization of proces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1DC-E002-4EA2-8FA7-8ABC540899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5f5f5f"/>
                </a:solidFill>
                <a:latin typeface="Arial"/>
              </a:rPr>
              <a:t>Machining</a:t>
            </a:r>
            <a:br>
              <a:rPr sz="2800"/>
            </a:br>
            <a:r>
              <a:rPr b="1" lang="sv-SE" sz="2800" spc="-1" strike="noStrike">
                <a:solidFill>
                  <a:srgbClr val="5f5f5f"/>
                </a:solidFill>
                <a:latin typeface="Arial"/>
              </a:rPr>
              <a:t>Demonstration</a:t>
            </a:r>
            <a:br>
              <a:rPr sz="2800"/>
            </a:b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55880" y="0"/>
            <a:ext cx="6288120" cy="5056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4360" y="2526840"/>
            <a:ext cx="543564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6.3” Impell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Material: Ti6Al4V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utting Tool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Coromant Plura</a:t>
            </a:r>
            <a:br>
              <a:rPr sz="1800"/>
            </a:b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Solid Carbide Endmill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spcAft>
                <a:spcPts val="85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5f5f5f"/>
                </a:solidFill>
                <a:latin typeface="Arial"/>
              </a:rPr>
              <a:t>Cylindrical endmills for roughing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spcAft>
                <a:spcPts val="850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0" lang="sv-SE" sz="1700" spc="-1" strike="noStrike">
                <a:solidFill>
                  <a:srgbClr val="5f5f5f"/>
                </a:solidFill>
                <a:latin typeface="Arial"/>
                <a:ea typeface="Arial"/>
              </a:rPr>
              <a:t>º</a:t>
            </a:r>
            <a:r>
              <a:rPr b="0" lang="sv-SE" sz="1700" spc="-1" strike="noStrike">
                <a:solidFill>
                  <a:srgbClr val="5f5f5f"/>
                </a:solidFill>
                <a:latin typeface="Arial"/>
              </a:rPr>
              <a:t> conical ball nose mills for finishing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25080" y="3573360"/>
            <a:ext cx="6606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T7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D=10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149720"/>
            <a:ext cx="43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T9</a:t>
            </a:r>
            <a:br>
              <a:rPr sz="1600"/>
            </a:b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D=8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7640" y="4149720"/>
            <a:ext cx="37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T8</a:t>
            </a:r>
            <a:br>
              <a:rPr sz="1600"/>
            </a:b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R=4</a:t>
            </a:r>
            <a:br>
              <a:rPr sz="1600"/>
            </a:b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  <a:ea typeface="Arial"/>
              </a:rPr>
              <a:t>º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7080" y="3933720"/>
            <a:ext cx="4622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T10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R=3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6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1" i="1" lang="sv-SE" sz="1600" spc="-1" strike="noStrike">
                <a:solidFill>
                  <a:srgbClr val="5f5f5f"/>
                </a:solidFill>
                <a:latin typeface="Arial"/>
                <a:ea typeface="Arial"/>
              </a:rPr>
              <a:t>º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5D2-8BB7-441D-ABB3-080756BDB9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5f5f5f"/>
                </a:solidFill>
                <a:latin typeface="Arial"/>
              </a:rPr>
              <a:t>Methods of Cutting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Roughing: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Slot, flank and profile milling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Climb milli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Finishing: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Flank and profile milling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Climb milling</a:t>
            </a:r>
            <a:br>
              <a:rPr sz="2000"/>
            </a:b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-Conventional milling (finish of blade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761160" y="404496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86600" y="1268280"/>
            <a:ext cx="1266840" cy="1905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55280" y="85392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Climb: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54920" y="3689280"/>
            <a:ext cx="124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Conventional: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C58-5056-4EEE-9E47-46D93D8B7C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5f5f5f"/>
                </a:solidFill>
                <a:latin typeface="Arial"/>
              </a:rPr>
              <a:t>List of Operation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000" y="1798560"/>
            <a:ext cx="8420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utting speed target: 200 sf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f5f5f"/>
                </a:solidFill>
                <a:latin typeface="Arial"/>
              </a:rPr>
              <a:t>Cutter load limit: .002 inch chip thicknes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2689200"/>
            <a:ext cx="8582040" cy="2684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580000" y="260280"/>
            <a:ext cx="3313080" cy="23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027-6324-462D-9ED4-A092275CAB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431280"/>
            <a:ext cx="8420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5f5f5f"/>
                </a:solidFill>
                <a:latin typeface="Arial"/>
              </a:rPr>
              <a:t>Additional Data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5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585-652D-47CB-BFA7-93071BE624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0:12:16Z</dcterms:created>
  <dc:creator>ds71215</dc:creator>
  <dc:description>011227 Uppdaterat standard font till Arial</dc:description>
  <dc:language>en-US</dc:language>
  <cp:lastModifiedBy>Bengt Olsson</cp:lastModifiedBy>
  <cp:lastPrinted>2005-01-31T17:19:56Z</cp:lastPrinted>
  <dcterms:modified xsi:type="dcterms:W3CDTF">2008-10-01T15:26:48Z</dcterms:modified>
  <cp:revision>57</cp:revision>
  <dc:subject/>
  <dc:title>ABC-Impeller</dc:title>
</cp:coreProperties>
</file>