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0.png" ContentType="image/png"/>
  <Override PartName="/ppt/media/image6.jpeg" ContentType="image/jpeg"/>
  <Override PartName="/ppt/media/image16.wmf" ContentType="image/x-wmf"/>
  <Override PartName="/ppt/media/image4.jpeg" ContentType="image/jpeg"/>
  <Override PartName="/ppt/media/image15.jpeg" ContentType="image/jpeg"/>
  <Override PartName="/ppt/media/image14.wmf" ContentType="image/x-wmf"/>
  <Override PartName="/ppt/media/image5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7.png" ContentType="image/png"/>
  <Override PartName="/ppt/media/image8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538200" y="76320"/>
            <a:ext cx="4572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4"/>
          </p:nvPr>
        </p:nvSpPr>
        <p:spPr>
          <a:xfrm>
            <a:off x="5105520" y="76320"/>
            <a:ext cx="1752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7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3652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f5f5f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549000" y="4343400"/>
            <a:ext cx="5832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5"/>
          </p:nvPr>
        </p:nvSpPr>
        <p:spPr>
          <a:xfrm>
            <a:off x="537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7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7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5BD73-4B17-4BBC-BFD2-6C693046BBB9}" type="slidenum">
              <a:rPr b="1" lang="en-US" sz="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01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Sandvik Group is a world-leader in three selected ar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01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Tooling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specialises in cemented carbide and high-speed steel tools for metalworking.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Sandvik Coromant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is a part of this business area. Tooling is active in three areas, indexable tools – where you can find Sandvik Coromant, solid tools and blanks and wear par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01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Mining &amp; Construction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concentrates on machinery, tools and service for rock excav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01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Materials Technology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focuses on products in advanced materials, special alloys, resistance materials — and stainless stee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01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Sandvik Group has more than 95% of the sales and two thirds of production outside Swed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01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Sandvik Group operates in 130 countries across the world. In Europe and North America. In South America, Africa and the Middl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ast. In Asia and Australi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01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stomers are active in many industries, including automotive and aerospace, mining and construction, chemical, oil and gas, power,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lp and paper, household appliances, electronics, medical technology and pharmaceutic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01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bout two thirds of the products are industrial consumption goods, and one third investment goo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01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Arial"/>
              </a:rPr>
              <a:t>Due to accountancy restrictions we are not allowed to present financial figures regarding Sandvik Coromant. This can only be presented on Tooling or Group leve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101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01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andvik Coromant is represented in 130 countries. We have local co-operation with distributors, agents, machine tool manufacturers, machine tool suppliers, customers and universities all over the worl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01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The Sandvik Coromant direct delivery system (DD) operates deliveries to end-users from our central warehouses in Netherlands, US and Singapore within 24 hour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01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andvik Coromant have 3 central distribution centers (stocking points) in the Netherlands, Singapore and the U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01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v-SE" sz="1000" spc="-1" strike="noStrike">
                <a:solidFill>
                  <a:srgbClr val="000000"/>
                </a:solidFill>
                <a:latin typeface="Arial"/>
              </a:rPr>
              <a:t>20 productivity cen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01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e are also building and planning application centers around the world, which gives us the opportunity to increase our customers as well as our own knowledge in different application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101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01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Facts: Coromant in Swed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01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Head office is in Sandviken. Locate e.g. management, central administration, product design and research and development. Number of employees: around 650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01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In Gimo, close by, is the production unit for standard products and the world’s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largest carbide insert manufacturing plant. Number of employees: around 1600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01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Västberga in Stockholm is a major base for research and development in powder and grades. Number of employees: around 170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101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101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01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101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101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3652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549000" y="4343400"/>
            <a:ext cx="5832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Arial"/>
              </a:rPr>
              <a:t>Contribute to make relevant and current information available before strategic decisions are being ma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446A2-DB86-4A9F-8DBE-239D14EFE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60000" y="431280"/>
            <a:ext cx="842004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60000" y="1798560"/>
            <a:ext cx="842004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60000" y="3960360"/>
            <a:ext cx="842004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269BF-3364-4559-85E1-746C6E733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60000" y="431280"/>
            <a:ext cx="842004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60000" y="1798560"/>
            <a:ext cx="410868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600" y="1798560"/>
            <a:ext cx="410868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60000" y="3960360"/>
            <a:ext cx="410868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600" y="3960360"/>
            <a:ext cx="410868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DCB78-BF63-40DD-AED7-5653544B4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60000" y="431280"/>
            <a:ext cx="842004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60000" y="1798560"/>
            <a:ext cx="271116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07240" y="1798560"/>
            <a:ext cx="271116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54120" y="1798560"/>
            <a:ext cx="271116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60000" y="3960360"/>
            <a:ext cx="271116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07240" y="3960360"/>
            <a:ext cx="271116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54120" y="3960360"/>
            <a:ext cx="271116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D582C-338C-48A5-947A-5108F86DF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60000" y="431280"/>
            <a:ext cx="842004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360000" y="1798560"/>
            <a:ext cx="842004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60000" y="431280"/>
            <a:ext cx="842004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60000" y="1798560"/>
            <a:ext cx="842004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60000" y="431280"/>
            <a:ext cx="842004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60000" y="1798560"/>
            <a:ext cx="410868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600" y="1798560"/>
            <a:ext cx="410868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0000" y="431280"/>
            <a:ext cx="842004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60000" y="431280"/>
            <a:ext cx="8420040" cy="500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60000" y="431280"/>
            <a:ext cx="842004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60000" y="1798560"/>
            <a:ext cx="410868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600" y="1798560"/>
            <a:ext cx="410868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360000" y="3960360"/>
            <a:ext cx="410868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60000" y="431280"/>
            <a:ext cx="842004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60000" y="1798560"/>
            <a:ext cx="842004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32B33-DE3F-4547-B56D-D922FE4C4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60000" y="431280"/>
            <a:ext cx="842004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60000" y="1798560"/>
            <a:ext cx="410868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600" y="1798560"/>
            <a:ext cx="410868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600" y="3960360"/>
            <a:ext cx="410868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60000" y="431280"/>
            <a:ext cx="842004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60000" y="1798560"/>
            <a:ext cx="410868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600" y="1798560"/>
            <a:ext cx="410868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60000" y="3960360"/>
            <a:ext cx="842004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60000" y="431280"/>
            <a:ext cx="842004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60000" y="1798560"/>
            <a:ext cx="842004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60000" y="3960360"/>
            <a:ext cx="842004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60000" y="431280"/>
            <a:ext cx="842004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60000" y="1798560"/>
            <a:ext cx="410868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600" y="1798560"/>
            <a:ext cx="410868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60000" y="3960360"/>
            <a:ext cx="410868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600" y="3960360"/>
            <a:ext cx="410868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60000" y="431280"/>
            <a:ext cx="842004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60000" y="1798560"/>
            <a:ext cx="271116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07240" y="1798560"/>
            <a:ext cx="271116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54120" y="1798560"/>
            <a:ext cx="271116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60000" y="3960360"/>
            <a:ext cx="271116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07240" y="3960360"/>
            <a:ext cx="271116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54120" y="3960360"/>
            <a:ext cx="271116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60000" y="431280"/>
            <a:ext cx="842004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60000" y="1798560"/>
            <a:ext cx="842004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85FAE-E9F3-45DA-922E-532705689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60000" y="431280"/>
            <a:ext cx="842004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60000" y="1798560"/>
            <a:ext cx="410868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600" y="1798560"/>
            <a:ext cx="410868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D9DDA-6A2F-4203-AD56-5464A973F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60000" y="431280"/>
            <a:ext cx="842004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6C6D6-5A59-4DF5-9C7D-BD2D75AD8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60000" y="431280"/>
            <a:ext cx="8420040" cy="500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06542-E0DF-45A3-A98B-051C3A1F5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60000" y="431280"/>
            <a:ext cx="842004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60000" y="1798560"/>
            <a:ext cx="410868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600" y="1798560"/>
            <a:ext cx="410868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60000" y="3960360"/>
            <a:ext cx="410868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62108-61FA-48EE-919D-8809F2750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60000" y="431280"/>
            <a:ext cx="842004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60000" y="1798560"/>
            <a:ext cx="410868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600" y="1798560"/>
            <a:ext cx="410868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600" y="3960360"/>
            <a:ext cx="410868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93CF8-1267-4EA5-B4E2-86D1505E9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60000" y="431280"/>
            <a:ext cx="842004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60000" y="1798560"/>
            <a:ext cx="410868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600" y="1798560"/>
            <a:ext cx="410868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60000" y="3960360"/>
            <a:ext cx="842004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E4048-3734-4656-8DAF-523F0C03B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7956720" y="6419880"/>
            <a:ext cx="931680" cy="345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60000" y="431280"/>
            <a:ext cx="842004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f5f5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60000" y="1798560"/>
            <a:ext cx="842004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4600" indent="-174600">
              <a:spcBef>
                <a:spcPts val="499"/>
              </a:spcBef>
              <a:buClr>
                <a:srgbClr val="ff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lvl="1" marL="398520" indent="-201600"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lvl="2" marL="542880" indent="-131760">
              <a:spcBef>
                <a:spcPts val="499"/>
              </a:spcBef>
              <a:buClr>
                <a:srgbClr val="5f5f5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lvl="3" marL="1693800" indent="-228600"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lvl="4" marL="2112840" indent="-228600">
              <a:spcBef>
                <a:spcPts val="4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lvl="5" marL="2112840" indent="-228600">
              <a:spcBef>
                <a:spcPts val="4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lvl="6" marL="2112840" indent="-228600">
              <a:spcBef>
                <a:spcPts val="4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250560" y="6188040"/>
            <a:ext cx="2881080" cy="2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700" spc="-1" strike="noStrike">
                <a:solidFill>
                  <a:srgbClr val="5f5f5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f5f5f"/>
                </a:solidFill>
                <a:latin typeface="Arial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>
          <a:xfrm>
            <a:off x="466560" y="6426360"/>
            <a:ext cx="1332000" cy="18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700" spc="-1" strike="noStrike">
                <a:solidFill>
                  <a:srgbClr val="5f5f5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2C0BA-E452-43F3-A28C-9155715B03FC}" type="datetime">
              <a:rPr b="0" lang="en-US" sz="700" spc="-1" strike="noStrike">
                <a:solidFill>
                  <a:srgbClr val="5f5f5f"/>
                </a:solidFill>
                <a:latin typeface="Arial"/>
              </a:rPr>
              <a:t>07/30/26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50560" y="6427800"/>
            <a:ext cx="539640" cy="18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700" spc="-1" strike="noStrike">
                <a:solidFill>
                  <a:srgbClr val="5f5f5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454F6-2AD2-4AA2-A387-4FAFF96EA226}" type="slidenum">
              <a:rPr b="0" lang="en-US" sz="7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4941720"/>
            <a:ext cx="9144000" cy="19162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60000" y="1717200"/>
            <a:ext cx="8420040" cy="22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f5f5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7956720" y="6419880"/>
            <a:ext cx="931680" cy="34596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1" marL="282600"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  <a:p>
            <a:pPr lvl="2" marL="411120" algn="ctr">
              <a:spcBef>
                <a:spcPts val="349"/>
              </a:spcBef>
              <a:buClr>
                <a:srgbClr val="5f5f5f"/>
              </a:buClr>
              <a:buSzPct val="9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 lvl="3" marL="1371600" indent="93600" algn="ctr">
              <a:spcBef>
                <a:spcPts val="400"/>
              </a:spcBef>
              <a:buClr>
                <a:srgbClr val="5f5f5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5f5f5f"/>
              </a:solidFill>
              <a:latin typeface="Arial"/>
            </a:endParaRPr>
          </a:p>
          <a:p>
            <a:pPr lvl="4" marL="1828800" indent="55440" algn="ctr">
              <a:spcBef>
                <a:spcPts val="349"/>
              </a:spcBef>
              <a:buClr>
                <a:srgbClr val="5f5f5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1" lang="en-US" sz="1400" spc="-1" strike="noStrike">
              <a:solidFill>
                <a:srgbClr val="5f5f5f"/>
              </a:solidFill>
              <a:latin typeface="Arial"/>
            </a:endParaRPr>
          </a:p>
          <a:p>
            <a:pPr lvl="5" marL="1828800" indent="55440">
              <a:spcBef>
                <a:spcPts val="34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1" lang="en-US" sz="1400" spc="-1" strike="noStrike">
              <a:solidFill>
                <a:srgbClr val="5f5f5f"/>
              </a:solidFill>
              <a:latin typeface="Arial"/>
            </a:endParaRPr>
          </a:p>
          <a:p>
            <a:pPr lvl="6" marL="1828800" indent="55440">
              <a:spcBef>
                <a:spcPts val="34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1" lang="en-US" sz="14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4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7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4859280" y="260280"/>
            <a:ext cx="3962520" cy="423864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60000" y="1717200"/>
            <a:ext cx="8420040" cy="22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000" spc="-1" strike="noStrike">
                <a:solidFill>
                  <a:srgbClr val="5f5f5f"/>
                </a:solidFill>
                <a:latin typeface="Arial"/>
              </a:rPr>
              <a:t>Machining of</a:t>
            </a:r>
            <a:br>
              <a:rPr sz="4000"/>
            </a:br>
            <a:r>
              <a:rPr b="0" lang="sv-SE" sz="4000" spc="-1" strike="noStrike">
                <a:solidFill>
                  <a:srgbClr val="5f5f5f"/>
                </a:solidFill>
                <a:latin typeface="Arial"/>
              </a:rPr>
              <a:t>6.3” Impeller</a:t>
            </a:r>
            <a:endParaRPr b="0" lang="en-US" sz="4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0000" y="4116240"/>
            <a:ext cx="8420040" cy="27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5f5f5f"/>
                </a:solidFill>
                <a:latin typeface="Arial"/>
              </a:rPr>
              <a:t>Bengt Olsson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5f5f5f"/>
                </a:solidFill>
                <a:latin typeface="Arial"/>
              </a:rPr>
              <a:t>Project Manager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5f5f5f"/>
                </a:solidFill>
                <a:latin typeface="Arial"/>
              </a:rPr>
              <a:t>Competence Center PLM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5f5f5f"/>
                </a:solidFill>
                <a:latin typeface="Arial"/>
              </a:rPr>
              <a:t>Sandvik Tooling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5f5f5f"/>
                </a:solidFill>
                <a:latin typeface="Arial"/>
              </a:rPr>
              <a:t>bengt.olsson@sandvik.com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rcRect l="14190" t="8706" r="0" b="13066"/>
          <a:stretch/>
        </p:blipFill>
        <p:spPr>
          <a:xfrm>
            <a:off x="-9360" y="2556000"/>
            <a:ext cx="3079440" cy="21715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3152880" y="2614680"/>
            <a:ext cx="2806560" cy="21128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rcRect l="14062" t="23559" r="0" b="13008"/>
          <a:stretch/>
        </p:blipFill>
        <p:spPr>
          <a:xfrm>
            <a:off x="6040440" y="2521080"/>
            <a:ext cx="3103560" cy="22064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0" y="2281320"/>
            <a:ext cx="9144000" cy="333360"/>
          </a:xfrm>
          <a:prstGeom prst="rect">
            <a:avLst/>
          </a:prstGeom>
          <a:solidFill>
            <a:srgbClr val="fcde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60000" y="431280"/>
            <a:ext cx="842004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200" spc="-1" strike="noStrike">
                <a:solidFill>
                  <a:srgbClr val="5f5f5f"/>
                </a:solidFill>
                <a:latin typeface="Arial"/>
              </a:rPr>
              <a:t>Part of the Sandvik Group</a:t>
            </a:r>
            <a:endParaRPr b="1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2276640"/>
            <a:ext cx="302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Tooling</a:t>
            </a:r>
            <a:endParaRPr b="0" lang="en-US" sz="18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37280" y="2276640"/>
            <a:ext cx="300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Materials Technology</a:t>
            </a:r>
            <a:endParaRPr b="0" lang="en-US" sz="18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132000" y="227664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Mining &amp; Construction</a:t>
            </a:r>
            <a:endParaRPr b="0" lang="en-US" sz="18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83B76-8919-48AD-A79B-6B1A48FD45E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60000" y="431280"/>
            <a:ext cx="842004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f5f5f"/>
                </a:solidFill>
                <a:latin typeface="Arial"/>
              </a:rPr>
              <a:t>Sandvik Coromant Facts</a:t>
            </a:r>
            <a:endParaRPr b="1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708000" y="1700280"/>
            <a:ext cx="5435640" cy="33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4600" indent="0">
              <a:spcBef>
                <a:spcPts val="6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5f5f5f"/>
                </a:solidFill>
                <a:latin typeface="Arial"/>
              </a:rPr>
              <a:t>World’s Largest Cutting Tool Producer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174600" indent="-174600">
              <a:spcBef>
                <a:spcPts val="499"/>
              </a:spcBef>
              <a:spcAft>
                <a:spcPts val="1001"/>
              </a:spcAft>
              <a:buClr>
                <a:srgbClr val="ff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Employees: 8 000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174600" indent="-174600">
              <a:spcBef>
                <a:spcPts val="499"/>
              </a:spcBef>
              <a:spcAft>
                <a:spcPts val="1001"/>
              </a:spcAft>
              <a:buClr>
                <a:srgbClr val="ff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Representation in 130 countries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174600" indent="-174600">
              <a:spcBef>
                <a:spcPts val="499"/>
              </a:spcBef>
              <a:spcAft>
                <a:spcPts val="1001"/>
              </a:spcAft>
              <a:buClr>
                <a:srgbClr val="ff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3 central distribution centers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174600" indent="-174600">
              <a:spcBef>
                <a:spcPts val="499"/>
              </a:spcBef>
              <a:spcAft>
                <a:spcPts val="1001"/>
              </a:spcAft>
              <a:buClr>
                <a:srgbClr val="ff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More than 20 productivity centers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174600" indent="-174600">
              <a:spcBef>
                <a:spcPts val="499"/>
              </a:spcBef>
              <a:spcAft>
                <a:spcPts val="1001"/>
              </a:spcAft>
              <a:buClr>
                <a:srgbClr val="ff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5f5f5f"/>
                </a:solidFill>
                <a:latin typeface="Arial"/>
              </a:rPr>
              <a:t>Application centers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174600" indent="0">
              <a:spcBef>
                <a:spcPts val="499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327" t="936" r="1512" b="1058"/>
          <a:stretch/>
        </p:blipFill>
        <p:spPr>
          <a:xfrm>
            <a:off x="395280" y="1197000"/>
            <a:ext cx="3144960" cy="4608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D79AE-904F-48E7-8289-1D06BE0471F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60000" y="431280"/>
            <a:ext cx="878364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f5f5f"/>
                </a:solidFill>
                <a:latin typeface="Arial"/>
              </a:rPr>
              <a:t>The Driving Force</a:t>
            </a:r>
            <a:br>
              <a:rPr sz="3200"/>
            </a:b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Contribute to Customer Success in Manufacturing</a:t>
            </a:r>
            <a:endParaRPr b="1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60000" y="1798560"/>
            <a:ext cx="842004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4600" indent="-174600">
              <a:spcBef>
                <a:spcPts val="499"/>
              </a:spcBef>
              <a:buClr>
                <a:srgbClr val="ff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Successful customers make smart decisions at multiple areas of their manufacturing.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174600" indent="-174600">
              <a:spcBef>
                <a:spcPts val="499"/>
              </a:spcBef>
              <a:buClr>
                <a:srgbClr val="ff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Smart decisions are made in presence of relevant and accurate information.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1746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1746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1746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Sandvik Coromant offers in addition to high performing cutting tools: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174600" indent="-174600">
              <a:spcBef>
                <a:spcPts val="4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Relevant and accurate information in order to enable smart decisions.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0F19F-1D1B-460E-B09B-DD154CF37AB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53272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f5f5f"/>
                </a:solidFill>
                <a:latin typeface="Arial"/>
              </a:rPr>
              <a:t>Smart Decisions</a:t>
            </a:r>
            <a:br>
              <a:rPr sz="3200"/>
            </a:b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Influenced by Cutting Tool Information</a:t>
            </a:r>
            <a:endParaRPr b="1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395280" y="1695600"/>
            <a:ext cx="1297080" cy="936360"/>
          </a:xfrm>
          <a:prstGeom prst="rect">
            <a:avLst/>
          </a:prstGeom>
          <a:ln w="9360">
            <a:solidFill>
              <a:srgbClr val="333333"/>
            </a:solidFill>
            <a:miter/>
          </a:ln>
        </p:spPr>
      </p:pic>
      <p:pic>
        <p:nvPicPr>
          <p:cNvPr id="108" name="" descr=""/>
          <p:cNvPicPr/>
          <p:nvPr/>
        </p:nvPicPr>
        <p:blipFill>
          <a:blip r:embed="rId2">
            <a:lum bright="12000"/>
          </a:blip>
          <a:stretch/>
        </p:blipFill>
        <p:spPr>
          <a:xfrm>
            <a:off x="324000" y="5369040"/>
            <a:ext cx="1368360" cy="9396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595440" y="2847960"/>
            <a:ext cx="1025280" cy="1152720"/>
          </a:xfrm>
          <a:prstGeom prst="rect">
            <a:avLst/>
          </a:prstGeom>
          <a:ln w="0">
            <a:noFill/>
          </a:ln>
        </p:spPr>
      </p:pic>
      <p:grpSp>
        <p:nvGrpSpPr>
          <p:cNvPr id="110" name=""/>
          <p:cNvGrpSpPr/>
          <p:nvPr/>
        </p:nvGrpSpPr>
        <p:grpSpPr>
          <a:xfrm>
            <a:off x="395280" y="4145040"/>
            <a:ext cx="1297080" cy="936720"/>
            <a:chOff x="395280" y="4145040"/>
            <a:chExt cx="1297080" cy="936720"/>
          </a:xfrm>
        </p:grpSpPr>
        <p:pic>
          <p:nvPicPr>
            <p:cNvPr id="111" name="" descr=""/>
            <p:cNvPicPr/>
            <p:nvPr/>
          </p:nvPicPr>
          <p:blipFill>
            <a:blip r:embed="rId4"/>
            <a:srcRect l="4135" t="0" r="0" b="0"/>
            <a:stretch/>
          </p:blipFill>
          <p:spPr>
            <a:xfrm>
              <a:off x="395280" y="4145040"/>
              <a:ext cx="1297080" cy="936720"/>
            </a:xfrm>
            <a:prstGeom prst="rect">
              <a:avLst/>
            </a:prstGeom>
            <a:ln w="9360">
              <a:solidFill>
                <a:srgbClr val="333333"/>
              </a:solidFill>
              <a:miter/>
            </a:ln>
          </p:spPr>
        </p:pic>
        <p:pic>
          <p:nvPicPr>
            <p:cNvPr id="112" name="" descr=""/>
            <p:cNvPicPr/>
            <p:nvPr/>
          </p:nvPicPr>
          <p:blipFill>
            <a:blip r:embed="rId5"/>
            <a:srcRect l="36418" t="35601" r="0" b="12503"/>
            <a:stretch/>
          </p:blipFill>
          <p:spPr>
            <a:xfrm>
              <a:off x="395280" y="4294800"/>
              <a:ext cx="1295640" cy="707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979640" y="1628640"/>
            <a:ext cx="662472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4600" indent="-174600">
              <a:spcBef>
                <a:spcPts val="499"/>
              </a:spcBef>
              <a:buClr>
                <a:srgbClr val="ff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5f5f5f"/>
                </a:solidFill>
                <a:latin typeface="Arial"/>
              </a:rPr>
              <a:t>CAD/CAM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lvl="1" marL="398520" indent="-201600">
              <a:spcBef>
                <a:spcPts val="4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5f5f5f"/>
                </a:solidFill>
                <a:latin typeface="Arial"/>
              </a:rPr>
              <a:t>choice of operations, machines, cutting tools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  <a:p>
            <a:pPr lvl="1" marL="398520" indent="-201600">
              <a:spcBef>
                <a:spcPts val="4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5f5f5f"/>
                </a:solidFill>
                <a:latin typeface="Arial"/>
              </a:rPr>
              <a:t>creation of efficient tool paths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  <a:p>
            <a:pPr lvl="1" marL="3985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  <a:p>
            <a:pPr marL="174600" indent="-174600">
              <a:spcBef>
                <a:spcPts val="499"/>
              </a:spcBef>
              <a:buClr>
                <a:srgbClr val="ff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5f5f5f"/>
                </a:solidFill>
                <a:latin typeface="Arial"/>
              </a:rPr>
              <a:t>Tool Management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lvl="1" marL="398520" indent="-201600">
              <a:spcBef>
                <a:spcPts val="4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5f5f5f"/>
                </a:solidFill>
                <a:latin typeface="Arial"/>
              </a:rPr>
              <a:t>efficient inventory and service of items in tool crib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  <a:p>
            <a:pPr lvl="1" marL="398520" indent="-201600">
              <a:spcBef>
                <a:spcPts val="4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5f5f5f"/>
                </a:solidFill>
                <a:latin typeface="Arial"/>
              </a:rPr>
              <a:t>selection and creation of tool assemblies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  <a:p>
            <a:pPr lvl="1" marL="3985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  <a:p>
            <a:pPr marL="174600" indent="-174600">
              <a:spcBef>
                <a:spcPts val="499"/>
              </a:spcBef>
              <a:buClr>
                <a:srgbClr val="ff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5f5f5f"/>
                </a:solidFill>
                <a:latin typeface="Arial"/>
              </a:rPr>
              <a:t>Simulation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lvl="1" marL="398520" indent="-201600">
              <a:spcBef>
                <a:spcPts val="4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5f5f5f"/>
                </a:solidFill>
                <a:latin typeface="Arial"/>
              </a:rPr>
              <a:t>verification of tool paths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  <a:p>
            <a:pPr lvl="1" marL="398520" indent="-201600">
              <a:spcBef>
                <a:spcPts val="4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5f5f5f"/>
                </a:solidFill>
                <a:latin typeface="Arial"/>
              </a:rPr>
              <a:t>selection of cutting data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  <a:p>
            <a:pPr lvl="1" marL="3985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  <a:p>
            <a:pPr marL="174600" indent="-174600">
              <a:spcBef>
                <a:spcPts val="499"/>
              </a:spcBef>
              <a:buClr>
                <a:srgbClr val="ff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5f5f5f"/>
                </a:solidFill>
                <a:latin typeface="Arial"/>
              </a:rPr>
              <a:t>CNC Machining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lvl="1" marL="398520" indent="-201600">
              <a:spcBef>
                <a:spcPts val="4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5f5f5f"/>
                </a:solidFill>
                <a:latin typeface="Arial"/>
              </a:rPr>
              <a:t>optimization of process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  <a:p>
            <a:pPr lvl="1" marL="3985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290AA-81C8-4952-BC57-ADEE7F8F588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60000" y="431280"/>
            <a:ext cx="842004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800" spc="-1" strike="noStrike">
                <a:solidFill>
                  <a:srgbClr val="5f5f5f"/>
                </a:solidFill>
                <a:latin typeface="Arial"/>
              </a:rPr>
              <a:t>Machining</a:t>
            </a:r>
            <a:br>
              <a:rPr sz="2800"/>
            </a:br>
            <a:r>
              <a:rPr b="1" lang="sv-SE" sz="2800" spc="-1" strike="noStrike">
                <a:solidFill>
                  <a:srgbClr val="5f5f5f"/>
                </a:solidFill>
                <a:latin typeface="Arial"/>
              </a:rPr>
              <a:t>Demonstration</a:t>
            </a:r>
            <a:br>
              <a:rPr sz="2800"/>
            </a:b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855880" y="0"/>
            <a:ext cx="6288120" cy="505620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04360" y="2526840"/>
            <a:ext cx="5435640" cy="33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46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5f5f5f"/>
                </a:solidFill>
                <a:latin typeface="Arial"/>
              </a:rPr>
              <a:t>6.3” Impeller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174600" indent="-174600">
              <a:spcBef>
                <a:spcPts val="451"/>
              </a:spcBef>
              <a:buClr>
                <a:srgbClr val="ff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5f5f5f"/>
                </a:solidFill>
                <a:latin typeface="Arial"/>
              </a:rPr>
              <a:t>Material: Ti6Al4V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174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1746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5f5f5f"/>
                </a:solidFill>
                <a:latin typeface="Arial"/>
              </a:rPr>
              <a:t>Cutting Tools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174600" indent="-174600">
              <a:spcBef>
                <a:spcPts val="451"/>
              </a:spcBef>
              <a:buClr>
                <a:srgbClr val="ff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5f5f5f"/>
                </a:solidFill>
                <a:latin typeface="Arial"/>
              </a:rPr>
              <a:t>Coromant Plura</a:t>
            </a:r>
            <a:br>
              <a:rPr sz="1800"/>
            </a:br>
            <a:r>
              <a:rPr b="0" lang="sv-SE" sz="1800" spc="-1" strike="noStrike">
                <a:solidFill>
                  <a:srgbClr val="5f5f5f"/>
                </a:solidFill>
                <a:latin typeface="Arial"/>
              </a:rPr>
              <a:t>Solid Carbide Endmills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lvl="1" marL="398520" indent="-201600">
              <a:spcBef>
                <a:spcPts val="425"/>
              </a:spcBef>
              <a:spcAft>
                <a:spcPts val="850"/>
              </a:spcAft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700" spc="-1" strike="noStrike">
                <a:solidFill>
                  <a:srgbClr val="5f5f5f"/>
                </a:solidFill>
                <a:latin typeface="Arial"/>
              </a:rPr>
              <a:t>Cylindrical endmills for roughing</a:t>
            </a:r>
            <a:endParaRPr b="0" lang="en-US" sz="1700" spc="-1" strike="noStrike">
              <a:solidFill>
                <a:srgbClr val="5f5f5f"/>
              </a:solidFill>
              <a:latin typeface="Arial"/>
            </a:endParaRPr>
          </a:p>
          <a:p>
            <a:pPr lvl="1" marL="398520" indent="-201600">
              <a:spcBef>
                <a:spcPts val="425"/>
              </a:spcBef>
              <a:spcAft>
                <a:spcPts val="850"/>
              </a:spcAft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700" spc="-1" strike="noStrike">
                <a:solidFill>
                  <a:srgbClr val="5f5f5f"/>
                </a:solidFill>
                <a:latin typeface="Arial"/>
              </a:rPr>
              <a:t>3</a:t>
            </a:r>
            <a:r>
              <a:rPr b="0" lang="sv-SE" sz="1700" spc="-1" strike="noStrike">
                <a:solidFill>
                  <a:srgbClr val="5f5f5f"/>
                </a:solidFill>
                <a:latin typeface="Arial"/>
                <a:ea typeface="Arial"/>
              </a:rPr>
              <a:t>º</a:t>
            </a:r>
            <a:r>
              <a:rPr b="0" lang="sv-SE" sz="1700" spc="-1" strike="noStrike">
                <a:solidFill>
                  <a:srgbClr val="5f5f5f"/>
                </a:solidFill>
                <a:latin typeface="Arial"/>
              </a:rPr>
              <a:t> conical ball nose mills for finishing</a:t>
            </a:r>
            <a:endParaRPr b="0" lang="en-US" sz="17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925080" y="3573360"/>
            <a:ext cx="660600" cy="5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5f5f5f"/>
                </a:solidFill>
                <a:latin typeface="Arial"/>
              </a:rPr>
              <a:t>T7</a:t>
            </a:r>
            <a:endParaRPr b="0" lang="en-US" sz="1600" spc="-1" strike="noStrike">
              <a:solidFill>
                <a:srgbClr val="5f5f5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5f5f5f"/>
                </a:solidFill>
                <a:latin typeface="Arial"/>
              </a:rPr>
              <a:t>   </a:t>
            </a:r>
            <a:r>
              <a:rPr b="1" i="1" lang="sv-SE" sz="1600" spc="-1" strike="noStrike">
                <a:solidFill>
                  <a:srgbClr val="5f5f5f"/>
                </a:solidFill>
                <a:latin typeface="Arial"/>
              </a:rPr>
              <a:t>D=10</a:t>
            </a:r>
            <a:endParaRPr b="0" lang="en-US" sz="16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219640" y="4149720"/>
            <a:ext cx="4352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5f5f5f"/>
                </a:solidFill>
                <a:latin typeface="Arial"/>
              </a:rPr>
              <a:t>T9</a:t>
            </a:r>
            <a:br>
              <a:rPr sz="1600"/>
            </a:br>
            <a:r>
              <a:rPr b="1" lang="sv-SE" sz="1600" spc="-1" strike="noStrike">
                <a:solidFill>
                  <a:srgbClr val="5f5f5f"/>
                </a:solidFill>
                <a:latin typeface="Arial"/>
              </a:rPr>
              <a:t> </a:t>
            </a:r>
            <a:r>
              <a:rPr b="1" i="1" lang="sv-SE" sz="1600" spc="-1" strike="noStrike">
                <a:solidFill>
                  <a:srgbClr val="5f5f5f"/>
                </a:solidFill>
                <a:latin typeface="Arial"/>
              </a:rPr>
              <a:t>D=8</a:t>
            </a:r>
            <a:endParaRPr b="0" lang="en-US" sz="16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587640" y="4149720"/>
            <a:ext cx="37872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5f5f5f"/>
                </a:solidFill>
                <a:latin typeface="Arial"/>
              </a:rPr>
              <a:t> </a:t>
            </a:r>
            <a:r>
              <a:rPr b="1" lang="sv-SE" sz="1600" spc="-1" strike="noStrike">
                <a:solidFill>
                  <a:srgbClr val="5f5f5f"/>
                </a:solidFill>
                <a:latin typeface="Arial"/>
              </a:rPr>
              <a:t>T8</a:t>
            </a:r>
            <a:br>
              <a:rPr sz="1600"/>
            </a:br>
            <a:r>
              <a:rPr b="1" i="1" lang="sv-SE" sz="1600" spc="-1" strike="noStrike">
                <a:solidFill>
                  <a:srgbClr val="5f5f5f"/>
                </a:solidFill>
                <a:latin typeface="Arial"/>
              </a:rPr>
              <a:t>R=4</a:t>
            </a:r>
            <a:br>
              <a:rPr sz="1600"/>
            </a:br>
            <a:r>
              <a:rPr b="1" i="1" lang="sv-SE" sz="1600" spc="-1" strike="noStrike">
                <a:solidFill>
                  <a:srgbClr val="5f5f5f"/>
                </a:solidFill>
                <a:latin typeface="Arial"/>
              </a:rPr>
              <a:t>3</a:t>
            </a:r>
            <a:r>
              <a:rPr b="1" i="1" lang="sv-SE" sz="1600" spc="-1" strike="noStrike">
                <a:solidFill>
                  <a:srgbClr val="5f5f5f"/>
                </a:solidFill>
                <a:latin typeface="Arial"/>
                <a:ea typeface="Arial"/>
              </a:rPr>
              <a:t>º</a:t>
            </a:r>
            <a:endParaRPr b="0" lang="en-US" sz="16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957080" y="3933720"/>
            <a:ext cx="462240" cy="8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5f5f5f"/>
                </a:solidFill>
                <a:latin typeface="Arial"/>
              </a:rPr>
              <a:t>  </a:t>
            </a:r>
            <a:r>
              <a:rPr b="1" lang="sv-SE" sz="1600" spc="-1" strike="noStrike">
                <a:solidFill>
                  <a:srgbClr val="5f5f5f"/>
                </a:solidFill>
                <a:latin typeface="Arial"/>
              </a:rPr>
              <a:t>T10</a:t>
            </a:r>
            <a:endParaRPr b="0" lang="en-US" sz="1600" spc="-1" strike="noStrike">
              <a:solidFill>
                <a:srgbClr val="5f5f5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v-SE" sz="1600" spc="-1" strike="noStrike">
                <a:solidFill>
                  <a:srgbClr val="5f5f5f"/>
                </a:solidFill>
                <a:latin typeface="Arial"/>
              </a:rPr>
              <a:t> </a:t>
            </a:r>
            <a:r>
              <a:rPr b="1" i="1" lang="sv-SE" sz="1600" spc="-1" strike="noStrike">
                <a:solidFill>
                  <a:srgbClr val="5f5f5f"/>
                </a:solidFill>
                <a:latin typeface="Arial"/>
              </a:rPr>
              <a:t>R=3</a:t>
            </a:r>
            <a:endParaRPr b="0" lang="en-US" sz="1600" spc="-1" strike="noStrike">
              <a:solidFill>
                <a:srgbClr val="5f5f5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v-SE" sz="1600" spc="-1" strike="noStrike">
                <a:solidFill>
                  <a:srgbClr val="5f5f5f"/>
                </a:solidFill>
                <a:latin typeface="Arial"/>
              </a:rPr>
              <a:t>3</a:t>
            </a:r>
            <a:r>
              <a:rPr b="1" i="1" lang="sv-SE" sz="1600" spc="-1" strike="noStrike">
                <a:solidFill>
                  <a:srgbClr val="5f5f5f"/>
                </a:solidFill>
                <a:latin typeface="Arial"/>
                <a:ea typeface="Arial"/>
              </a:rPr>
              <a:t>º</a:t>
            </a:r>
            <a:endParaRPr b="0" lang="en-US" sz="16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0815A-0E95-4BCD-AD8A-2E84EA1BA01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60000" y="431280"/>
            <a:ext cx="842004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200" spc="-1" strike="noStrike">
                <a:solidFill>
                  <a:srgbClr val="5f5f5f"/>
                </a:solidFill>
                <a:latin typeface="Arial"/>
              </a:rPr>
              <a:t>Methods of Cutting</a:t>
            </a:r>
            <a:endParaRPr b="1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60000" y="1798560"/>
            <a:ext cx="842004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4600" indent="-174600">
              <a:spcBef>
                <a:spcPts val="499"/>
              </a:spcBef>
              <a:buClr>
                <a:srgbClr val="ff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5f5f5f"/>
                </a:solidFill>
                <a:latin typeface="Arial"/>
              </a:rPr>
              <a:t>Roughing:</a:t>
            </a:r>
            <a:br>
              <a:rPr sz="2000"/>
            </a:br>
            <a:r>
              <a:rPr b="0" lang="sv-SE" sz="2000" spc="-1" strike="noStrike">
                <a:solidFill>
                  <a:srgbClr val="5f5f5f"/>
                </a:solidFill>
                <a:latin typeface="Arial"/>
              </a:rPr>
              <a:t>-Slot, flank and profile milling</a:t>
            </a:r>
            <a:br>
              <a:rPr sz="2000"/>
            </a:br>
            <a:r>
              <a:rPr b="0" lang="sv-SE" sz="2000" spc="-1" strike="noStrike">
                <a:solidFill>
                  <a:srgbClr val="5f5f5f"/>
                </a:solidFill>
                <a:latin typeface="Arial"/>
              </a:rPr>
              <a:t>-Climb milling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1746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1746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174600" indent="-174600">
              <a:spcBef>
                <a:spcPts val="499"/>
              </a:spcBef>
              <a:buClr>
                <a:srgbClr val="ff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5f5f5f"/>
                </a:solidFill>
                <a:latin typeface="Arial"/>
              </a:rPr>
              <a:t>Finishing:</a:t>
            </a:r>
            <a:br>
              <a:rPr sz="2000"/>
            </a:br>
            <a:r>
              <a:rPr b="0" lang="sv-SE" sz="2000" spc="-1" strike="noStrike">
                <a:solidFill>
                  <a:srgbClr val="5f5f5f"/>
                </a:solidFill>
                <a:latin typeface="Arial"/>
              </a:rPr>
              <a:t>-Flank and profile milling</a:t>
            </a:r>
            <a:br>
              <a:rPr sz="2000"/>
            </a:br>
            <a:r>
              <a:rPr b="0" lang="sv-SE" sz="2000" spc="-1" strike="noStrike">
                <a:solidFill>
                  <a:srgbClr val="5f5f5f"/>
                </a:solidFill>
                <a:latin typeface="Arial"/>
              </a:rPr>
              <a:t>-Climb milling</a:t>
            </a:r>
            <a:br>
              <a:rPr sz="2000"/>
            </a:br>
            <a:r>
              <a:rPr b="0" lang="sv-SE" sz="2000" spc="-1" strike="noStrike">
                <a:solidFill>
                  <a:srgbClr val="5f5f5f"/>
                </a:solidFill>
                <a:latin typeface="Arial"/>
              </a:rPr>
              <a:t>-Conventional milling (finish of blades)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1746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1746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6761160" y="4044960"/>
            <a:ext cx="1266840" cy="19051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6186600" y="1268280"/>
            <a:ext cx="1266840" cy="19051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6155280" y="853920"/>
            <a:ext cx="576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5f5f5f"/>
                </a:solidFill>
                <a:latin typeface="Arial"/>
              </a:rPr>
              <a:t>Climb:</a:t>
            </a:r>
            <a:endParaRPr b="0" lang="en-US" sz="16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154920" y="3689280"/>
            <a:ext cx="1242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5f5f5f"/>
                </a:solidFill>
                <a:latin typeface="Arial"/>
              </a:rPr>
              <a:t>Conventional:</a:t>
            </a:r>
            <a:endParaRPr b="0" lang="en-US" sz="16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30D48-0568-4C19-95A0-FCF9B41AA23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60000" y="431280"/>
            <a:ext cx="842004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200" spc="-1" strike="noStrike">
                <a:solidFill>
                  <a:srgbClr val="5f5f5f"/>
                </a:solidFill>
                <a:latin typeface="Arial"/>
              </a:rPr>
              <a:t>List of Operations</a:t>
            </a:r>
            <a:endParaRPr b="1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60000" y="1798560"/>
            <a:ext cx="842004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4600" indent="-174600">
              <a:spcBef>
                <a:spcPts val="499"/>
              </a:spcBef>
              <a:buClr>
                <a:srgbClr val="ff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5f5f5f"/>
                </a:solidFill>
                <a:latin typeface="Arial"/>
              </a:rPr>
              <a:t>Cutting speed target: 200 sfm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174600" indent="-174600">
              <a:spcBef>
                <a:spcPts val="499"/>
              </a:spcBef>
              <a:buClr>
                <a:srgbClr val="ff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5f5f5f"/>
                </a:solidFill>
                <a:latin typeface="Arial"/>
              </a:rPr>
              <a:t>Cutter load limit: .002 inch chip thickness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324000" y="2689200"/>
            <a:ext cx="8582040" cy="268452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>
            <a:lum bright="18000"/>
          </a:blip>
          <a:stretch/>
        </p:blipFill>
        <p:spPr>
          <a:xfrm>
            <a:off x="5580000" y="260280"/>
            <a:ext cx="3313080" cy="2359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61D5B-1986-43E9-9E6C-7C13ACC4AC4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60000" y="431280"/>
            <a:ext cx="842004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200" spc="-1" strike="noStrike">
                <a:solidFill>
                  <a:srgbClr val="5f5f5f"/>
                </a:solidFill>
                <a:latin typeface="Arial"/>
              </a:rPr>
              <a:t>Additional Data</a:t>
            </a:r>
            <a:endParaRPr b="1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250920" y="1484280"/>
            <a:ext cx="8642160" cy="4514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274CB-9D93-4343-8DAF-F03781DE633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7T10:12:16Z</dcterms:created>
  <dc:creator>ds71215</dc:creator>
  <dc:description>011227 Uppdaterat standard font till Arial</dc:description>
  <dc:language>en-US</dc:language>
  <cp:lastModifiedBy>Bengt Olsson</cp:lastModifiedBy>
  <cp:lastPrinted>2005-01-31T17:19:56Z</cp:lastPrinted>
  <dcterms:modified xsi:type="dcterms:W3CDTF">2008-10-01T15:26:48Z</dcterms:modified>
  <cp:revision>57</cp:revision>
  <dc:subject/>
  <dc:title>ABC-Impeller</dc:title>
</cp:coreProperties>
</file>