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D69-3B42-453F-B9E7-67C661F6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CF75-5961-428E-94BE-27F77DED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5805-52CB-4349-AAF1-34472B36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6CCB-2E02-4071-988E-CA46E31C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60C4-4D3C-4691-8437-509A6FFC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2B37-C7EC-4C30-9086-065F4488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FB25-AC2C-4629-8328-445FFD0D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3877-AFC1-423C-A889-318E9B53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2DC5-8D35-41AB-BDCB-4B1BE031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786-51DE-446F-925D-6FF74018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EF9E-D130-4310-A10C-D79F4109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173B-BD2B-4C02-B628-1AD41F2C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800FB-0230-48F7-9151-8382D64A1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9920" y="2585520"/>
            <a:ext cx="907092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3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meetlog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42720"/>
            <a:ext cx="9070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49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umulative People Per Day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10078920" cy="4127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35120" y="6262560"/>
            <a:ext cx="705168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33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~ 30 Hz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fes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d fri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601200" cy="720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1719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ant Tag Cloud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00000" y="1065240"/>
            <a:ext cx="8929800" cy="579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vs. Commi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2381400"/>
            <a:ext cx="9372600" cy="40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ag: DIYbi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614680" y="1859040"/>
          <a:ext cx="5075280" cy="3372840"/>
        </p:xfrm>
        <a:graphic>
          <a:graphicData uri="http://schemas.openxmlformats.org/drawingml/2006/table">
            <a:tbl>
              <a:tblPr/>
              <a:tblGrid>
                <a:gridCol w="1691640"/>
                <a:gridCol w="1691640"/>
                <a:gridCol w="1692000"/>
              </a:tblGrid>
              <a:tr h="33732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Yb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Ta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3732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3696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3732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h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6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3732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3732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696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e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ag: #hplusroadmap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286000" y="1860480"/>
          <a:ext cx="5714640" cy="3754080"/>
        </p:xfrm>
        <a:graphic>
          <a:graphicData uri="http://schemas.openxmlformats.org/drawingml/2006/table">
            <a:tbl>
              <a:tblPr/>
              <a:tblGrid>
                <a:gridCol w="1903680"/>
                <a:gridCol w="1904040"/>
                <a:gridCol w="1906920"/>
              </a:tblGrid>
              <a:tr h="3754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hplusroad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Ta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754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754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54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opi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754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476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754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54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l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754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r B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54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422080"/>
            <a:ext cx="9070920" cy="306396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~12,000 people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~200k emails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(47k unread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31777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arts aren't enough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9920" y="2971440"/>
            <a:ext cx="9070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mploding Universe Hypothes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27600" y="5943600"/>
            <a:ext cx="1558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im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6012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9920" y="34005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00,000 friend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per h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680" y="158760"/>
            <a:ext cx="9542520" cy="715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per day of w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9920" y="1599840"/>
            <a:ext cx="9070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123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Mom Anecdote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9920" y="1828800"/>
            <a:ext cx="90709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4000 people x 100 things each?</a:t>
            </a: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ard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828440"/>
            <a:ext cx="9070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123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email matrix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tchup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7400" y="193680"/>
            <a:ext cx="6210360" cy="712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A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9440" y="317520"/>
            <a:ext cx="9828360" cy="676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4:05:14Z</dcterms:created>
  <dc:creator>Bryan Bishop</dc:creator>
  <dc:description/>
  <dc:language>en-US</dc:language>
  <cp:lastModifiedBy>Bryan Bishop</cp:lastModifiedBy>
  <dcterms:modified xsi:type="dcterms:W3CDTF">2011-07-19T15:24:31Z</dcterms:modified>
  <cp:revision>10</cp:revision>
  <dc:subject/>
  <dc:title/>
</cp:coreProperties>
</file>