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745-21BF-42AE-A664-B4F0292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34B-09B1-472C-9E23-499E1CB9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F78-51DE-43C7-AAAC-13A441FB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C9E-7A08-46F6-B5FB-C18049EC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9D5-F106-4BD9-AABC-87F88B3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B54-B6F5-4F60-A3E1-DE66BFA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6B9-6142-47A2-9FAE-789E520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CB6-320F-4488-AFA3-2E21496C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840-5475-4518-95F3-8B334B2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186-6497-4BEE-9757-3938AA2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CD4-DC0C-472C-8E36-CC6AF8D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F45-19F7-4C11-8B62-59F3BD6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04239-98DC-438A-BEC2-C88C76FC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2585520"/>
            <a:ext cx="907092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meetlog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90709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umulative People Per Da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10078920" cy="412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35120" y="6262560"/>
            <a:ext cx="705168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3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 30 H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f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1719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ant Tag Cloud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065240"/>
            <a:ext cx="8929800" cy="57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vs. Commi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2381400"/>
            <a:ext cx="93726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g: DIYb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614680" y="1859040"/>
          <a:ext cx="5075280" cy="3372840"/>
        </p:xfrm>
        <a:graphic>
          <a:graphicData uri="http://schemas.openxmlformats.org/drawingml/2006/table">
            <a:tbl>
              <a:tblPr/>
              <a:tblGrid>
                <a:gridCol w="1691640"/>
                <a:gridCol w="1691640"/>
                <a:gridCol w="1692000"/>
              </a:tblGrid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Y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69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6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3732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9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g: #hplusroadma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0" y="1860480"/>
          <a:ext cx="5714640" cy="3754080"/>
        </p:xfrm>
        <a:graphic>
          <a:graphicData uri="http://schemas.openxmlformats.org/drawingml/2006/table">
            <a:tbl>
              <a:tblPr/>
              <a:tblGrid>
                <a:gridCol w="1903680"/>
                <a:gridCol w="1904040"/>
                <a:gridCol w="1906920"/>
              </a:tblGrid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hplus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opi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47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54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22080"/>
            <a:ext cx="907092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12,000 people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~200k email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(47k unread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1777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arts aren't enough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9920" y="2971440"/>
            <a:ext cx="9070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mploding Universe Hypo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7600" y="5943600"/>
            <a:ext cx="155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m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9920" y="34005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00,000 frien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per h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80" y="158760"/>
            <a:ext cx="9542520" cy="71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per day of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1599840"/>
            <a:ext cx="9070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Mom Anecdote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9920" y="1828800"/>
            <a:ext cx="9070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4000 people x 100 things each?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ard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9070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12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email matrix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chup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193680"/>
            <a:ext cx="6210360" cy="71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A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9440" y="317520"/>
            <a:ext cx="9828360" cy="676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4:05:14Z</dcterms:created>
  <dc:creator>Bryan Bishop</dc:creator>
  <dc:description/>
  <dc:language>en-US</dc:language>
  <cp:lastModifiedBy>Bryan Bishop</cp:lastModifiedBy>
  <dcterms:modified xsi:type="dcterms:W3CDTF">2011-07-19T15:24:31Z</dcterms:modified>
  <cp:revision>10</cp:revision>
  <dc:subject/>
  <dc:title/>
</cp:coreProperties>
</file>