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8.gif" ContentType="image/gif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1.gif" ContentType="image/gif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292-4062-4B75-A8A6-3067E7A4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269-07BD-4876-96DA-2121BD69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40C7-5ABF-47A5-9CCD-F066D2C1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EF3-74A9-4DEF-85BC-F53A9D8E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607-1A75-4CFE-93A0-F18FB6B9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F44-918D-42F1-AE12-6CB26FD5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928-2044-433F-BC18-98362EBC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EDA-E52D-41C5-818E-FD4107B2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BF9-AE6B-4532-93AE-84534A4F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70D-BAFF-48E1-9D88-FBD60692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F54-B724-4A12-8943-F347CACF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0B6-E577-4DE9-A973-E3653625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EDA2C-DDEE-4619-BC22-8AB3E4662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github.com/kanzure/pokecrystal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kémon Cryst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08240" y="6877080"/>
            <a:ext cx="424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github.com/kanzure/pokecry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62200" y="1920960"/>
            <a:ext cx="4927680" cy="44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stal.p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b bag of wonderfu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s of all so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d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m output, for bulk disassembling all scripts associated with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asm insertion into main.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complete unit testing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g.p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8000"/>
          </a:bodyPr>
          <a:p>
            <a:pPr marL="293400" indent="-219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 has compressed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3400" indent="-219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ression: y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3400" indent="-219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: defini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3400" indent="-219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g support: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3400" indent="-219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b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3400" indent="-219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7160" indent="-2203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e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7160" indent="-2203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7160" indent="-2203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pics &amp; front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7160" indent="-2203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7160" indent="-2203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ons...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ic parser and dum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11320" y="1371600"/>
            <a:ext cx="6120000" cy="58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cat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C 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s a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quotes from trainers inside th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520" y="4022640"/>
            <a:ext cx="95472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ba-clojure / vba-linu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k of vba-rerecording, which is a fork of v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VM b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j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yth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functions: warp to any map, breakpoints, watchpoints, screenshots, animated g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ython tool – keyboard optim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463400"/>
            <a:ext cx="88693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typing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really sure which way to go to type a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keyboard as graph, find shortest sequence of possible button presses to type st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95640" y="4206960"/>
            <a:ext cx="3579840" cy="32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rd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lient (not disassemb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 client (not disassemb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ing fun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3440" y="1768320"/>
            <a:ext cx="487044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ing fun, 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3440" y="1768320"/>
            <a:ext cx="487044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65040" y="1279440"/>
            <a:ext cx="11247480" cy="60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sm (Why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15920" y="167796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rijon.com/pris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680" y="246852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51040" y="2505240"/>
            <a:ext cx="2193840" cy="197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029200" y="2468520"/>
            <a:ext cx="2235240" cy="2011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589880" y="2468520"/>
            <a:ext cx="2193840" cy="1974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65040" y="4754520"/>
            <a:ext cx="2133720" cy="1920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733840" y="4754520"/>
            <a:ext cx="2112840" cy="1901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060880" y="4562640"/>
            <a:ext cx="2346480" cy="2111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7542360" y="4664160"/>
            <a:ext cx="224136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 (R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46080" y="1768320"/>
            <a:ext cx="43844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3440" y="3637080"/>
            <a:ext cx="4659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iyhpl.us/~bryan/irc/pokered/result2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github.com/kanzure/pokecry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c: nucleus.kafuka.org #skeet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c: #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heybryan.org/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github.com/kanz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compile back to the original ROM (byte-exa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commented and understa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separate code/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dump-and-ru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: don't require the original 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n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100584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06560" y="2193840"/>
            <a:ext cx="7954920" cy="35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N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20720" y="1768320"/>
            <a:ext cx="851364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-255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scri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93840" y="747720"/>
            <a:ext cx="5943600" cy="67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a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80asm.hs (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 preprocessor in awk (deprec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 preprocessor in 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z80disa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 disassemb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in 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s at the end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used for other gb/gbc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20:04:58Z</dcterms:created>
  <dc:creator>Bryan Bishop</dc:creator>
  <dc:description/>
  <dc:language>en-US</dc:language>
  <cp:lastModifiedBy>Bryan Bishop</cp:lastModifiedBy>
  <dcterms:modified xsi:type="dcterms:W3CDTF">2013-03-28T22:30:51Z</dcterms:modified>
  <cp:revision>2</cp:revision>
  <dc:subject/>
  <dc:title/>
</cp:coreProperties>
</file>