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gif" ContentType="image/gif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701-0BCD-4F16-B0CD-23B8CC4D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949-CF7F-4609-B703-6230A9B7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5CE-2511-4C62-ABBA-848DB736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050-4F76-45D8-9539-C34AFDFC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06B-3522-4444-997E-9F947C50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1BF-2076-400E-BF54-15F03316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FFC-8160-403B-AEA5-A0E2D537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651-C9C3-49E1-8DAC-8358AABD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9DF-718B-4D9A-90D1-3B506C47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751-1715-496C-85A7-C4F0DF4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BB3-DC24-4416-BAA4-6AA2AF7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3F1-A0E1-4281-93A5-5CA636FB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7C0C9-E54C-4BE8-BBAA-F6C5EE1CD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github.com/kanzure/pokecrystal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kémon Cryst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08240" y="6877080"/>
            <a:ext cx="424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github.com/kanzure/poke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62200" y="1920960"/>
            <a:ext cx="4927680" cy="44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.p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 bag of wonderfu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s of all so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m output, for bulk disassembling all scripts associated with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asm insertion into main.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complete unit testing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g.p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8000"/>
          </a:bodyPr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 has compressed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ression: y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: defini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g support: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b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7160" indent="-2203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e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7160" indent="-2203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7160" indent="-2203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pics &amp; front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7160" indent="-2203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7160" indent="-2203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ons...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ic parser and 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11320" y="1371600"/>
            <a:ext cx="6120000" cy="58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cat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C 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s a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quotes from trainers inside th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520" y="4022640"/>
            <a:ext cx="95472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ba-clojure / vba-linu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k of vba-rerecording, which is a fork of v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VM b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j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th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functions: warp to any map, breakpoints, watchpoints, screenshots, animated g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ython tool – keyboard optim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46340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typing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really sure which way to go to type a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keyboard as graph, find shortest sequence of possible button presses to type st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95640" y="4206960"/>
            <a:ext cx="3579840" cy="32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rd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lient (not disassemb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 client (not disassemb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ing fun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3440" y="1768320"/>
            <a:ext cx="487044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ing fun, 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3440" y="1768320"/>
            <a:ext cx="487044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65040" y="1279440"/>
            <a:ext cx="1124748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sm (Why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15920" y="167796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rijon.com/pris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680" y="246852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51040" y="2505240"/>
            <a:ext cx="2193840" cy="197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29200" y="2468520"/>
            <a:ext cx="2235240" cy="2011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589880" y="2468520"/>
            <a:ext cx="2193840" cy="1974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65040" y="4754520"/>
            <a:ext cx="2133720" cy="1920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733840" y="4754520"/>
            <a:ext cx="2112840" cy="1901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060880" y="4562640"/>
            <a:ext cx="2346480" cy="2111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542360" y="4664160"/>
            <a:ext cx="224136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 (R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46080" y="1768320"/>
            <a:ext cx="43844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3440" y="3637080"/>
            <a:ext cx="4659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yhpl.us/~bryan/irc/pokered/result2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github.com/kanzure/poke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c: nucleus.kafuka.org #skeet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c: #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heybryan.org/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github.com/kanz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compile back to the original ROM (byte-ex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commented and understa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separate code/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dump-and-ru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: don't require the original 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n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10058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06560" y="2193840"/>
            <a:ext cx="795492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N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20720" y="1768320"/>
            <a:ext cx="851364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-255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scri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93840" y="747720"/>
            <a:ext cx="5943600" cy="67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80asm.hs (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preprocessor in awk (deprec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preprocessor in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z80disa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disassemb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in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s at the end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used for other gb/gbc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20:04:58Z</dcterms:created>
  <dc:creator>Bryan Bishop</dc:creator>
  <dc:description/>
  <dc:language>en-US</dc:language>
  <cp:lastModifiedBy>Bryan Bishop</cp:lastModifiedBy>
  <dcterms:modified xsi:type="dcterms:W3CDTF">2013-03-28T22:30:51Z</dcterms:modified>
  <cp:revision>2</cp:revision>
  <dc:subject/>
  <dc:title/>
</cp:coreProperties>
</file>