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6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9768-8FAB-4AE4-858E-4C6E7DCE8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C1CC-1941-4E68-A818-D42C2AA82155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C871-269F-4A9E-93E9-0A651CEF0D2C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 innovations in and innovative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CBD1-932B-4729-9B73-C42F452DADB9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 innovations in and innovative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A987-D364-47DE-8296-60336B9FBEEC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 innovations in and innovative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1E36-1948-4000-9587-27086B4C5EE1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3010-C781-4B13-BE6B-5336B1DD3E4C}" type="slidenum">
              <a:rPr b="0" lang="en-US" sz="1200" spc="-1" strike="noStrike">
                <a:solidFill>
                  <a:srgbClr val="6d6e7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CCB-1AC9-400A-B097-AD54154B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E55-2AF4-4F47-B0DF-E9FF626A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70B-4D2F-4A01-A85C-3EBB5E57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99D-001D-422C-83F9-39885C44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054E-B6E0-45F6-8AB7-1032FFA4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597E-EE5A-4D9E-B6D4-79258327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43F6-6FD0-4FFE-8520-183BF6FF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0C39-6FD9-4ECB-A82A-D3D0990C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FC02-5DC2-4449-B16A-2A8D5AE2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9662-B0E6-4ADF-96E6-BDDC30D2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90D9-A37A-44AB-8893-77D9599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350-8D29-4AF5-865B-CCCF9080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FB24-D3DA-493F-A85E-57231915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C690-C4F4-4043-9E1A-5C9EA62E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59F6-29C6-4297-AED5-A6A2DCF3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065F-999B-4057-8C10-52BEF7DB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5E0A-906E-4D60-8473-14B03904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4B83-4707-421D-9319-B8682307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77AAF-A76F-4BAC-BB63-D3A13F78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98E2-2362-4F5D-8586-AD6AA1D9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8386-D017-44BD-B70C-4F450FF7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4D20-88B5-4C3C-94E8-A07730AA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841-BC22-4E5C-AD00-84EBCC22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30D5-1FE7-41A7-8B0F-CC354C6A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67C0A-0AFC-4B8B-B018-F6DA7F2E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8B74-3E9E-4EEA-B141-3A4AE7EF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EDB9-845E-4FF3-A6D6-3991AA03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6E84-6166-4802-8424-E17DFC51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AE4C-BEB3-4470-BFB6-A2F527C8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B313C-5185-4E39-A6AE-FA5392E9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D0B-125C-4346-A8BC-544D748E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1D4-ACB4-4577-B377-3A7E7A88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276-6C8A-4581-BF60-05A5927A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D1E-5E92-464D-A79C-F3A02026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412-B865-41FB-9E0E-9E4D68EF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1B9-06FC-4F27-B7B5-B203989F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b9d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5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12D9-53A1-4B57-BCA2-4A4E6FB1E5BB}" type="slidenum">
              <a:rPr b="0" lang="en-US" sz="1200" spc="-1" strike="noStrike">
                <a:solidFill>
                  <a:srgbClr val="a3a3a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b9d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5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94C0-5936-4754-98B0-1BA3B5CEDAAB}" type="slidenum">
              <a:rPr b="0" lang="en-US" sz="1200" spc="-1" strike="noStrike">
                <a:solidFill>
                  <a:srgbClr val="a3a3a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6477120" y="5943600"/>
            <a:ext cx="2292120" cy="762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6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b9d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d6e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e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5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2A23-F0C9-48A5-8918-35A5C5142736}" type="slidenum">
              <a:rPr b="0" lang="en-US" sz="1200" spc="-1" strike="noStrike">
                <a:solidFill>
                  <a:srgbClr val="a3a3a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nicoleb@rareproject.org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-15840" y="6581880"/>
            <a:ext cx="299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d6e71"/>
                </a:solidFill>
                <a:latin typeface="Arial"/>
              </a:rPr>
              <a:t>© 2011 Global Genes Project    </a:t>
            </a:r>
            <a:r>
              <a:rPr b="0" lang="en-US" sz="1000" spc="-1" strike="noStrike">
                <a:solidFill>
                  <a:srgbClr val="6d6e71"/>
                </a:solidFill>
                <a:latin typeface="Arial"/>
              </a:rPr>
              <a:t>2011-07 r8 </a:t>
            </a:r>
            <a:endParaRPr b="0" lang="en-US" sz="10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14400" y="25686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R.A.R.E Projec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s –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RARE Fund</a:t>
            </a: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pic>
        <p:nvPicPr>
          <p:cNvPr id="158" name="Text Placeholder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Contact Information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b9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Nicole Boice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nder/President RARE Project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w Cen MT"/>
                <a:hlinkClick r:id="rId2"/>
              </a:rPr>
              <a:t>nicoleb@rareproject.org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949.248.7273 (RARE)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ARE is not so RARE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36" name="Oval 2"/>
          <p:cNvSpPr/>
          <p:nvPr/>
        </p:nvSpPr>
        <p:spPr>
          <a:xfrm>
            <a:off x="533520" y="1295280"/>
            <a:ext cx="4572000" cy="4572000"/>
          </a:xfrm>
          <a:prstGeom prst="ellipse">
            <a:avLst/>
          </a:prstGeom>
          <a:solidFill>
            <a:srgbClr val="e46c0a"/>
          </a:solidFill>
          <a:ln w="9360">
            <a:solidFill>
              <a:srgbClr val="7ab6c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S Only</a:t>
            </a:r>
            <a:r>
              <a:rPr b="0" lang="en-US" sz="1800" spc="-1" strike="noStrike">
                <a:solidFill>
                  <a:srgbClr val="6d6e7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ving with</a:t>
            </a:r>
            <a:endParaRPr b="0" lang="en-US" sz="18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452a"/>
                </a:solidFill>
                <a:latin typeface="Tw Cen MT"/>
              </a:rPr>
              <a:t>Rare Disease</a:t>
            </a: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35m</a:t>
            </a: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5410080" y="1523880"/>
            <a:ext cx="2743200" cy="2514600"/>
          </a:xfrm>
          <a:prstGeom prst="ellipse">
            <a:avLst/>
          </a:prstGeom>
          <a:solidFill>
            <a:srgbClr val="6a972d"/>
          </a:solidFill>
          <a:ln w="9360">
            <a:solidFill>
              <a:srgbClr val="7ab6c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orldw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ing with </a:t>
            </a:r>
            <a:r>
              <a:rPr b="1" lang="en-US" sz="2800" spc="-1" strike="noStrike">
                <a:solidFill>
                  <a:srgbClr val="4a452a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m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4495680" y="4724280"/>
            <a:ext cx="2590920" cy="1371600"/>
            <a:chOff x="4495680" y="4724280"/>
            <a:chExt cx="2590920" cy="1371600"/>
          </a:xfrm>
        </p:grpSpPr>
        <p:sp>
          <p:nvSpPr>
            <p:cNvPr id="139" name="Oval 6"/>
            <p:cNvSpPr/>
            <p:nvPr/>
          </p:nvSpPr>
          <p:spPr>
            <a:xfrm>
              <a:off x="5486400" y="4724280"/>
              <a:ext cx="609480" cy="609480"/>
            </a:xfrm>
            <a:prstGeom prst="ellipse">
              <a:avLst/>
            </a:prstGeom>
            <a:solidFill>
              <a:srgbClr val="fac090"/>
            </a:solidFill>
            <a:ln w="9360">
              <a:solidFill>
                <a:srgbClr val="7ab6cd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d6e71"/>
                </a:solidFill>
                <a:latin typeface="Arial"/>
              </a:endParaRPr>
            </a:p>
          </p:txBody>
        </p:sp>
        <p:sp>
          <p:nvSpPr>
            <p:cNvPr id="140" name="Content Placeholder 1"/>
            <p:cNvSpPr/>
            <p:nvPr/>
          </p:nvSpPr>
          <p:spPr>
            <a:xfrm>
              <a:off x="4495680" y="5410080"/>
              <a:ext cx="2590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w Cen MT"/>
                </a:rPr>
                <a:t>US Only - living with </a:t>
              </a:r>
              <a:endParaRPr b="0" lang="en-US" sz="2000" spc="-1" strike="noStrike">
                <a:solidFill>
                  <a:srgbClr val="6d6e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w Cen MT"/>
                </a:rPr>
                <a:t>HIV/AIDS</a:t>
              </a:r>
              <a:endParaRPr b="0" lang="en-US" sz="2000" spc="-1" strike="noStrike">
                <a:solidFill>
                  <a:srgbClr val="6d6e71"/>
                </a:solidFill>
                <a:latin typeface="Arial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5436360" y="483876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568"/>
                  </a:solidFill>
                  <a:latin typeface="Arial"/>
                </a:rPr>
                <a:t>1.2m</a:t>
              </a:r>
              <a:endParaRPr b="0" lang="en-US" sz="1800" spc="-1" strike="noStrike">
                <a:solidFill>
                  <a:srgbClr val="6d6e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ARE is not so RARE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24440" y="32464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S Only</a:t>
            </a:r>
            <a:r>
              <a:rPr b="0" lang="en-US" sz="1800" spc="-1" strike="noStrike">
                <a:solidFill>
                  <a:srgbClr val="6d6e7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38600" y="1933200"/>
            <a:ext cx="4580280" cy="3448800"/>
          </a:xfrm>
          <a:prstGeom prst="rect">
            <a:avLst/>
          </a:prstGeom>
          <a:solidFill>
            <a:srgbClr val="e46c0a"/>
          </a:solidFill>
          <a:ln w="9360">
            <a:solidFill>
              <a:srgbClr val="7ab6c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txBody>
          <a:bodyPr tIns="0" bIns="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,000 RARE Diseases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10 Americans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b9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0M worldwide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The Problem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Over 80% of Rare Diseases have no disease-specific advocacy group or support</a:t>
            </a:r>
            <a:endParaRPr b="0" lang="en-US" sz="26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Over past 25+ years, only </a:t>
            </a: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350 new drugs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approved by FDA for all Rare Diseases combined  </a:t>
            </a:r>
            <a:endParaRPr b="0" lang="en-US" sz="26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Rare Disease early research funded by patient advocates/advocacy groups</a:t>
            </a:r>
            <a:endParaRPr b="0" lang="en-US" sz="26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urrently Rare Disease funding is limited to small networks of families and friends</a:t>
            </a:r>
            <a:endParaRPr b="0" lang="en-US" sz="26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w Cen MT"/>
              </a:rPr>
              <a:t>No catalyst for new investment!</a:t>
            </a: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The Solution – Awareness &amp; Money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RARE Fund™ - Two Facets</a:t>
            </a:r>
            <a:endParaRPr b="0" lang="en-US" sz="3200" spc="-1" strike="noStrike">
              <a:solidFill>
                <a:srgbClr val="6d6e7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Micro-donation website and funding portal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road public appeal 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ives general public an opportunity to donate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odeled after successful micro-funding platforms;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Razoo.com, crowdrise.com, giveforward.org, broadcause.com  </a:t>
            </a:r>
            <a:endParaRPr b="0" lang="en-US" sz="20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reate opportunity to tap </a:t>
            </a:r>
            <a:r>
              <a:rPr b="0" lang="ja-JP" sz="2400" spc="-1" strike="noStrike">
                <a:solidFill>
                  <a:srgbClr val="ffffff"/>
                </a:solidFill>
                <a:latin typeface="Tw Cen MT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new money, new philanthropists</a:t>
            </a:r>
            <a:r>
              <a:rPr b="0" lang="ja-JP" sz="2400" spc="-1" strike="noStrike">
                <a:solidFill>
                  <a:srgbClr val="ffffff"/>
                </a:solidFill>
                <a:latin typeface="Tw Cen MT"/>
              </a:rPr>
              <a:t>’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Corporate Fund &amp; Global Genes Project Campaign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Provides opportunity for corporations to fund research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Impact on 1 in 10 Americans (350 million) is attractive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rst time opportunity to fund </a:t>
            </a:r>
            <a:r>
              <a:rPr b="0" lang="ja-JP" sz="2400" spc="-1" strike="noStrike">
                <a:solidFill>
                  <a:srgbClr val="ffffff"/>
                </a:solidFill>
                <a:latin typeface="Tw Cen MT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rare disease</a:t>
            </a:r>
            <a:r>
              <a:rPr b="0" lang="ja-JP" sz="24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research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.A.R.E FUND</a:t>
            </a:r>
            <a:r>
              <a:rPr b="0" lang="en-US" sz="3000" spc="-1" strike="noStrike" baseline="52000">
                <a:solidFill>
                  <a:srgbClr val="ffffff"/>
                </a:solidFill>
                <a:latin typeface="Tw Cen MT Condensed Extra Bold"/>
              </a:rPr>
              <a:t>™</a:t>
            </a:r>
            <a:endParaRPr b="0" lang="en-US" sz="3000" spc="-1" strike="noStrike">
              <a:solidFill>
                <a:srgbClr val="005568"/>
              </a:solidFill>
              <a:latin typeface="Arial"/>
            </a:endParaRPr>
          </a:p>
        </p:txBody>
      </p:sp>
      <p:pic>
        <p:nvPicPr>
          <p:cNvPr id="150" name="Content Placeholder 4" descr="GGF_PotOfFunds_r2.jpg"/>
          <p:cNvPicPr/>
          <p:nvPr/>
        </p:nvPicPr>
        <p:blipFill>
          <a:blip r:embed="rId2"/>
          <a:stretch/>
        </p:blipFill>
        <p:spPr>
          <a:xfrm>
            <a:off x="914400" y="1649520"/>
            <a:ext cx="7772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.A.R.E FUND</a:t>
            </a:r>
            <a:r>
              <a:rPr b="0" lang="en-US" sz="2400" spc="-1" strike="noStrike">
                <a:solidFill>
                  <a:srgbClr val="ffffff"/>
                </a:solidFill>
                <a:latin typeface="Tw Cen MT Condensed Extra Bold"/>
              </a:rPr>
              <a:t>™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Micro-Donation Website</a:t>
            </a:r>
            <a:endParaRPr b="0" lang="en-US" sz="28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 novel approach to raising funds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ontemporary, multi-faceted, and engaging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Open, trusting, and transparent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acilitate broad general public donor involvement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resenting Research – Lay view and Research view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Engaging new generation of philanthropists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atalyzing excitement around innovations in science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.A.R.E. FUND</a:t>
            </a: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™</a:t>
            </a:r>
            <a:r>
              <a:rPr b="0" lang="en-US" sz="20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w Cen MT Condensed Extra Bold"/>
              </a:rPr>
              <a:t>- General</a:t>
            </a:r>
            <a:r>
              <a:rPr b="0" lang="en-US" sz="3000" spc="-1" strike="noStrike" baseline="52000">
                <a:solidFill>
                  <a:srgbClr val="ffffff"/>
                </a:solidFill>
                <a:latin typeface="Tw Cen MT Condensed Extra Bold"/>
              </a:rPr>
              <a:t> </a:t>
            </a:r>
            <a:endParaRPr b="0" lang="en-US" sz="30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Emphasis on improving the Rare Disease ecosystem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enerate/organize research profiles &amp; disease databases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und peer reviewed cross-disease projects &amp; infrastructure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Impact policy, collaboration, and process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Fund Innovations – with </a:t>
            </a:r>
            <a:r>
              <a:rPr b="0" lang="ja-JP" sz="2800" spc="-1" strike="noStrike">
                <a:solidFill>
                  <a:srgbClr val="ffffff"/>
                </a:solidFill>
                <a:latin typeface="Tw Cen MT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in-their-lifetime</a:t>
            </a:r>
            <a:r>
              <a:rPr b="0" lang="ja-JP" sz="2800" spc="-1" strike="noStrike">
                <a:solidFill>
                  <a:srgbClr val="ffffff"/>
                </a:solidFill>
                <a:latin typeface="Tw Cen MT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 impact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Focus: To accelerate process, increase collaborations and improve efficiencies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R.A.R.E. Project</a:t>
            </a:r>
            <a:endParaRPr b="0" lang="en-US" sz="4400" spc="-1" strike="noStrike">
              <a:solidFill>
                <a:srgbClr val="00556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R.A.R.E. Projects three pronged strategy: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wareness &amp; education 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ommunity-building and empowerment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unding in-their-lifetime Rare Disease research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Supported by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: 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Industry: Pfizer, Life Technologies, Illumina, Shire, Genzyme, BioMarin, BIO, PhRMA, NIH, etc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dvocacy: 450+ global organizations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Acitivities: </a:t>
            </a:r>
            <a:endParaRPr b="0" lang="en-US" sz="2800" spc="-1" strike="noStrike">
              <a:solidFill>
                <a:srgbClr val="6d6e71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Global Genes Project™, Childrens RARE Disease Network™, RARE Blog™, RARE Fund™</a:t>
            </a: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d6e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4:59:27Z</dcterms:created>
  <dc:creator>sbrown</dc:creator>
  <dc:description/>
  <dc:language>en-US</dc:language>
  <cp:lastModifiedBy>Nicole Boice</cp:lastModifiedBy>
  <dcterms:modified xsi:type="dcterms:W3CDTF">2011-10-18T05:09:59Z</dcterms:modified>
  <cp:revision>102</cp:revision>
  <dc:subject/>
  <dc:title>Slide 1</dc:title>
</cp:coreProperties>
</file>