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" name="Line 2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50418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91476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24380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57284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90152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2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1236600" indent="-5252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681200" indent="-5256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2125800" indent="-5256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2570040" indent="-5252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2570040" indent="-5252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2570040" indent="-5252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50418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91476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24380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57284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90152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20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00280" y="7797960"/>
            <a:ext cx="634968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59440" y="7797960"/>
            <a:ext cx="504180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 marL="243360" indent="-2433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 marL="243360" indent="-243360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 marL="243360" indent="-2433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 marL="243360" indent="-243360">
              <a:buClr>
                <a:srgbClr val="4d4d4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 marL="243360" indent="-2433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 marL="243360" indent="-2433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201080" y="698040"/>
            <a:ext cx="5689440" cy="1638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a1a1a"/>
                </a:solidFill>
                <a:latin typeface="Copperplate"/>
              </a:rPr>
              <a:t>Click to edit the title text format</a:t>
            </a:r>
            <a:endParaRPr b="0" lang="en-US" sz="3800" spc="-1" strike="noStrike">
              <a:solidFill>
                <a:srgbClr val="1a1a1a"/>
              </a:solidFill>
              <a:latin typeface="Copperplat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201080" y="7467120"/>
            <a:ext cx="56894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72000"/>
          </a:bodyPr>
          <a:p>
            <a:pPr marL="2469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 marL="246960" indent="-2469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 marL="246960" indent="-246960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 marL="246960" indent="-2469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 marL="246960" indent="-246960">
              <a:buClr>
                <a:srgbClr val="4d4d4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 marL="246960" indent="-2469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 marL="246960" indent="-2469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0280" y="7797960"/>
            <a:ext cx="634968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759440" y="7797960"/>
            <a:ext cx="504180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 marL="243360" indent="-2433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 marL="243360" indent="-243360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 marL="243360" indent="-243360"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 marL="243360" indent="-243360">
              <a:buClr>
                <a:srgbClr val="4d4d4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 marL="243360" indent="-2433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 marL="243360" indent="-243360">
              <a:buClr>
                <a:srgbClr val="3f3f3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1269720" y="786960"/>
            <a:ext cx="10464840" cy="817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29440" indent="-56556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69720" indent="-56556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710000" indent="-56592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3" marL="2149920" indent="-56592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4" marL="2589840" indent="-56556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5" marL="2589840" indent="-565560">
              <a:spcBef>
                <a:spcPts val="47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6" marL="2589840" indent="-565560">
              <a:spcBef>
                <a:spcPts val="47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772040" y="2615760"/>
            <a:ext cx="396252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14800" indent="-34128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803520" indent="-34128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092600" indent="-3416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381680" indent="-3416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670400" indent="-34128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670400" indent="-34128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670400" indent="-34128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8268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727280" indent="-5716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3" marL="2171880" indent="-5716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4" marL="261612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5" marL="2616120" indent="-571320">
              <a:spcBef>
                <a:spcPts val="1800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6" marL="2616120" indent="-571320">
              <a:spcBef>
                <a:spcPts val="1800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5000"/>
          </a:bodyPr>
          <a:p>
            <a:pPr marL="257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marL="257040" indent="-257040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6629040"/>
            <a:ext cx="10464840" cy="2120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8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742840"/>
            <a:ext cx="10464840" cy="426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8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5000"/>
          </a:bodyPr>
          <a:p>
            <a:pPr marL="257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marL="257040" indent="-257040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marL="257040" indent="-25704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marL="257040" indent="-25704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44440"/>
            <a:ext cx="10464840" cy="285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95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092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25000"/>
          </a:bodyPr>
          <a:p>
            <a:pPr marL="85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marL="85680" indent="-8568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marL="85680" indent="-85680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marL="85680" indent="-85680" algn="ctr">
              <a:buClr>
                <a:srgbClr val="bfbfbf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marL="85680" indent="-8568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marL="85680" indent="-8568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marL="85680" indent="-85680" algn="ctr">
              <a:buClr>
                <a:srgbClr val="bfbfbf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dam@quartzy.com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819520"/>
            <a:ext cx="10464840" cy="469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500"/>
            </a:br>
            <a:br>
              <a:rPr sz="7500"/>
            </a:br>
            <a:r>
              <a:rPr b="0" lang="en-US" sz="59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Free &amp; Easy Lab Efficiency </a:t>
            </a:r>
            <a:endParaRPr b="0" lang="en-US" sz="5900" spc="-1" strike="noStrike">
              <a:solidFill>
                <a:srgbClr val="000000"/>
              </a:solidFill>
              <a:latin typeface="Copperplate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1014480" y="1879560"/>
            <a:ext cx="10977480" cy="469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How do we make money?</a:t>
            </a:r>
            <a:endParaRPr b="0" lang="en-US" sz="63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111800" y="2615760"/>
            <a:ext cx="566388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54080" indent="-711000">
              <a:lnSpc>
                <a:spcPct val="130000"/>
              </a:lnSpc>
              <a:buSzPct val="159461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“</a:t>
            </a:r>
            <a:r>
              <a:rPr b="0" lang="en-US" sz="4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Don’t be evil”</a:t>
            </a:r>
            <a:endParaRPr b="0" lang="en-US" sz="4000" spc="-1" strike="noStrike">
              <a:solidFill>
                <a:srgbClr val="404040"/>
              </a:solidFill>
              <a:latin typeface="Palatino"/>
            </a:endParaRPr>
          </a:p>
          <a:p>
            <a:pPr marL="1054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30000"/>
              </a:lnSpc>
              <a:spcBef>
                <a:spcPts val="300"/>
              </a:spcBef>
              <a:buSzPct val="15939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Provide value to both scientists and vendors (but charge vendors)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1397160" indent="-711360">
              <a:lnSpc>
                <a:spcPct val="90000"/>
              </a:lnSpc>
              <a:spcBef>
                <a:spcPts val="1500"/>
              </a:spcBef>
              <a:buSzPct val="15939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Marketing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1397160" indent="-711360">
              <a:lnSpc>
                <a:spcPct val="130000"/>
              </a:lnSpc>
              <a:spcBef>
                <a:spcPts val="300"/>
              </a:spcBef>
              <a:buSzPct val="15939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Marketplace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715" name="Picture 3" descr=""/>
          <p:cNvPicPr/>
          <p:nvPr/>
        </p:nvPicPr>
        <p:blipFill>
          <a:blip r:embed="rId6"/>
          <a:stretch/>
        </p:blipFill>
        <p:spPr>
          <a:xfrm>
            <a:off x="1332000" y="3105000"/>
            <a:ext cx="5346720" cy="496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"/>
          <p:cNvSpPr/>
          <p:nvPr/>
        </p:nvSpPr>
        <p:spPr>
          <a:xfrm>
            <a:off x="957240" y="1667160"/>
            <a:ext cx="1107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With Quartzy, your scientists and your department can</a:t>
            </a:r>
            <a:endParaRPr b="0" lang="en-US" sz="36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dd610b"/>
                </a:solidFill>
                <a:latin typeface="Century Gothic"/>
                <a:ea typeface="Century Gothic"/>
              </a:rPr>
              <a:t>Research Quickly!</a:t>
            </a:r>
            <a:endParaRPr b="0" lang="en-US" sz="9600" spc="-1" strike="noStrike">
              <a:solidFill>
                <a:srgbClr val="3f3f3f"/>
              </a:solidFill>
              <a:latin typeface="Palatino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3190680" y="4080240"/>
            <a:ext cx="6605640" cy="31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Email questions,</a:t>
            </a: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comments, love-notes to</a:t>
            </a: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Adam Regelmann, MD, PhD</a:t>
            </a: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entury Gothic"/>
                <a:ea typeface="Century Gothic"/>
                <a:hlinkClick r:id="rId2"/>
              </a:rPr>
              <a:t>adam@quartzy.com</a:t>
            </a:r>
            <a:endParaRPr b="0" lang="en-US" sz="40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What’s with the name?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-1440" y="2660760"/>
            <a:ext cx="129902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610b"/>
                </a:solidFill>
                <a:latin typeface="Century Gothic"/>
                <a:ea typeface="Century Gothic"/>
              </a:rPr>
              <a:t>Quartz"y</a:t>
            </a:r>
            <a:r>
              <a:rPr b="0" lang="en-US" sz="48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\, a. (Min.) Quartzose. Resembling or containing quartz.</a:t>
            </a: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f3f3f"/>
              </a:solidFill>
              <a:latin typeface="Palatino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2"/>
          <a:stretch/>
        </p:blipFill>
        <p:spPr>
          <a:xfrm>
            <a:off x="1625760" y="5041800"/>
            <a:ext cx="9740880" cy="145116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"/>
          <p:cNvSpPr/>
          <p:nvPr/>
        </p:nvSpPr>
        <p:spPr>
          <a:xfrm>
            <a:off x="0" y="6832440"/>
            <a:ext cx="130046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Highest scoring opening word in Scrabble, garnering 126 points </a:t>
            </a:r>
            <a:endParaRPr b="0" lang="en-US" sz="36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Probability of drawing 1.62x10</a:t>
            </a:r>
            <a:r>
              <a:rPr b="0" i="1" lang="en-US" sz="2400" spc="-1" strike="noStrike" baseline="32000">
                <a:solidFill>
                  <a:srgbClr val="3f3f3f"/>
                </a:solidFill>
                <a:latin typeface="Century Gothic"/>
                <a:ea typeface="Century Gothic"/>
              </a:rPr>
              <a:t>-7</a:t>
            </a:r>
            <a:r>
              <a:rPr b="0" i="1" lang="en-US" sz="24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!</a:t>
            </a:r>
            <a:endParaRPr b="0" lang="en-US" sz="2400" spc="-1" strike="noStrike">
              <a:solidFill>
                <a:srgbClr val="3f3f3f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Inventorie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69720" y="2324160"/>
            <a:ext cx="10464840" cy="688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610b"/>
                </a:solidFill>
                <a:latin typeface="Palatino"/>
              </a:rPr>
              <a:t>Quick Start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 Upload existing Excel inventories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838080" indent="-57132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610b"/>
                </a:solidFill>
                <a:latin typeface="Palatino"/>
              </a:rPr>
              <a:t>Fully-customizable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 Add types of your own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838080" indent="-57132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610b"/>
                </a:solidFill>
                <a:latin typeface="Palatino"/>
              </a:rPr>
              <a:t>Connected inventories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 Linked with LabMates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838080" indent="-57132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610b"/>
                </a:solidFill>
                <a:latin typeface="Palatino"/>
              </a:rPr>
              <a:t>Review Comments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 Learn which reagents work and which don't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838080" indent="-57132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610b"/>
                </a:solidFill>
                <a:latin typeface="Palatino"/>
              </a:rPr>
              <a:t>Streamlined Ordering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 Place orders with a click. Lab-managers can efficiently respond to orders from all lab-members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Protocol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69720" y="2324160"/>
            <a:ext cx="10464840" cy="695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0"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ff7c2f"/>
                </a:solidFill>
                <a:latin typeface="Palatino"/>
              </a:rPr>
              <a:t>Share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 Fully customizable privacy settings - only share with the people you want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457200" indent="-4572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dd610b"/>
                </a:solidFill>
                <a:latin typeface="Palatino"/>
                <a:ea typeface="Palatino"/>
              </a:rPr>
              <a:t>Import from inventory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 Each material is easily found and imported from your inventory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dd610b"/>
                </a:solidFill>
                <a:latin typeface="Palatino"/>
                <a:ea typeface="Palatino"/>
              </a:rPr>
              <a:t>Add references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 Integrated with PubMed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dd610b"/>
                </a:solidFill>
                <a:latin typeface="Palatino"/>
                <a:ea typeface="Palatino"/>
              </a:rPr>
              <a:t>Review Comments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 See which steps other are having trouble with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dd610b"/>
                </a:solidFill>
                <a:latin typeface="Palatino"/>
                <a:ea typeface="Palatino"/>
              </a:rPr>
              <a:t>Print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 Take a copy to your bench for easy access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Facilitie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69720" y="2324160"/>
            <a:ext cx="10464840" cy="693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0"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ff7c2f"/>
                </a:solidFill>
                <a:latin typeface="Palatino"/>
              </a:rPr>
              <a:t>Easy set-up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 Manage scheduling for shared facilities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457200" indent="-4572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dd610b"/>
                </a:solidFill>
                <a:latin typeface="Palatino"/>
                <a:ea typeface="Palatino"/>
              </a:rPr>
              <a:t>Simple Administration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 Admin decides who gets to use facility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dd610b"/>
                </a:solidFill>
                <a:latin typeface="Palatino"/>
                <a:ea typeface="Palatino"/>
              </a:rPr>
              <a:t>Weekly sign-up sheets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 Print-out for easy access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dd610b"/>
                </a:solidFill>
                <a:latin typeface="Palatino"/>
                <a:ea typeface="Palatino"/>
              </a:rPr>
              <a:t>Resource Discovery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 Search facilities at your &amp; neighboring institutions &amp; request access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Palatino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600" spc="-1" strike="noStrike">
                <a:solidFill>
                  <a:srgbClr val="dd610b"/>
                </a:solidFill>
                <a:latin typeface="Palatino"/>
                <a:ea typeface="Palatino"/>
              </a:rPr>
              <a:t>Email Reminder: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 Upcoming bookings emai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pending Time Looking for Things?</a:t>
            </a:r>
            <a:endParaRPr b="0" lang="en-US" sz="51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111800" y="2615760"/>
            <a:ext cx="566388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54080" indent="-711000">
              <a:lnSpc>
                <a:spcPct val="100000"/>
              </a:lnSpc>
              <a:buSzPct val="15953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Can’t easily search my lab</a:t>
            </a:r>
            <a:endParaRPr b="0" lang="en-US" sz="34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00000"/>
              </a:lnSpc>
              <a:spcBef>
                <a:spcPts val="5000"/>
              </a:spcBef>
              <a:buSzPct val="15953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Rely on my LabMates’ knowledge</a:t>
            </a:r>
            <a:endParaRPr b="0" lang="en-US" sz="34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00000"/>
              </a:lnSpc>
              <a:spcBef>
                <a:spcPts val="5000"/>
              </a:spcBef>
              <a:buSzPct val="15953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Rummaging through refrigerators</a:t>
            </a:r>
            <a:endParaRPr b="0" lang="en-US" sz="34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5"/>
          <a:stretch/>
        </p:blipFill>
        <p:spPr>
          <a:xfrm>
            <a:off x="1647720" y="2349360"/>
            <a:ext cx="4965840" cy="6756480"/>
          </a:xfrm>
          <a:prstGeom prst="rect">
            <a:avLst/>
          </a:prstGeom>
          <a:ln w="0">
            <a:noFill/>
          </a:ln>
        </p:spPr>
      </p:pic>
      <p:grpSp>
        <p:nvGrpSpPr>
          <p:cNvPr id="685" name="Group 6"/>
          <p:cNvGrpSpPr/>
          <p:nvPr/>
        </p:nvGrpSpPr>
        <p:grpSpPr>
          <a:xfrm>
            <a:off x="1701720" y="2394000"/>
            <a:ext cx="4870440" cy="6635880"/>
            <a:chOff x="1701720" y="2394000"/>
            <a:chExt cx="4870440" cy="6635880"/>
          </a:xfrm>
        </p:grpSpPr>
        <p:sp>
          <p:nvSpPr>
            <p:cNvPr id="686" name="AutoShape 4"/>
            <p:cNvSpPr/>
            <p:nvPr/>
          </p:nvSpPr>
          <p:spPr>
            <a:xfrm>
              <a:off x="1701720" y="2394000"/>
              <a:ext cx="4870440" cy="6635880"/>
            </a:xfrm>
            <a:custGeom>
              <a:avLst/>
              <a:gdLst>
                <a:gd name="textAreaLeft" fmla="*/ 55440 w 4870440"/>
                <a:gd name="textAreaRight" fmla="*/ 4815000 w 4870440"/>
                <a:gd name="textAreaTop" fmla="*/ 55440 h 6635880"/>
                <a:gd name="textAreaBottom" fmla="*/ 6580440 h 6635880"/>
              </a:gdLst>
              <a:ahLst/>
              <a:rect l="textAreaLeft" t="textAreaTop" r="textAreaRight" b="textAreaBottom"/>
              <a:pathLst>
                <a:path w="21600" h="29429">
                  <a:moveTo>
                    <a:pt x="844" y="0"/>
                  </a:moveTo>
                  <a:arcTo wR="844" hR="844" stAng="16200000" swAng="-5400000"/>
                  <a:lnTo>
                    <a:pt x="0" y="28585"/>
                  </a:lnTo>
                  <a:arcTo wR="844" hR="844" stAng="10800000" swAng="-5400000"/>
                  <a:lnTo>
                    <a:pt x="20756" y="29429"/>
                  </a:lnTo>
                  <a:arcTo wR="844" hR="844" stAng="5400000" swAng="-5400000"/>
                  <a:lnTo>
                    <a:pt x="21600" y="844"/>
                  </a:lnTo>
                  <a:arcTo wR="844" hR="844" stAng="0" swAng="-5400000"/>
                  <a:close/>
                </a:path>
              </a:pathLst>
            </a:custGeom>
            <a:solidFill>
              <a:srgbClr val="b5b5b5">
                <a:alpha val="74000"/>
              </a:srgbClr>
            </a:solidFill>
            <a:ln w="25560">
              <a:solidFill>
                <a:srgbClr val="404040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f3f3f"/>
                </a:solidFill>
                <a:latin typeface="Palatino"/>
              </a:endParaRPr>
            </a:p>
          </p:txBody>
        </p:sp>
        <p:pic>
          <p:nvPicPr>
            <p:cNvPr id="687" name="Picture 5" descr=""/>
            <p:cNvPicPr/>
            <p:nvPr/>
          </p:nvPicPr>
          <p:blipFill>
            <a:blip r:embed="rId6"/>
            <a:stretch/>
          </p:blipFill>
          <p:spPr>
            <a:xfrm>
              <a:off x="4157640" y="5910480"/>
              <a:ext cx="1574640" cy="109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Time wasted on Ordering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111800" y="2615760"/>
            <a:ext cx="566388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54080" indent="-711000">
              <a:lnSpc>
                <a:spcPct val="100000"/>
              </a:lnSpc>
              <a:buSzPct val="15943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Searching for products</a:t>
            </a:r>
            <a:endParaRPr b="0" lang="en-US" sz="32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00000"/>
              </a:lnSpc>
              <a:spcBef>
                <a:spcPts val="2999"/>
              </a:spcBef>
              <a:buSzPct val="1594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Communication differences</a:t>
            </a:r>
            <a:endParaRPr b="0" lang="en-US" sz="3200" spc="-1" strike="noStrike">
              <a:solidFill>
                <a:srgbClr val="404040"/>
              </a:solidFill>
              <a:latin typeface="Palatino"/>
            </a:endParaRPr>
          </a:p>
          <a:p>
            <a:pPr lvl="2" marL="1333440" indent="-31752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email</a:t>
            </a:r>
            <a:endParaRPr b="0" lang="en-US" sz="3000" spc="-1" strike="noStrike">
              <a:solidFill>
                <a:srgbClr val="404040"/>
              </a:solidFill>
              <a:latin typeface="Palatino"/>
            </a:endParaRPr>
          </a:p>
          <a:p>
            <a:pPr lvl="2" marL="1333440" indent="-31752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post-its</a:t>
            </a:r>
            <a:endParaRPr b="0" lang="en-US" sz="3000" spc="-1" strike="noStrike">
              <a:solidFill>
                <a:srgbClr val="404040"/>
              </a:solidFill>
              <a:latin typeface="Palatino"/>
            </a:endParaRPr>
          </a:p>
          <a:p>
            <a:pPr lvl="2" marL="1333440" indent="-31752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word-of-mouth</a:t>
            </a:r>
            <a:endParaRPr b="0" lang="en-US" sz="30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00000"/>
              </a:lnSpc>
              <a:spcBef>
                <a:spcPts val="2999"/>
              </a:spcBef>
              <a:buSzPct val="1594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Comparing prices</a:t>
            </a:r>
            <a:endParaRPr b="0" lang="en-US" sz="32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00000"/>
              </a:lnSpc>
              <a:spcBef>
                <a:spcPts val="2999"/>
              </a:spcBef>
              <a:buSzPct val="1594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Putting it all together, going to each website and placing orders</a:t>
            </a:r>
            <a:endParaRPr b="0" lang="en-US" sz="32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690" name="Picture 3" descr=""/>
          <p:cNvPicPr/>
          <p:nvPr/>
        </p:nvPicPr>
        <p:blipFill>
          <a:blip r:embed="rId9"/>
          <a:stretch/>
        </p:blipFill>
        <p:spPr>
          <a:xfrm>
            <a:off x="1523880" y="2413080"/>
            <a:ext cx="4953240" cy="67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rdered Items don’t Work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111800" y="2615760"/>
            <a:ext cx="566388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54080" indent="-711000">
              <a:lnSpc>
                <a:spcPct val="100000"/>
              </a:lnSpc>
              <a:spcAft>
                <a:spcPts val="2999"/>
              </a:spcAft>
              <a:buSzPct val="15953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Most cases: forced to trust company</a:t>
            </a:r>
            <a:endParaRPr b="0" lang="en-US" sz="34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00000"/>
              </a:lnSpc>
              <a:spcBef>
                <a:spcPts val="5000"/>
              </a:spcBef>
              <a:spcAft>
                <a:spcPts val="2999"/>
              </a:spcAft>
              <a:buSzPct val="15953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What do other scientists say?</a:t>
            </a:r>
            <a:endParaRPr b="0" lang="en-US" sz="34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00000"/>
              </a:lnSpc>
              <a:spcBef>
                <a:spcPts val="5000"/>
              </a:spcBef>
              <a:spcAft>
                <a:spcPts val="2999"/>
              </a:spcAft>
              <a:buSzPct val="15953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How do other scientists use?</a:t>
            </a:r>
            <a:endParaRPr b="0" lang="en-US" sz="34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693" name="Picture 3" descr=""/>
          <p:cNvPicPr/>
          <p:nvPr/>
        </p:nvPicPr>
        <p:blipFill>
          <a:blip r:embed="rId5"/>
          <a:stretch/>
        </p:blipFill>
        <p:spPr>
          <a:xfrm>
            <a:off x="1523880" y="2374920"/>
            <a:ext cx="4953240" cy="6756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Poor Communication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111800" y="2615760"/>
            <a:ext cx="566388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54080" indent="-711000">
              <a:lnSpc>
                <a:spcPct val="100000"/>
              </a:lnSpc>
              <a:buSzPct val="15953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Scheduling conflicts on shared equipment</a:t>
            </a:r>
            <a:endParaRPr b="0" lang="en-US" sz="34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00000"/>
              </a:lnSpc>
              <a:spcBef>
                <a:spcPts val="5000"/>
              </a:spcBef>
              <a:buSzPct val="15946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Poor communication with ordering personnel leads to work delays</a:t>
            </a:r>
            <a:endParaRPr b="0" lang="en-US" sz="3000" spc="-1" strike="noStrike">
              <a:solidFill>
                <a:srgbClr val="404040"/>
              </a:solidFill>
              <a:latin typeface="Palatino"/>
            </a:endParaRPr>
          </a:p>
          <a:p>
            <a:pPr marL="1054080" indent="-711000">
              <a:lnSpc>
                <a:spcPct val="100000"/>
              </a:lnSpc>
              <a:spcBef>
                <a:spcPts val="5000"/>
              </a:spcBef>
              <a:buSzPct val="15946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Stuff runs out because people think others have ordered it.</a:t>
            </a:r>
            <a:endParaRPr b="0" lang="en-US" sz="30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696" name="Picture 3" descr=""/>
          <p:cNvPicPr/>
          <p:nvPr/>
        </p:nvPicPr>
        <p:blipFill>
          <a:blip r:embed="rId5"/>
          <a:stretch/>
        </p:blipFill>
        <p:spPr>
          <a:xfrm>
            <a:off x="1523880" y="2413080"/>
            <a:ext cx="4953240" cy="67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1" descr=""/>
          <p:cNvPicPr/>
          <p:nvPr/>
        </p:nvPicPr>
        <p:blipFill>
          <a:blip r:embed="rId2"/>
          <a:stretch/>
        </p:blipFill>
        <p:spPr>
          <a:xfrm>
            <a:off x="1522440" y="3772080"/>
            <a:ext cx="2260440" cy="209520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2"/>
          <p:cNvSpPr/>
          <p:nvPr/>
        </p:nvSpPr>
        <p:spPr>
          <a:xfrm>
            <a:off x="5864760" y="4481640"/>
            <a:ext cx="44308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Wastes Money</a:t>
            </a:r>
            <a:endParaRPr b="0" lang="en-US" sz="5100" spc="-1" strike="noStrike">
              <a:solidFill>
                <a:srgbClr val="3f3f3f"/>
              </a:solidFill>
              <a:latin typeface="Palatino"/>
            </a:endParaRPr>
          </a:p>
        </p:txBody>
      </p:sp>
      <p:pic>
        <p:nvPicPr>
          <p:cNvPr id="699" name="Picture 3" descr=""/>
          <p:cNvPicPr/>
          <p:nvPr/>
        </p:nvPicPr>
        <p:blipFill>
          <a:blip r:embed="rId3"/>
          <a:stretch/>
        </p:blipFill>
        <p:spPr>
          <a:xfrm>
            <a:off x="1650960" y="635040"/>
            <a:ext cx="2425680" cy="24256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700" name="Rectangle 4"/>
          <p:cNvSpPr/>
          <p:nvPr/>
        </p:nvSpPr>
        <p:spPr>
          <a:xfrm>
            <a:off x="5925600" y="1459080"/>
            <a:ext cx="385344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Wastes Time</a:t>
            </a:r>
            <a:endParaRPr b="0" lang="en-US" sz="5100" spc="-1" strike="noStrike">
              <a:solidFill>
                <a:srgbClr val="3f3f3f"/>
              </a:solidFill>
              <a:latin typeface="Palatino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5913720" y="7186680"/>
            <a:ext cx="418104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Slows Science</a:t>
            </a:r>
            <a:endParaRPr b="0" lang="en-US" sz="5100" spc="-1" strike="noStrike">
              <a:solidFill>
                <a:srgbClr val="3f3f3f"/>
              </a:solidFill>
              <a:latin typeface="Palatino"/>
            </a:endParaRPr>
          </a:p>
        </p:txBody>
      </p:sp>
      <p:grpSp>
        <p:nvGrpSpPr>
          <p:cNvPr id="702" name="Group 9"/>
          <p:cNvGrpSpPr/>
          <p:nvPr/>
        </p:nvGrpSpPr>
        <p:grpSpPr>
          <a:xfrm>
            <a:off x="1265400" y="6589800"/>
            <a:ext cx="3759120" cy="1969920"/>
            <a:chOff x="1265400" y="6589800"/>
            <a:chExt cx="3759120" cy="1969920"/>
          </a:xfrm>
        </p:grpSpPr>
        <p:pic>
          <p:nvPicPr>
            <p:cNvPr id="703" name="Picture 6" descr=""/>
            <p:cNvPicPr/>
            <p:nvPr/>
          </p:nvPicPr>
          <p:blipFill>
            <a:blip r:embed="rId4"/>
            <a:stretch/>
          </p:blipFill>
          <p:spPr>
            <a:xfrm>
              <a:off x="1265400" y="6589800"/>
              <a:ext cx="375912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7"/>
            <p:cNvSpPr/>
            <p:nvPr/>
          </p:nvSpPr>
          <p:spPr>
            <a:xfrm>
              <a:off x="1825560" y="7263000"/>
              <a:ext cx="1867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Palatino"/>
                  <a:ea typeface="Palatino"/>
                </a:rPr>
                <a:t>Results</a:t>
              </a:r>
              <a:endParaRPr b="0" lang="en-US" sz="4000" spc="-1" strike="noStrike">
                <a:solidFill>
                  <a:srgbClr val="3f3f3f"/>
                </a:solidFill>
                <a:latin typeface="Palatino"/>
              </a:endParaRPr>
            </a:p>
          </p:txBody>
        </p:sp>
        <p:pic>
          <p:nvPicPr>
            <p:cNvPr id="705" name="Picture 8" descr=""/>
            <p:cNvPicPr/>
            <p:nvPr/>
          </p:nvPicPr>
          <p:blipFill>
            <a:blip r:embed="rId5"/>
            <a:stretch/>
          </p:blipFill>
          <p:spPr>
            <a:xfrm>
              <a:off x="2424240" y="6703560"/>
              <a:ext cx="685800" cy="76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1" descr=""/>
          <p:cNvPicPr/>
          <p:nvPr/>
        </p:nvPicPr>
        <p:blipFill>
          <a:blip r:embed="rId2"/>
          <a:stretch/>
        </p:blipFill>
        <p:spPr>
          <a:xfrm>
            <a:off x="1731960" y="3129120"/>
            <a:ext cx="9537840" cy="3504960"/>
          </a:xfrm>
          <a:prstGeom prst="rect">
            <a:avLst/>
          </a:prstGeom>
          <a:ln w="0">
            <a:noFill/>
          </a:ln>
        </p:spPr>
      </p:pic>
      <p:grpSp>
        <p:nvGrpSpPr>
          <p:cNvPr id="707" name="Group 4"/>
          <p:cNvGrpSpPr/>
          <p:nvPr/>
        </p:nvGrpSpPr>
        <p:grpSpPr>
          <a:xfrm>
            <a:off x="1940040" y="507960"/>
            <a:ext cx="9819720" cy="1108800"/>
            <a:chOff x="1940040" y="507960"/>
            <a:chExt cx="9819720" cy="1108800"/>
          </a:xfrm>
        </p:grpSpPr>
        <p:sp>
          <p:nvSpPr>
            <p:cNvPr id="708" name="Rectangle 2"/>
            <p:cNvSpPr/>
            <p:nvPr/>
          </p:nvSpPr>
          <p:spPr>
            <a:xfrm>
              <a:off x="1940040" y="507960"/>
              <a:ext cx="91069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3f3f3f"/>
                  </a:solidFill>
                  <a:latin typeface="Palatino"/>
                  <a:ea typeface="Palatino"/>
                </a:rPr>
                <a:t>“</a:t>
              </a:r>
              <a:r>
                <a:rPr b="0" i="1" lang="en-US" sz="4000" spc="-1" strike="noStrike">
                  <a:solidFill>
                    <a:srgbClr val="3f3f3f"/>
                  </a:solidFill>
                  <a:latin typeface="Palatino"/>
                  <a:ea typeface="Palatino"/>
                </a:rPr>
                <a:t>Quartzy converted our chaos to calm”</a:t>
              </a:r>
              <a:endParaRPr b="0" lang="en-US" sz="4000" spc="-1" strike="noStrike">
                <a:solidFill>
                  <a:srgbClr val="3f3f3f"/>
                </a:solidFill>
                <a:latin typeface="Palatino"/>
              </a:endParaRPr>
            </a:p>
          </p:txBody>
        </p:sp>
        <p:sp>
          <p:nvSpPr>
            <p:cNvPr id="709" name="Rectangle 3"/>
            <p:cNvSpPr/>
            <p:nvPr/>
          </p:nvSpPr>
          <p:spPr>
            <a:xfrm>
              <a:off x="6865560" y="1266120"/>
              <a:ext cx="4894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919191"/>
                  </a:solidFill>
                  <a:latin typeface="Palatino"/>
                  <a:ea typeface="Palatino"/>
                </a:rPr>
                <a:t>Kevin Montgomery | Case Western</a:t>
              </a:r>
              <a:endParaRPr b="0" lang="en-US" sz="2300" spc="-1" strike="noStrike">
                <a:solidFill>
                  <a:srgbClr val="3f3f3f"/>
                </a:solidFill>
                <a:latin typeface="Palatino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1" descr=""/>
          <p:cNvPicPr/>
          <p:nvPr/>
        </p:nvPicPr>
        <p:blipFill>
          <a:blip r:embed="rId2"/>
          <a:stretch/>
        </p:blipFill>
        <p:spPr>
          <a:xfrm>
            <a:off x="304920" y="438120"/>
            <a:ext cx="12369600" cy="89409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Testimonial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69720" y="2120760"/>
            <a:ext cx="10464840" cy="739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610b"/>
                </a:solidFill>
                <a:latin typeface="Palatino"/>
              </a:rPr>
              <a:t>I’ve been responsible for managing labs for 15 years, and Quartzy is the best solution I’ve seen!</a:t>
            </a:r>
            <a:endParaRPr b="0" lang="en-US" sz="5000" spc="-1" strike="noStrike">
              <a:solidFill>
                <a:srgbClr val="404040"/>
              </a:solidFill>
              <a:latin typeface="Palatino"/>
            </a:endParaRPr>
          </a:p>
          <a:p>
            <a:pPr lvl="4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f7f7f"/>
                </a:solidFill>
                <a:latin typeface="Palatino"/>
                <a:ea typeface="Palatino"/>
              </a:rPr>
              <a:t>Sylvia Johnson, Washington University</a:t>
            </a:r>
            <a:endParaRPr b="0" lang="en-US" sz="3800" spc="-1" strike="noStrike">
              <a:solidFill>
                <a:srgbClr val="404040"/>
              </a:solidFill>
              <a:latin typeface="Palatino"/>
            </a:endParaRPr>
          </a:p>
          <a:p>
            <a:pPr lvl="4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06:23:26Z</dcterms:created>
  <dc:creator/>
  <dc:description/>
  <cp:keywords/>
  <dc:language>en-US</dc:language>
  <cp:lastModifiedBy>Adam Regelmann</cp:lastModifiedBy>
  <dcterms:modified xsi:type="dcterms:W3CDTF">2011-10-22T06:50:44Z</dcterms:modified>
  <cp:revision>1</cp:revision>
  <dc:subject/>
  <dc:title>  Free &amp; Easy Lab Efficiency </dc:title>
</cp:coreProperties>
</file>