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dt" idx="1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ftr" idx="1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 type="sldNum" idx="1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1961-8F91-4CFE-A906-549EB686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F4D1-0F78-43C5-B9FF-4D229B1E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B97-96A0-491F-897C-894992D4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942-7427-4497-88C5-F2AF3D94D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8CEE-9A27-4A24-87D4-EB058E24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14F3-0E2B-4C7F-A8B9-FA36F1DB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DA6B-2AFA-4C5F-A7FE-7C4BA566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61B-813D-49CD-A9A2-41E2848C1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0AF-4DEB-4555-A9F7-CA183625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1BB-FCF0-41FB-AE0B-4F1B2975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DE8-734E-477F-AF7B-3F8363AD1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73F-C467-4AC1-9D1E-7EE10F17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7CF6-DEA9-4ED1-871A-DED9E1988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17C-87B6-4112-AD37-D0C18A7E6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CD2E-46C3-445D-B55D-E03ED8D0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AC75-6970-4CC9-B45A-4058C9EC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EEE-F9E2-4513-88FB-BFC4F761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01E-F904-481D-BCF1-BD7A0F0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D3785-6C8F-4705-BD50-F9D8C4B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36D8F-0E2E-43D5-96C0-359DD9B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FBBB9-0CB4-42B6-8218-E6EC9FE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1A392-ADEF-4D5E-B314-E7E7661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925B2-E1B7-49AB-83CC-1FD787E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3FEF0-6538-4E02-86B2-27D73F4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3F318-C313-4C45-BD7F-5CF5F291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8FAD5-65F8-4793-9A7E-230014C8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E0A3F-6FF8-4616-B599-23195752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76A06-6422-4EA3-8F64-B4AF5BD3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824-40FA-4EA7-AFD7-0C5623C1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B781-0F4A-4FBE-A66E-0739550A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6AD5F-86ED-426A-927F-D90C6236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88101-8F81-4F38-AF7B-F2975592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374DB-6E8D-4B93-8072-7344180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D6F4D-8329-4765-99C3-CAA6A612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7653A-CF5F-4629-811C-1B614B3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9017D-CFA0-4A14-A71A-6620787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57A4-0137-4F38-A0C3-5F7415C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67162-FD98-4545-86DA-FBD4E21D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BA31F-C057-4F18-A547-4C98F66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866-A927-49F4-9FE2-81B56755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0A027-1EBA-4C76-84A2-75AD6D91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FF743-A313-4574-A422-111E973C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B1311-AAD2-4E1D-B2C2-40C7E53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57155-D454-48B0-B7B2-9EA26921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A1507-D07D-4C4E-9AE5-82918917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D6787-85B7-4C8A-A45C-AE94738F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0FB95-07AC-4C25-BC8D-3CC2BE2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6083-0B50-4174-AC09-7CE13706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0B71D-58B6-496A-89D1-72DAC88E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E710E-0933-48E1-8020-0FDF6A9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0201-F855-4151-9AD0-316657FC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AE0D4-C3C3-4B00-9483-E55E81A9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23978-0285-4813-B908-11E696F1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AAE54-E3E9-4ABC-9E54-1285EC3E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E55FA-19A7-4E62-BBD2-34FEF3E0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286FB-ABAA-4C87-B874-D111B97F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D31BA-090E-4E22-8F9B-C4EB30D9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60DD1-2A84-47A0-835D-34E8924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1DD4F-D81C-4B94-BF52-E81FD184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E5732-F351-432A-A8C1-99B67D92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07647-A0FD-4416-A965-A4E5FB5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CDB0-755E-4273-97DA-EB9757F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E2F20-E4AE-41BD-9824-CA4BEA4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2D756-7206-4150-B8CE-8824033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817B9-B41E-42D8-A748-B7104E9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4BA8E-F626-4B77-96C1-D3782ACA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B75FC-9B85-4BC6-ADF5-0844872F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78A22-7048-40D6-8027-D200EBB5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6AABB-482E-4761-AE1B-91AE67C4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2314B-0539-4FB4-A269-65BAE88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5C06B-ED85-4685-B934-11FA2D18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BDA98-BD2F-439D-9408-2D69F30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C610-249C-4F19-8FF9-C2609D49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E3590-868D-42EA-B653-D914D31C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9AF63-246B-4573-970F-D9DFAB9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F65C8-EF0B-4232-A14A-38AD40B9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6E5A1-3FB7-4BCC-9589-055E2F6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4D439-E160-4957-A380-AE3FD178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D73A7-5062-4568-A047-4D2B4C34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42403-9C10-4A16-BE97-84961A07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43747-0973-47FD-900E-FB1DACD6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A935D-F6A3-4C6D-A29E-FFA933D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F6CF9-774C-46D5-BF48-D111643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C6A5-8127-4432-A200-ED89413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5438C-F5DC-40B1-9D2F-043FE642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870BE-6A70-4B51-B051-03FC189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2AF6E-0313-44BF-8BAF-B98F2F01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F3AD4-B5D5-4CF3-A6B9-448C8DA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DE201-C174-4CED-8FA5-CE59A44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CA1B6-1773-4E3C-A74C-3EF9DC4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FE154-8DD4-459A-AF1E-6DFE50E5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F9DA2-E058-4905-98C3-A4D6156F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214AB-9B70-4AB1-ACA0-0888E226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F8C98-130A-4B52-A550-11DEF933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296E-10A5-4EC3-8C28-CF88A19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0D314-DB3B-43BC-B50C-68B9FBF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983D5-64DA-489C-A3B5-C59FC83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82522-71A4-44C0-8747-A09BF7A4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6D454-6B06-4AFB-9FB3-4063A1F6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840C0-C1DE-4C79-857A-785B3F4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39812-FC02-4083-B912-67AF402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2878C-8FDC-4DB0-9372-8490140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95F0E-7F43-4B97-9DDA-B40D0D0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5C9E4-4F63-4615-854C-06775E64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8174F-0AE3-4017-BC29-683DC253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269A-A757-4F23-AD32-594976F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0A588-64EF-4BED-90C0-E73851E1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5C5D1-BC83-4007-A335-86923475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8D3A8-F29D-49FC-AF9B-DBA6960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AE9FA-E9CA-4332-91F4-7CF1C75E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61A84-7A70-4C33-A880-49936DFE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A8AAA-FBCC-43DE-B914-2F69080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9F0E7-A20B-4405-8847-F2B9BEC2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A5510-DCC0-4D2B-AB7B-B90572B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BD0B0-96AB-4AE5-8D03-F28E433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8E5F5-81E0-4E9A-A122-1F2BEBE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5D3A-A823-4075-91AD-BF23712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7DD11-FEF2-4DD7-AB56-43AB0F87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B666E-3B9E-412B-9EFB-C4F9A832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1BA38-00E8-456F-B4AA-79379520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A6918-FC67-4117-9535-99BD3211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64514-07E7-4474-893E-0462030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781C0-89D2-4763-B26D-922F64CB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1BF20-C37F-4128-93B0-8F99F3E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556D7-9833-43EB-B7F9-B16380F2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306D1-C9A0-4AD5-9520-BC3F9292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CF63F-4942-42A2-B3FB-BAAF6BF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B26-6745-4525-8E8B-81F3354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274-3FA0-45E1-B73A-17BD044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EB1A8-E94C-4462-8589-21098C4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54001-13A7-4134-BFF0-B55BC179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CB611-1CE3-43B7-A64A-D6F7AAD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5D6BF-C30C-46AD-90CA-AF81CCCD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A2B97-E1E2-4CA3-8F0D-CFDB8AE8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2AEE4-0C0D-4F8D-A76E-2685AE3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AE94A-1A65-4EA8-BC42-0A258E9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3396A-C73F-40D8-B99E-834C7D34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FCAEA-5B47-4CE5-BCB0-A117FE5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9189C-E414-425A-B064-8D053AD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8745-6533-4B6B-99F1-E5D5BF4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90835-30B1-4595-A314-3617CBE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E544F-F653-491C-B635-333A39D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1DD88-E9CA-43FD-9CC7-073445A9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7106B-7FCF-4207-A628-6D08B451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6E750-76B8-4682-AECD-7D059E3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97BDD-ED89-430F-8D77-44C82D84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DB3ED-F6B8-4C1B-8E3F-3F433FBA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4BD2D-4488-432F-9CF0-35907695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9D1F5B-082D-40D2-B252-0985CB5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541B8-4721-4C31-99C8-14281E96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5F9E-362B-48C7-A876-BFE7411E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8C4EA-390B-416F-8A3B-36E0D63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EE26C-ED33-41D0-ADC0-A7AEA60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8BFEF-CA7B-47C2-AF16-7981641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BBD35-E782-4C98-A979-B21FA0F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68360-7BD5-4509-AB9D-45A3018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8BECC-27C7-4A9A-BF03-F2F562A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5962D-4150-44E5-AE02-E04EFC71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58DD3-B045-4C8A-A322-580A4961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EF86E-7440-4729-88E7-96532A5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43A18-CDC8-4144-883F-FEA47D8D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D54-584A-408B-B90D-104C49E8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06437-6633-45F0-93C8-FBF95E87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CB982-861D-4ABB-ACCC-35D6CC6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CB8B0-F192-4A6D-8C5F-2B7210D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B24E1-C3E9-42EA-A7F3-CD4BD24F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6E33D-A26B-4833-BDEF-691D0E5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45CC1-0E22-4861-BDAE-FD82914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AB7F2-4613-499C-8302-291A5383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0AEB7-A50E-4AF7-9EB3-310134A1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8A77E-0C3C-4FF2-8C7A-DF6EB30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F72116-07C7-4DB0-BDD4-7F54B433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6E15-3575-47CA-99B3-14542210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28C55-AB8D-4009-865B-19AA4B99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A645D-FDC0-4053-94D2-43E56AFE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5F793-4846-4344-B34F-025EC9AE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FA631-DB1C-4CA1-BE99-0E9D9CC8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9A225-7EFE-46B8-9B41-26EE5889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3BD8E-81D1-43F7-99D2-F622D8B2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54CF4-DBE4-4282-80A6-4F5FA893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C627D-2A80-4D52-A0D0-EDE9DCF9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11B00-E997-4355-B902-CD95982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5B5DA-A295-4819-80D2-41328C41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3214-913B-41D3-BEE5-156AF5DE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4AE83-E3B5-465C-BF23-930E22D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F309B-303E-4467-9C52-B8807408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073C7-CF50-4027-A9EF-40E08CCF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3914B-185C-43E5-B9D2-A399E55D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F7FE88-0FB4-427D-907D-261E5EB2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EA1F0-4DCD-48AF-BBC2-D3508147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D5A7A-0333-4BC4-ABE7-83026120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6C01EC-0FA8-42A3-990F-CE502CC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A058E-BA95-4CEA-95AB-1EFF6932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0E6A72-A219-4849-A0C6-EBA93E5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B118-94D4-4204-BAEE-D808AE83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3B34B-ACA5-422D-AC2D-FDC2445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7924C-F75A-4D5E-B5D6-C6A43F8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A299B0-641F-4083-A15C-51825B8B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0D42A-11E0-4F28-8B4D-4724FCED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69CA39-2D22-48EE-B913-2E2DD5F4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BEC37-6867-4A64-9020-A3A9D75D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9500D-D004-4FC5-9387-0DB706BB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2D3D79-24F3-4D15-8224-44AFB685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123F4-D871-4D89-BB60-EADE27E4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807980-C19A-4535-BBEF-EA43F4AB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F987-274E-4B5A-AA64-C0ABFCEB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EA20FB-39DE-4990-B058-B37F4A4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6121C-C6D4-4C00-886C-3BEA044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D91073-FAE3-4AC3-8D89-0501F449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5491FB-A34A-4719-9961-84A59F50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385DE-0A34-4D60-A796-A681D559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34CEF-736A-43E7-8587-1549FDC8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1BE6A-C77F-4B04-813D-220038A1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7B6157-FA40-4B0F-A682-F5F9ED34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CEB6A-62E6-41C8-9F0E-C6912D64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000AB1-5A15-49B5-A91E-A0993B0F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CEE9-F0D9-4CD7-8A37-40F9A425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D63BA2-729F-4433-90B1-82271A89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E2CB03-CB0B-42B7-A449-FCCB8EA4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9ED0E6-4622-4FF8-8B79-5FB0B47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B59CFD-FBEA-4EB6-8D48-4B667C20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E9A8E0-B6FB-49B9-B71A-C0FA5FD8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F491D8-7D9C-494C-9A88-979FDA8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E08DBD-E2D8-4C1D-9587-1F8F3BE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008E3A-96F6-4554-B9C2-0BCCE10D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9A165-77BB-45DF-8387-2087A099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CA012-8A58-4922-A18B-F86D33ED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7A74-7B47-4EAC-A64E-D4A7DE8D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3371FC-62EC-4DBD-A2D7-AC685B06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F1F76F-8BD5-40B8-9726-83F4FB6D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2C5BFD-421E-4FD4-AFE9-66939AE5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1E0442-0566-4220-A98E-65A73B92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D62FDE-31B9-4A52-95A1-2CA6C90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8F3101-1AF9-4025-8873-9CE6CFF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8708F4-C076-4BAB-AC01-FBB4781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813B20-5BF3-47BD-A9BE-C19B39B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B366D7-3C03-4ADB-89E9-E6D762B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E72FD1-A068-4AE0-A5D2-599D35EF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8D0-959E-48F9-A066-10C70639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B59E-F6C6-4E62-BA76-CE854026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6848FA-2378-4D39-A796-1DE88CED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3421C5-769B-4A05-85E1-857CCD96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40A73B-B733-464C-81E3-2C01AEFB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992EB2-728B-49A0-8284-97EDDFE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375B31-7648-4669-BC4E-BDF5800A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66638A-9171-42F3-95D3-DCCBAFD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E65F9-2115-40F0-A80E-5E99CC78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008D91-42C6-4A25-9CA2-0692F61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F58AEA-7E65-41E7-B157-B5E8B82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6C6618-7206-4238-81F9-82DA642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23D9-2DBB-484F-BCF8-7FE56D1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7C7008-E8B9-4C43-BECE-46975435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8F70F9-675E-4A91-A0F2-70D7E9E9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31E303-18E5-4919-B4E6-7764E088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02CA2B-35BF-4FF0-8ACE-07E653BC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EEE6EB-C668-419C-A4B3-1CEE675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B04786-5BBA-4E41-B511-D7462DED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A0DBF4-7576-49DA-991B-B985106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D4E5FC-A893-42D3-8448-DCAC94A1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BEAB7A-8ABB-4E17-914E-28EB303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24BF06-D773-423E-8F9F-E3B6EE2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E81D-AE51-4505-802F-7B81CC3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650D70-2D36-4821-B8D5-68E1E0D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9A1D06-0FCF-4F49-BD0F-C4EC4086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A494A1-1CDE-41AB-A12D-D4ABF039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6FC8C4-CFED-4833-A3B4-E22EE5AC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145E00-1222-4F04-B208-76E35C4D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2478E5-FAA6-4009-88D9-10C19D9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D6F770-6304-416F-AFBF-31D32429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189596-0E7B-4088-8BD5-47ACB168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CF8863-2DB7-45EE-B704-3C323E22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871489-99BD-4404-91A2-350A7092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43E1-E8E0-45B0-8491-B47F32B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A95F17-0945-4868-84F4-BCE6E508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FF99E8-1176-44BD-9B23-1F4AB6F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F8740A-4A55-4098-9C57-0DB372C9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1A4AEE-B6AA-443E-A182-3960D784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F5ED8B-F62D-4839-A55D-E952DABA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7947CF-60D6-47CC-ACC9-1CAACC25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A50F46-4D96-4E9E-B971-C485C4A1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21FD15-7096-4E36-9C72-F29110E0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FF4A1D-3C19-4FED-881E-EDA8E348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CE638B-6D5C-40F0-9CC7-1CA89FB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C26E-A8A0-49C0-9268-99E3A20D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537B79-C935-4822-BAAD-F510BF3A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A7E0FE-1B7A-4AFD-88BE-090AB9E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06AEBF-769D-4DE4-B6B1-32D928F6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1FF88B-D7CF-4EFA-9572-A5C79FD2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E88B33-0265-4F4C-B442-121E183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AA1C1A-AEDD-415B-8AC2-2711E5B6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79493A-07C0-40FF-B7A7-BA927F74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0DA6C6-0A16-45F7-9301-2BDC58D0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4A4D9E-DD9E-49A3-864E-8F92CDEE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F2CF1A-59DA-477C-987E-3DD109E5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9064-1ACE-4B64-88E0-091191AB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4A8D89-BFDC-491A-9E53-D6843B8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05DB02-6C54-4998-AA1D-75545F20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42173E-D596-41EA-8422-84540C1F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6AAF99-4892-431B-B917-1828D9DA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B12824-AC7C-457E-9D9F-631F16D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B84856-582E-4C3F-9591-B670DE3C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363948-C27F-453E-9AA5-05D7A110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EF1AA1-18F5-49A7-A84E-AEFC1AFB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C26B98-B0C3-406A-895C-CFB64428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C63CCB-71F1-40CB-8B3C-4C0623D2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BD7C-AF0A-4EB2-AF15-4FCAB3A2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B85E7E-8F6B-467E-9796-5FA146AE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D95BA2-5192-4C08-BF87-175D704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267ED0-8D08-4325-A4B9-6777A3E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0D3B12-5F36-41AA-BDCD-8ABB49E3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680F1A-F506-46CB-A8FA-69618770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053C51-9CBF-42CC-B4A0-F5415BD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307944-2263-4B1E-A928-5DC51F4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378024-9E86-489F-8407-42E7776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396220-0E17-4D9E-A4CF-1A21C0B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9E898E-55DC-4FDB-9CF7-454F0C8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86BC-C383-489A-8D63-96FA7CE5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045839-496D-4B43-833D-6B7730DF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A74112-C9D5-452C-A2D5-B74BE9F8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9DDB2E-E643-4CE7-B104-ED71FC27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734F17-BEBE-4152-B6F7-C7736118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F1B9A8-E810-4BE1-A841-D997900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14E8D8-FAC3-474F-856B-780D488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8A2C5B-040D-4A43-8898-97465CB2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8DBEAD-5AF4-4CE8-8B3E-7743200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D7BB3F-47AC-4DFD-9A89-F1C06A10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C6E2FD-B963-4868-9DBC-57BD0B95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44A06-3C20-4FAD-B184-6CB2F31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4468AC-7748-4F3C-A966-46D27114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FB9C3C-0AC8-4259-BD31-84DD98E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14FC0C-2C43-443F-A323-188CA07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5CB664-51A1-4EC7-A109-9C6637D1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EBA21E-2DFE-4A36-BB75-54103B8A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65C0CA-797B-439B-812B-0505DB60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85965C-38F6-4E54-A3B4-29A6EDE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8B2CEC-3805-4779-AF1B-481344C6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09D126-F83D-4221-A18A-150089EA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2BFE33-43DC-4BB9-92CF-BC07D4CF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8A718-BC15-4147-A4D8-0EA4500D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6E619C-B3F3-4B50-AE64-33021A66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31BE56-1989-4FD7-ADB9-DDE7A85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4B7B9B-DE5D-4B94-9327-C4B2141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EC3E95-2EBF-4DF3-99B5-FB699F6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C04172-AE4E-4CDA-8F58-6B630A2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92627F-3C92-4155-852D-7CF57869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5A08DE-6C96-4F7E-8A81-62202D9D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1F4E2B-CAD2-41F8-AEF3-9BB46D68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E2DCE8-BFD2-4B7C-AB16-E0541A4E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34ED10-A95F-40F1-BA85-DE364E71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499-B339-4B0D-BBCD-821DE364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CB16-3D64-4AFC-83FA-9594CD6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8A8A22-C1AA-47FD-8416-2EE83EB9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E406DF-EE4E-4026-9258-3B0B51A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B5CA91-D4C6-4DF4-A2DF-4C5288C3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5BF8A7-D4FF-4516-A5C8-3F7355E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C15C00-0733-4EC3-AC6A-FFD5951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6325BB-F519-4FE7-B9FF-1DAB477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00AEB2-DF43-4BDA-BA7A-6ABA259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85D894-7EF6-41CE-BD27-005A4712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F1A7E6-F6FE-4B57-A2BD-1965F1D3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61C231-C1B3-47E1-9828-EE8717D9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5B9D-5FAE-4836-BDD6-1C082C6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1A0F6F-2E29-48E5-824B-DC391632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28DB95-FF8F-476C-9F72-CF582C2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E52C10-98AE-42F4-8677-17514A4C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72A6C8-583C-4175-9BAE-4F2B0321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A99256-19C4-4E94-99EE-A347BD7C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AB53A0-8CDA-4FA9-80ED-B2D1508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BE1714-EC51-4FED-945A-227D6F72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9B41D3-5214-46A0-B134-E5F195D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8CFEBB-F536-4C9C-A48A-62F5C57A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65C815-D63B-4E89-B4A3-D93CC721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7919-073A-4153-96E1-E306CEBE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0F0634-851C-4CDB-A55A-CC658192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234627-32C6-48A6-9CBB-2C08BA64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3C711B-BE09-4BA5-9F61-E245FBD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FEF962-78E0-4978-A3D7-6FB5C806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9F4052-02B1-4F2B-B532-CF03811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A4571C-D1CE-43EE-B902-B59DBB79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0ECBA1-BE8E-4797-BC37-BA0D02F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E5FF2A-1FB0-4446-9951-0B57530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BB1CE1-231C-4958-9096-B85A112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CDBC91-4DC7-43C5-B0CE-AEADE22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C480-06A1-4A5C-A6A0-FC79195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418125-82FC-4BF0-B4C0-24D3C2D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4CF460-3CA8-45A2-8303-0D1C69D6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65B373-8B64-4517-B6B0-D0026B4E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B024C1-E018-41B5-B3E7-E89B6627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E53B9A-B1FA-4A85-8F64-A95D713B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7666A8-B3FA-4A0B-B619-335BF7C2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1E99F8-FA30-4AAD-A0D4-E0B4C4E0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154ACF-96B2-45D2-B668-BD1B319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75F143-B152-477C-B984-B080AF3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4779DD-7C8D-406C-A02F-9E38E2C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32CF-3000-47DD-A36A-1127812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0778AA-A0EE-4B62-9781-4580ADA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3D2DAF-2DA4-49B5-8748-A27C339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04882D-1534-41CD-940D-1AA28FDF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2CB25D-B82B-4539-9556-C673A373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A1D4C9-3DB4-4077-9718-270F34D1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D4C9-577A-4F31-BABD-28199C8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D77F-0F5D-4102-A16F-FEDCB48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BD803-8270-4598-AE88-14E58FE7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681B-1B4E-4003-AA34-4E05E035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C7F2-DEE9-4F18-9BE8-75DDD3F9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A63-3673-4825-BF4B-184D85D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C89E-9082-4FEE-B9D8-6872D02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C562-461C-490E-915A-AB7CC46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B7D7E-6A85-4916-8A4D-1F3FBFB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F1F5-F92C-47F0-8C04-04752143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1684C-5382-40F5-8E1A-D26B59EA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63C99-6F63-413A-9EB8-0D3A302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8B61-1526-403E-BCC6-C21ECB2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C40B-3311-4441-A87E-E53E8872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064D-C010-4475-9C41-6477BB9B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12C88-05CE-467D-AD2C-3DC90FC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46D-843D-4674-8BA8-88D56CC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8078-3BC4-4543-B838-53B93BA1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66BCC-09A9-4DD2-9368-5B51A868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194E-067D-4290-860A-BD6F236F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1DD3-2024-419B-AE92-3D879FC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AB13-810F-4E62-97C4-964CC128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27BDB-C149-402B-9981-6E921E0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C336-6AD6-489A-9120-D58E723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9D22-F579-4997-948F-F81B2EB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6EC4-9936-45E6-9FCD-3240D5DD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1BC9-35AC-49F9-93E9-5FC23A0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1C9-6A0A-4725-B27E-52DDC30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00FAB-B171-4069-AA2E-CEB4EA9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26637-40B5-44F6-BE93-7025227B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41FC-C1B8-4759-8EF3-F2614B8C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C7F17-86C0-4743-B0EF-0169A761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5C43-47E2-428C-98F8-B9CD00FB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4AD6-0489-471D-BC10-CBE2764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032E-09EA-4640-9C26-8E774252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7DCCE-BDA2-4F8E-B528-085A8EC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1DDB1-5FB4-4555-8A7C-A46BDB2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46D9-E2E0-4677-A379-34A57ED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841-CA73-4E32-9880-DB3037E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C658-E366-4A49-928D-DD7DFE2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B35ED-6D45-4A09-8FE7-19291B3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2977-D631-408C-A6FB-5803F05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5FAD0-12C3-4F49-B5FC-417A65D3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8F08-262E-4DAF-9C11-92B1B642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63CDE-D134-4A67-8479-A653755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BA444-F7AC-448F-9B32-7F6E2D5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0D6A9-9BFF-4C15-9652-18844C21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F4CF-BC96-4A90-9513-2058C92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B2F3-6B5C-4FBD-BD43-B7D6EBB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3B7-0E21-4F0E-AA2D-22264D4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0CAEB-7948-48F8-8990-ACB641A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6C6CD-86D4-4109-81A6-4E5E797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E994-B410-47B5-83D6-4150826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4F0BD-DC48-4460-B466-63E8EA4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7BD06-A71B-4D84-917E-FF65F85D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5F7DA-32ED-4B21-B14C-5C8D1932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87FF0-D5E6-4F6E-8ACE-DE0B665D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92439-758B-4A3F-8BE0-94E52458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CF9C3-1F59-4FEB-A1B4-236E01D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ABC30-04DB-4879-AC9E-7D859FFB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9DCE-11E7-4A3D-80B1-8ED6138D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426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B5A-EB80-4485-A5EB-21AC018596F3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723-E076-4CD2-999C-39828BB6A2AE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5"/>
          <p:cNvGrpSpPr/>
          <p:nvPr/>
        </p:nvGrpSpPr>
        <p:grpSpPr>
          <a:xfrm>
            <a:off x="235080" y="793800"/>
            <a:ext cx="9691560" cy="1477800"/>
            <a:chOff x="235080" y="793800"/>
            <a:chExt cx="9691560" cy="1477800"/>
          </a:xfrm>
        </p:grpSpPr>
        <p:sp>
          <p:nvSpPr>
            <p:cNvPr id="474" name="Freeform 14"/>
            <p:cNvSpPr/>
            <p:nvPr/>
          </p:nvSpPr>
          <p:spPr>
            <a:xfrm>
              <a:off x="6718680" y="954000"/>
              <a:ext cx="3195720" cy="793440"/>
            </a:xfrm>
            <a:custGeom>
              <a:avLst/>
              <a:gdLst>
                <a:gd name="textAreaLeft" fmla="*/ 0 w 3195720"/>
                <a:gd name="textAreaRight" fmla="*/ 3196080 w 31957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2910600" y="812880"/>
              <a:ext cx="6158880" cy="943560"/>
            </a:xfrm>
            <a:custGeom>
              <a:avLst/>
              <a:gdLst>
                <a:gd name="textAreaLeft" fmla="*/ 0 w 6158880"/>
                <a:gd name="textAreaRight" fmla="*/ 6159240 w 6158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22"/>
            <p:cNvSpPr/>
            <p:nvPr/>
          </p:nvSpPr>
          <p:spPr>
            <a:xfrm>
              <a:off x="3143520" y="825480"/>
              <a:ext cx="6074280" cy="860760"/>
            </a:xfrm>
            <a:custGeom>
              <a:avLst/>
              <a:gdLst>
                <a:gd name="textAreaLeft" fmla="*/ 0 w 6074280"/>
                <a:gd name="textAreaRight" fmla="*/ 6074640 w 60742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6"/>
            <p:cNvSpPr/>
            <p:nvPr/>
          </p:nvSpPr>
          <p:spPr>
            <a:xfrm>
              <a:off x="6231600" y="811080"/>
              <a:ext cx="3675600" cy="722880"/>
            </a:xfrm>
            <a:custGeom>
              <a:avLst/>
              <a:gdLst>
                <a:gd name="textAreaLeft" fmla="*/ 0 w 3675600"/>
                <a:gd name="textAreaRight" fmla="*/ 3675960 w 36756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5"/>
            <p:cNvSpPr/>
            <p:nvPr/>
          </p:nvSpPr>
          <p:spPr>
            <a:xfrm>
              <a:off x="235080" y="79380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BAFB-EF20-46E4-A3A8-94D23F4C4AE1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EC21-3D48-4D13-8E0D-7ED7A7393FE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23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522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319-B2C0-4524-956F-DD0373A54D7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0400-7BBE-407F-B2B0-6EDBEA2F9E86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570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5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175-EEBB-4EBC-9C26-900A6761B481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3E0D-37C5-4173-8520-E950A0FF38E9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618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08B-C450-401C-9315-709711F79247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A188-505D-4F00-8169-906B2D507827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4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666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92B-904B-437E-8DA0-6699805DC8D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3471-5932-48CB-8DFF-B56E670EDD23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9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714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D2A1-599C-4C1A-B531-3F68F26E25F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4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4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2EFC-F730-4779-BAF2-6DA3C7A856E7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762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8CB2-6DF7-4936-895F-515A052F5D0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AD00-5AF2-4EC4-B696-23653289668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ounded Rectangle 14"/>
          <p:cNvSpPr/>
          <p:nvPr/>
        </p:nvSpPr>
        <p:spPr>
          <a:xfrm>
            <a:off x="254160" y="254160"/>
            <a:ext cx="9663120" cy="5263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reeform 14"/>
          <p:cNvSpPr/>
          <p:nvPr/>
        </p:nvSpPr>
        <p:spPr>
          <a:xfrm>
            <a:off x="6718320" y="4670280"/>
            <a:ext cx="3197160" cy="79380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Freeform 18"/>
          <p:cNvSpPr/>
          <p:nvPr/>
        </p:nvSpPr>
        <p:spPr>
          <a:xfrm>
            <a:off x="2909880" y="4527720"/>
            <a:ext cx="6161040" cy="946080"/>
          </a:xfrm>
          <a:custGeom>
            <a:avLst/>
            <a:gdLst>
              <a:gd name="textAreaLeft" fmla="*/ 0 w 6161040"/>
              <a:gd name="textAreaRight" fmla="*/ 6161400 w 61610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>
              <a:gd name="textAreaLeft" fmla="*/ 0 w 6075360"/>
              <a:gd name="textAreaRight" fmla="*/ 6075720 w 60753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reeform 26"/>
          <p:cNvSpPr/>
          <p:nvPr/>
        </p:nvSpPr>
        <p:spPr>
          <a:xfrm>
            <a:off x="6234120" y="4525920"/>
            <a:ext cx="3673440" cy="7254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10"/>
          <p:cNvSpPr/>
          <p:nvPr/>
        </p:nvSpPr>
        <p:spPr>
          <a:xfrm>
            <a:off x="235080" y="4510080"/>
            <a:ext cx="9691560" cy="1476360"/>
          </a:xfrm>
          <a:custGeom>
            <a:avLst/>
            <a:gdLst>
              <a:gd name="textAreaLeft" fmla="*/ 0 w 9691560"/>
              <a:gd name="textAreaRight" fmla="*/ 9691920 w 969156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2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D3C-13E7-4923-B640-5A0CF985C91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3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4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C49-3B0E-4209-8CCB-C4370FCEBC1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857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5436-6954-49FA-95FA-7C32A21CEF21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5EF5-9FD6-4F33-B712-6F2734659633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43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B250-071E-4AC6-A3F2-C04AF8C82E26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July 15, 2011, Page </a:t>
            </a:r>
            <a:fld id="{D56FCB2F-A28F-4195-B564-6E44174D69E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905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8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1881-3FA9-4A00-AF65-DE6C7D22FA43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9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0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35B5-F3CB-4B82-A246-950DF36FD98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953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728-78E6-458C-8694-5A410B06581A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58A-8F0C-4E85-883B-E9F37EE5BFD5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Group 5"/>
          <p:cNvGrpSpPr/>
          <p:nvPr/>
        </p:nvGrpSpPr>
        <p:grpSpPr>
          <a:xfrm>
            <a:off x="235080" y="793800"/>
            <a:ext cx="9691560" cy="1477800"/>
            <a:chOff x="235080" y="793800"/>
            <a:chExt cx="9691560" cy="1477800"/>
          </a:xfrm>
        </p:grpSpPr>
        <p:sp>
          <p:nvSpPr>
            <p:cNvPr id="1001" name="Freeform 14"/>
            <p:cNvSpPr/>
            <p:nvPr/>
          </p:nvSpPr>
          <p:spPr>
            <a:xfrm>
              <a:off x="6718680" y="954000"/>
              <a:ext cx="3195720" cy="793440"/>
            </a:xfrm>
            <a:custGeom>
              <a:avLst/>
              <a:gdLst>
                <a:gd name="textAreaLeft" fmla="*/ 0 w 3195720"/>
                <a:gd name="textAreaRight" fmla="*/ 3196080 w 31957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18"/>
            <p:cNvSpPr/>
            <p:nvPr/>
          </p:nvSpPr>
          <p:spPr>
            <a:xfrm>
              <a:off x="2910600" y="812880"/>
              <a:ext cx="6158880" cy="943560"/>
            </a:xfrm>
            <a:custGeom>
              <a:avLst/>
              <a:gdLst>
                <a:gd name="textAreaLeft" fmla="*/ 0 w 6158880"/>
                <a:gd name="textAreaRight" fmla="*/ 6159240 w 6158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22"/>
            <p:cNvSpPr/>
            <p:nvPr/>
          </p:nvSpPr>
          <p:spPr>
            <a:xfrm>
              <a:off x="3143520" y="825480"/>
              <a:ext cx="6074280" cy="860760"/>
            </a:xfrm>
            <a:custGeom>
              <a:avLst/>
              <a:gdLst>
                <a:gd name="textAreaLeft" fmla="*/ 0 w 6074280"/>
                <a:gd name="textAreaRight" fmla="*/ 6074640 w 60742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26"/>
            <p:cNvSpPr/>
            <p:nvPr/>
          </p:nvSpPr>
          <p:spPr>
            <a:xfrm>
              <a:off x="6231600" y="811080"/>
              <a:ext cx="3675600" cy="722880"/>
            </a:xfrm>
            <a:custGeom>
              <a:avLst/>
              <a:gdLst>
                <a:gd name="textAreaLeft" fmla="*/ 0 w 3675600"/>
                <a:gd name="textAreaRight" fmla="*/ 3675960 w 36756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25"/>
            <p:cNvSpPr/>
            <p:nvPr/>
          </p:nvSpPr>
          <p:spPr>
            <a:xfrm>
              <a:off x="235080" y="79380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6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C00F-0CF0-4C34-83B3-0B8096582E2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6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6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D82-CB17-428F-B97F-989AE5013953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23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049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6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DAE9-272B-42F5-96BA-21D9BB2EFA6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6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DBD8-9FA8-49BB-84AE-8203F80616C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Group 8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097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D39-D37A-44B9-B6B7-E71043E3BA7A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6FC4-F8AF-45AF-BBB6-85BE19AD4A37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145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A103-27ED-441B-924C-B18152F7299B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7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7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183-8ABD-4F4B-BD88-808F1FD9975D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Group 14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193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FED1-B395-4366-9E56-9035600AE18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7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8A73-16B3-456D-89C6-A309D4B44ACA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Group 9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241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Freeform 10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7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9D2-D59D-4F4D-BA7F-26A6F2AF067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8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8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4DC-6C08-4E4F-B573-53EC5DEE4D5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289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dt" idx="82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C70A-5BF4-4E3E-ADFD-67E11067D55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 type="ftr" idx="83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 type="sldNum" idx="84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D6E-A037-4890-A38B-838D9917BF5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ounded Rectangle 14"/>
          <p:cNvSpPr/>
          <p:nvPr/>
        </p:nvSpPr>
        <p:spPr>
          <a:xfrm>
            <a:off x="254160" y="254160"/>
            <a:ext cx="9663120" cy="5263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Freeform 14"/>
          <p:cNvSpPr/>
          <p:nvPr/>
        </p:nvSpPr>
        <p:spPr>
          <a:xfrm>
            <a:off x="6718320" y="4670280"/>
            <a:ext cx="3197160" cy="79380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Freeform 18"/>
          <p:cNvSpPr/>
          <p:nvPr/>
        </p:nvSpPr>
        <p:spPr>
          <a:xfrm>
            <a:off x="2909880" y="4527720"/>
            <a:ext cx="6161040" cy="946080"/>
          </a:xfrm>
          <a:custGeom>
            <a:avLst/>
            <a:gdLst>
              <a:gd name="textAreaLeft" fmla="*/ 0 w 6161040"/>
              <a:gd name="textAreaRight" fmla="*/ 6161400 w 61610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>
              <a:gd name="textAreaLeft" fmla="*/ 0 w 6075360"/>
              <a:gd name="textAreaRight" fmla="*/ 6075720 w 60753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Freeform 26"/>
          <p:cNvSpPr/>
          <p:nvPr/>
        </p:nvSpPr>
        <p:spPr>
          <a:xfrm>
            <a:off x="6234120" y="4525920"/>
            <a:ext cx="3673440" cy="7254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Freeform 10"/>
          <p:cNvSpPr/>
          <p:nvPr/>
        </p:nvSpPr>
        <p:spPr>
          <a:xfrm>
            <a:off x="235080" y="4510080"/>
            <a:ext cx="9691560" cy="1476360"/>
          </a:xfrm>
          <a:custGeom>
            <a:avLst/>
            <a:gdLst>
              <a:gd name="textAreaLeft" fmla="*/ 0 w 9691560"/>
              <a:gd name="textAreaRight" fmla="*/ 9691920 w 969156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85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A6DE-F96D-48D9-B558-8E94B0453DE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86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87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C5F-FB96-4C41-9818-3D7DCAC5F10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91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9D66-1770-4165-9928-BF0B1186EB4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July 15, 2011, Page </a:t>
            </a:r>
            <a:fld id="{4157C156-EF40-4F02-91DF-05D89465CB7F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384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88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2236-D403-4781-A0B9-8BF01B780FE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89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90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2AB8-0AB3-46DD-B0DD-9AC69D796533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432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1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A6F6-D048-4FF3-8509-698C646D2209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2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3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D0C-6ED8-4068-B3EB-F28E9B214D2F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480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94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D14-577A-4A23-AD29-B073474525B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95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96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AEB-571E-4E97-B7AF-D57E91913E55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Group 5"/>
          <p:cNvGrpSpPr/>
          <p:nvPr/>
        </p:nvGrpSpPr>
        <p:grpSpPr>
          <a:xfrm>
            <a:off x="235080" y="793800"/>
            <a:ext cx="9691560" cy="1477800"/>
            <a:chOff x="235080" y="793800"/>
            <a:chExt cx="9691560" cy="1477800"/>
          </a:xfrm>
        </p:grpSpPr>
        <p:sp>
          <p:nvSpPr>
            <p:cNvPr id="1528" name="Freeform 14"/>
            <p:cNvSpPr/>
            <p:nvPr/>
          </p:nvSpPr>
          <p:spPr>
            <a:xfrm>
              <a:off x="6718680" y="954000"/>
              <a:ext cx="3195720" cy="793440"/>
            </a:xfrm>
            <a:custGeom>
              <a:avLst/>
              <a:gdLst>
                <a:gd name="textAreaLeft" fmla="*/ 0 w 3195720"/>
                <a:gd name="textAreaRight" fmla="*/ 3196080 w 31957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18"/>
            <p:cNvSpPr/>
            <p:nvPr/>
          </p:nvSpPr>
          <p:spPr>
            <a:xfrm>
              <a:off x="2910600" y="812880"/>
              <a:ext cx="6158880" cy="943560"/>
            </a:xfrm>
            <a:custGeom>
              <a:avLst/>
              <a:gdLst>
                <a:gd name="textAreaLeft" fmla="*/ 0 w 6158880"/>
                <a:gd name="textAreaRight" fmla="*/ 6159240 w 6158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Freeform 22"/>
            <p:cNvSpPr/>
            <p:nvPr/>
          </p:nvSpPr>
          <p:spPr>
            <a:xfrm>
              <a:off x="3143520" y="825480"/>
              <a:ext cx="6074280" cy="860760"/>
            </a:xfrm>
            <a:custGeom>
              <a:avLst/>
              <a:gdLst>
                <a:gd name="textAreaLeft" fmla="*/ 0 w 6074280"/>
                <a:gd name="textAreaRight" fmla="*/ 6074640 w 60742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Freeform 26"/>
            <p:cNvSpPr/>
            <p:nvPr/>
          </p:nvSpPr>
          <p:spPr>
            <a:xfrm>
              <a:off x="6231600" y="811080"/>
              <a:ext cx="3675600" cy="722880"/>
            </a:xfrm>
            <a:custGeom>
              <a:avLst/>
              <a:gdLst>
                <a:gd name="textAreaLeft" fmla="*/ 0 w 3675600"/>
                <a:gd name="textAreaRight" fmla="*/ 3675960 w 36756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25"/>
            <p:cNvSpPr/>
            <p:nvPr/>
          </p:nvSpPr>
          <p:spPr>
            <a:xfrm>
              <a:off x="235080" y="79380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97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0455-D385-4F10-9DF3-7DE6BCA9A4C7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98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99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CE5-F12F-4836-B322-B5220820DB2D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Group 23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576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dt" idx="10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4CA-8000-46A3-9115-724B6C3CD51C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ftr" idx="10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 type="sldNum" idx="10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C48D-E8F6-480E-B0C0-F2AFEA04F6B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3" name="Group 8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624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25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1709-AA3E-4A0F-AE4B-AFB8AFC005D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0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0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1BE0-FC51-4668-AF3A-DBAA9E9834E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672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B004-A905-4AEB-A1EF-EE67BA16A103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0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0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F89-8842-46FB-B9EE-7B780E029F5D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ounded Rectangle 14"/>
          <p:cNvSpPr/>
          <p:nvPr/>
        </p:nvSpPr>
        <p:spPr>
          <a:xfrm>
            <a:off x="254160" y="254160"/>
            <a:ext cx="9663120" cy="1585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9" name="Group 14"/>
          <p:cNvGrpSpPr/>
          <p:nvPr/>
        </p:nvGrpSpPr>
        <p:grpSpPr>
          <a:xfrm>
            <a:off x="235080" y="793800"/>
            <a:ext cx="9691560" cy="1479600"/>
            <a:chOff x="235080" y="793800"/>
            <a:chExt cx="9691560" cy="1479600"/>
          </a:xfrm>
        </p:grpSpPr>
        <p:sp>
          <p:nvSpPr>
            <p:cNvPr id="1720" name="Freeform 14"/>
            <p:cNvSpPr/>
            <p:nvPr/>
          </p:nvSpPr>
          <p:spPr>
            <a:xfrm>
              <a:off x="6727320" y="95580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Freeform 18"/>
            <p:cNvSpPr/>
            <p:nvPr/>
          </p:nvSpPr>
          <p:spPr>
            <a:xfrm>
              <a:off x="2914200" y="812880"/>
              <a:ext cx="6167880" cy="9453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Freeform 22"/>
            <p:cNvSpPr/>
            <p:nvPr/>
          </p:nvSpPr>
          <p:spPr>
            <a:xfrm>
              <a:off x="3146760" y="825480"/>
              <a:ext cx="6081480" cy="8625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2560"/>
                <a:gd name="textAreaBottom" fmla="*/ 862920 h 8625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Freeform 26"/>
            <p:cNvSpPr/>
            <p:nvPr/>
          </p:nvSpPr>
          <p:spPr>
            <a:xfrm>
              <a:off x="6240600" y="811080"/>
              <a:ext cx="3679200" cy="7246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>
              <a:off x="235080" y="793800"/>
              <a:ext cx="9691560" cy="14796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9600"/>
                <a:gd name="textAreaBottom" fmla="*/ 1479960 h 14796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0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B39-FC92-4F46-8968-3D51C8DA9220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1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1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9AC-BF0A-4938-A7D0-AE3E02972854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139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605E-004B-46C3-A151-300F16F28CC5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1100" spc="-1" strike="noStrike">
                <a:solidFill>
                  <a:srgbClr val="073e87"/>
                </a:solidFill>
                <a:latin typeface="Candara"/>
              </a:rPr>
              <a:t>July 15, 2011, Page </a:t>
            </a:r>
            <a:fld id="{26811D48-98EC-4E0F-9849-6177A5E3021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4"/>
          <p:cNvSpPr/>
          <p:nvPr/>
        </p:nvSpPr>
        <p:spPr>
          <a:xfrm>
            <a:off x="254160" y="254160"/>
            <a:ext cx="96631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235080" y="5950080"/>
            <a:ext cx="9691560" cy="1477800"/>
            <a:chOff x="235080" y="5950080"/>
            <a:chExt cx="9691560" cy="1477800"/>
          </a:xfrm>
        </p:grpSpPr>
        <p:sp>
          <p:nvSpPr>
            <p:cNvPr id="187" name="Freeform 14"/>
            <p:cNvSpPr/>
            <p:nvPr/>
          </p:nvSpPr>
          <p:spPr>
            <a:xfrm>
              <a:off x="6727320" y="6110280"/>
              <a:ext cx="3199320" cy="793440"/>
            </a:xfrm>
            <a:custGeom>
              <a:avLst/>
              <a:gdLst>
                <a:gd name="textAreaLeft" fmla="*/ 0 w 3199320"/>
                <a:gd name="textAreaRight" fmla="*/ 3199680 w 3199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914200" y="5969160"/>
              <a:ext cx="6167880" cy="943560"/>
            </a:xfrm>
            <a:custGeom>
              <a:avLst/>
              <a:gdLst>
                <a:gd name="textAreaLeft" fmla="*/ 0 w 6167880"/>
                <a:gd name="textAreaRight" fmla="*/ 6168240 w 616788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3146760" y="5981760"/>
              <a:ext cx="6081480" cy="860760"/>
            </a:xfrm>
            <a:custGeom>
              <a:avLst/>
              <a:gdLst>
                <a:gd name="textAreaLeft" fmla="*/ 0 w 6081480"/>
                <a:gd name="textAreaRight" fmla="*/ 6081840 w 608148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6240600" y="5967360"/>
              <a:ext cx="3679200" cy="722880"/>
            </a:xfrm>
            <a:custGeom>
              <a:avLst/>
              <a:gdLst>
                <a:gd name="textAreaLeft" fmla="*/ 0 w 3679200"/>
                <a:gd name="textAreaRight" fmla="*/ 3679560 w 367920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35080" y="5950080"/>
              <a:ext cx="9691560" cy="1477800"/>
            </a:xfrm>
            <a:custGeom>
              <a:avLst/>
              <a:gdLst>
                <a:gd name="textAreaLeft" fmla="*/ 0 w 9691560"/>
                <a:gd name="textAreaRight" fmla="*/ 9691920 w 969156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C028-5D9F-47B2-8C5F-9AF892EB05FD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EC1F-6C1C-42C8-8E8F-B2293DE80C08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235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F088-1A41-4512-97DA-CE9AC1792B56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4003-035F-471C-95EA-CCBD1BE9A867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ounded Rectangle 14"/>
          <p:cNvSpPr/>
          <p:nvPr/>
        </p:nvSpPr>
        <p:spPr>
          <a:xfrm>
            <a:off x="254160" y="254160"/>
            <a:ext cx="9663120" cy="5263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4"/>
          <p:cNvSpPr/>
          <p:nvPr/>
        </p:nvSpPr>
        <p:spPr>
          <a:xfrm>
            <a:off x="6718320" y="4670280"/>
            <a:ext cx="3197160" cy="79380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2909880" y="4527720"/>
            <a:ext cx="6161040" cy="946080"/>
          </a:xfrm>
          <a:custGeom>
            <a:avLst/>
            <a:gdLst>
              <a:gd name="textAreaLeft" fmla="*/ 0 w 6161040"/>
              <a:gd name="textAreaRight" fmla="*/ 6161400 w 61610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>
              <a:gd name="textAreaLeft" fmla="*/ 0 w 6075360"/>
              <a:gd name="textAreaRight" fmla="*/ 6075720 w 607536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26"/>
          <p:cNvSpPr/>
          <p:nvPr/>
        </p:nvSpPr>
        <p:spPr>
          <a:xfrm>
            <a:off x="6234120" y="4525920"/>
            <a:ext cx="3673440" cy="7254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0"/>
          <p:cNvSpPr/>
          <p:nvPr/>
        </p:nvSpPr>
        <p:spPr>
          <a:xfrm>
            <a:off x="235080" y="4510080"/>
            <a:ext cx="9691560" cy="1476360"/>
          </a:xfrm>
          <a:custGeom>
            <a:avLst/>
            <a:gdLst>
              <a:gd name="textAreaLeft" fmla="*/ 0 w 9691560"/>
              <a:gd name="textAreaRight" fmla="*/ 9691920 w 969156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4FAA-A7AE-4F4D-AA0A-9886F2CB010E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D662-4407-48B4-AE9A-26AABC5F395B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330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894-82D0-4DDA-8367-3E5F0DCC615F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3BCB-E7AC-428C-B22E-49F314871000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ounded Rectangle 13"/>
          <p:cNvSpPr/>
          <p:nvPr/>
        </p:nvSpPr>
        <p:spPr>
          <a:xfrm>
            <a:off x="254160" y="254160"/>
            <a:ext cx="96631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5"/>
          <p:cNvGrpSpPr/>
          <p:nvPr/>
        </p:nvGrpSpPr>
        <p:grpSpPr>
          <a:xfrm>
            <a:off x="304920" y="1866960"/>
            <a:ext cx="9693000" cy="1477800"/>
            <a:chOff x="304920" y="1866960"/>
            <a:chExt cx="9693000" cy="1477800"/>
          </a:xfrm>
        </p:grpSpPr>
        <p:sp>
          <p:nvSpPr>
            <p:cNvPr id="378" name="Freeform 14"/>
            <p:cNvSpPr/>
            <p:nvPr/>
          </p:nvSpPr>
          <p:spPr>
            <a:xfrm>
              <a:off x="6789240" y="2027160"/>
              <a:ext cx="3196080" cy="79344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980800" y="1886040"/>
              <a:ext cx="6159960" cy="943560"/>
            </a:xfrm>
            <a:custGeom>
              <a:avLst/>
              <a:gdLst>
                <a:gd name="textAreaLeft" fmla="*/ 0 w 6159960"/>
                <a:gd name="textAreaRight" fmla="*/ 6160320 w 6159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22"/>
            <p:cNvSpPr/>
            <p:nvPr/>
          </p:nvSpPr>
          <p:spPr>
            <a:xfrm>
              <a:off x="3213720" y="1898640"/>
              <a:ext cx="6075000" cy="860760"/>
            </a:xfrm>
            <a:custGeom>
              <a:avLst/>
              <a:gdLst>
                <a:gd name="textAreaLeft" fmla="*/ 0 w 6075000"/>
                <a:gd name="textAreaRight" fmla="*/ 6075360 w 607500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26"/>
            <p:cNvSpPr/>
            <p:nvPr/>
          </p:nvSpPr>
          <p:spPr>
            <a:xfrm>
              <a:off x="6302520" y="1884240"/>
              <a:ext cx="3675960" cy="722880"/>
            </a:xfrm>
            <a:custGeom>
              <a:avLst/>
              <a:gdLst>
                <a:gd name="textAreaLeft" fmla="*/ 0 w 3675960"/>
                <a:gd name="textAreaRight" fmla="*/ 3676320 w 36759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0"/>
            <p:cNvSpPr/>
            <p:nvPr/>
          </p:nvSpPr>
          <p:spPr>
            <a:xfrm>
              <a:off x="304920" y="1866960"/>
              <a:ext cx="9693000" cy="1477800"/>
            </a:xfrm>
            <a:custGeom>
              <a:avLst/>
              <a:gdLst>
                <a:gd name="textAreaLeft" fmla="*/ 0 w 9693000"/>
                <a:gd name="textAreaRight" fmla="*/ 9693360 w 9693000"/>
                <a:gd name="textAreaTop" fmla="*/ 0 h 1477800"/>
                <a:gd name="textAreaBottom" fmla="*/ 1478160 h 14778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68040" y="2971800"/>
            <a:ext cx="8232840" cy="383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5751360" y="6873480"/>
            <a:ext cx="42069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8A3-37D6-4E51-8737-C52AD2ECC830}" type="datetime">
              <a:rPr b="0" lang="en-US" sz="1100" spc="-1" strike="noStrike">
                <a:solidFill>
                  <a:srgbClr val="073e87"/>
                </a:solidFill>
                <a:latin typeface="Candara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215640" y="6943320"/>
            <a:ext cx="4206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984880" y="7079760"/>
            <a:ext cx="12906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B65-B31C-49A7-B41A-D61725FCCA4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857160" y="1294920"/>
            <a:ext cx="844416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owdsourcing Clinical Drug Development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transpar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815328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asz Sablinski M.D., Ph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nder, Transparency Life Scie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Development, Celtic Therapeu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"/>
          <p:cNvSpPr/>
          <p:nvPr/>
        </p:nvSpPr>
        <p:spPr>
          <a:xfrm>
            <a:off x="1981080" y="5181480"/>
            <a:ext cx="6096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 Science Summ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untain View, C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ct 23, 20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6" name="Picture 3" descr=""/>
          <p:cNvPicPr/>
          <p:nvPr/>
        </p:nvPicPr>
        <p:blipFill>
          <a:blip r:embed="rId1"/>
          <a:stretch/>
        </p:blipFill>
        <p:spPr>
          <a:xfrm>
            <a:off x="409680" y="6308640"/>
            <a:ext cx="5586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cy = legacy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= cur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5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Slide Number Placeholder 2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265-3E07-43E1-A5AC-3BAE053AE456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ransparency Life Scienc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s a </a:t>
            </a:r>
            <a:r>
              <a:rPr b="1" i="1" lang="en-US" sz="4400" spc="-1" strike="noStrike">
                <a:solidFill>
                  <a:srgbClr val="ffffff"/>
                </a:solidFill>
                <a:latin typeface="Candara"/>
              </a:rPr>
              <a:t>Drug Development Compan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8" name="TextBox 5"/>
          <p:cNvSpPr/>
          <p:nvPr/>
        </p:nvSpPr>
        <p:spPr>
          <a:xfrm>
            <a:off x="1530360" y="3333600"/>
            <a:ext cx="745488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We acquire IP and pharmaceutical assets from academia, biotech, and pharma, and add significant value by conducting clinical studies via open-source methods, and by executing with unmatched productivit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931680" y="2286000"/>
            <a:ext cx="8962920" cy="424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6000"/>
          </a:bodyPr>
          <a:p>
            <a:pPr marL="384840" indent="-384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ndara"/>
              </a:rPr>
              <a:t>Founders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Tomasz Sablinski, MD, Ph.D.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Harvard, Novartis, Celtic Rx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arc Foster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FoldRx, Schrodinger, multiple exits in high te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Gareth Hicks, Ph.D.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Cambridge, GSK, Novartis, Tiog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Lawrence Steinman, MD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Professor - Stanford, multiple biotech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Adviso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Karim Lakhani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Harvard Business Schoo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Bernard Munos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Former strategist, Eli Lill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John L. Brown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Former President, Health Properties, Time-Warn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Scott Becker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– Co-Founder, Invite Media (acquired by Google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84840" indent="-3848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assionate About Changing the World of Drug Developmen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822" name="Picture 3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975120" cy="933480"/>
          </a:xfrm>
          <a:prstGeom prst="rect">
            <a:avLst/>
          </a:prstGeom>
          <a:ln w="0">
            <a:noFill/>
          </a:ln>
        </p:spPr>
      </p:pic>
      <p:sp>
        <p:nvSpPr>
          <p:cNvPr id="1823" name="Slide Number Placeholder 1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6E94-6014-4702-82F5-D5FE3C5F50A1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major enabler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changes /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5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Title 3"/>
          <p:cNvSpPr/>
          <p:nvPr/>
        </p:nvSpPr>
        <p:spPr>
          <a:xfrm>
            <a:off x="438120" y="57240"/>
            <a:ext cx="914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TLS Approach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lide Number Placeholder 2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6DC-8292-4B31-998B-A73195CE50F2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Picture 3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975120" cy="933480"/>
          </a:xfrm>
          <a:prstGeom prst="rect">
            <a:avLst/>
          </a:prstGeom>
          <a:ln w="0">
            <a:noFill/>
          </a:ln>
        </p:spPr>
      </p:pic>
      <p:sp>
        <p:nvSpPr>
          <p:cNvPr id="1829" name="Content Placeholder 5"/>
          <p:cNvSpPr/>
          <p:nvPr/>
        </p:nvSpPr>
        <p:spPr>
          <a:xfrm>
            <a:off x="407880" y="1758960"/>
            <a:ext cx="698652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506520" indent="-506520">
              <a:lnSpc>
                <a:spcPct val="100000"/>
              </a:lnSpc>
              <a:spcBef>
                <a:spcPts val="601"/>
              </a:spcBef>
              <a:spcAft>
                <a:spcPts val="1338"/>
              </a:spcAft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Crowd-Sourcing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 – an approach to protocol design and data analysis, allowing for input from all available stakeholders 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Candara"/>
                <a:ea typeface="Arial"/>
              </a:rPr>
              <a:t>“10,000 minds are better than 1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spcAft>
                <a:spcPts val="1338"/>
              </a:spcAft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Data &amp; Technology Platform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– web-based platform integrating multiple real-time </a:t>
            </a:r>
            <a:br>
              <a:rPr sz="2400"/>
            </a:b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data inputs via telemedicine 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Candara"/>
                <a:ea typeface="Arial"/>
              </a:rPr>
              <a:t>Enhance trial cost-efficiency, safety,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spcAft>
                <a:spcPts val="1338"/>
              </a:spcAft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Transparency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Arial"/>
              </a:rPr>
              <a:t> – Plans, data, analyses are shared openly, in real time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Candara"/>
                <a:ea typeface="Arial"/>
              </a:rPr>
              <a:t>Builds trust in TLS, provides best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0" name="Picture 5" descr="crowdsourcing.jpg"/>
          <p:cNvPicPr/>
          <p:nvPr/>
        </p:nvPicPr>
        <p:blipFill>
          <a:blip r:embed="rId2"/>
          <a:stretch/>
        </p:blipFill>
        <p:spPr>
          <a:xfrm>
            <a:off x="7394400" y="1946160"/>
            <a:ext cx="2527560" cy="1282680"/>
          </a:xfrm>
          <a:prstGeom prst="rect">
            <a:avLst/>
          </a:prstGeom>
          <a:ln w="0">
            <a:noFill/>
          </a:ln>
        </p:spPr>
      </p:pic>
      <p:pic>
        <p:nvPicPr>
          <p:cNvPr id="1831" name="Picture 6" descr="telemedicine.jpg"/>
          <p:cNvPicPr/>
          <p:nvPr/>
        </p:nvPicPr>
        <p:blipFill>
          <a:blip r:embed="rId3"/>
          <a:stretch/>
        </p:blipFill>
        <p:spPr>
          <a:xfrm>
            <a:off x="7394400" y="3600360"/>
            <a:ext cx="2549880" cy="1555920"/>
          </a:xfrm>
          <a:prstGeom prst="rect">
            <a:avLst/>
          </a:prstGeom>
          <a:ln w="0">
            <a:noFill/>
          </a:ln>
        </p:spPr>
      </p:pic>
      <p:pic>
        <p:nvPicPr>
          <p:cNvPr id="1832" name="Picture 7" descr="conferenceroom.jpg"/>
          <p:cNvPicPr/>
          <p:nvPr/>
        </p:nvPicPr>
        <p:blipFill>
          <a:blip r:embed="rId4"/>
          <a:stretch/>
        </p:blipFill>
        <p:spPr>
          <a:xfrm>
            <a:off x="7394400" y="5419800"/>
            <a:ext cx="25275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Title 3"/>
          <p:cNvSpPr/>
          <p:nvPr/>
        </p:nvSpPr>
        <p:spPr>
          <a:xfrm>
            <a:off x="438120" y="57240"/>
            <a:ext cx="914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ndara"/>
                <a:ea typeface="Arial"/>
              </a:rPr>
              <a:t>How Will it Work in Practic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ndara"/>
                <a:ea typeface="Arial"/>
              </a:rPr>
              <a:t>High-Level View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Slide Number Placeholder 2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306-F130-4F44-B4F8-B1A0B6C3DF8C}" type="slidenum">
              <a:rPr b="0" lang="en-US" sz="11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Picture 3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975120" cy="933480"/>
          </a:xfrm>
          <a:prstGeom prst="rect">
            <a:avLst/>
          </a:prstGeom>
          <a:ln w="0">
            <a:noFill/>
          </a:ln>
        </p:spPr>
      </p:pic>
      <p:sp>
        <p:nvSpPr>
          <p:cNvPr id="1836" name="Pentagon 5"/>
          <p:cNvSpPr/>
          <p:nvPr/>
        </p:nvSpPr>
        <p:spPr>
          <a:xfrm>
            <a:off x="210960" y="2533680"/>
            <a:ext cx="1851120" cy="112068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52" y="0"/>
                </a:lnTo>
                <a:lnTo>
                  <a:pt x="21600" y="10800"/>
                </a:lnTo>
                <a:lnTo>
                  <a:pt x="150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Chevron 6"/>
          <p:cNvSpPr/>
          <p:nvPr/>
        </p:nvSpPr>
        <p:spPr>
          <a:xfrm>
            <a:off x="1701720" y="2533680"/>
            <a:ext cx="2217960" cy="1120680"/>
          </a:xfrm>
          <a:custGeom>
            <a:avLst/>
            <a:gdLst>
              <a:gd name="textAreaLeft" fmla="*/ 0 w 2217960"/>
              <a:gd name="textAreaRight" fmla="*/ 2218320 w 2217960"/>
              <a:gd name="textAreaTop" fmla="*/ 0 h 1120680"/>
              <a:gd name="textAreaBottom" fmla="*/ 112104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6" y="0"/>
                </a:lnTo>
                <a:lnTo>
                  <a:pt x="21600" y="10800"/>
                </a:lnTo>
                <a:lnTo>
                  <a:pt x="16136" y="21600"/>
                </a:lnTo>
                <a:lnTo>
                  <a:pt x="0" y="21600"/>
                </a:lnTo>
                <a:lnTo>
                  <a:pt x="5464" y="10800"/>
                </a:lnTo>
                <a:close/>
              </a:path>
            </a:pathLst>
          </a:custGeom>
          <a:solidFill>
            <a:srgbClr val="8fb5e5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Patient  Recruit-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Chevron 7"/>
          <p:cNvSpPr/>
          <p:nvPr/>
        </p:nvSpPr>
        <p:spPr>
          <a:xfrm>
            <a:off x="3556080" y="2540160"/>
            <a:ext cx="2485800" cy="1122120"/>
          </a:xfrm>
          <a:custGeom>
            <a:avLst/>
            <a:gdLst>
              <a:gd name="textAreaLeft" fmla="*/ 0 w 2485800"/>
              <a:gd name="textAreaRight" fmla="*/ 2486160 w 248580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9de3a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Chevron 10"/>
          <p:cNvSpPr/>
          <p:nvPr/>
        </p:nvSpPr>
        <p:spPr>
          <a:xfrm>
            <a:off x="5672160" y="2540160"/>
            <a:ext cx="2433600" cy="112212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9" y="0"/>
                </a:lnTo>
                <a:lnTo>
                  <a:pt x="21600" y="10800"/>
                </a:lnTo>
                <a:lnTo>
                  <a:pt x="16619" y="21600"/>
                </a:lnTo>
                <a:lnTo>
                  <a:pt x="0" y="21600"/>
                </a:lnTo>
                <a:lnTo>
                  <a:pt x="4981" y="10800"/>
                </a:lnTo>
                <a:close/>
              </a:path>
            </a:pathLst>
          </a:custGeom>
          <a:solidFill>
            <a:srgbClr val="fbe6b3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Chevron 14"/>
          <p:cNvSpPr/>
          <p:nvPr/>
        </p:nvSpPr>
        <p:spPr>
          <a:xfrm>
            <a:off x="7704000" y="2540160"/>
            <a:ext cx="2279880" cy="1122120"/>
          </a:xfrm>
          <a:custGeom>
            <a:avLst/>
            <a:gdLst>
              <a:gd name="textAreaLeft" fmla="*/ 0 w 2279880"/>
              <a:gd name="textAreaRight" fmla="*/ 2280240 w 2279880"/>
              <a:gd name="textAreaTop" fmla="*/ 0 h 1122120"/>
              <a:gd name="textAreaBottom" fmla="*/ 112248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4" y="0"/>
                </a:lnTo>
                <a:lnTo>
                  <a:pt x="21600" y="10800"/>
                </a:lnTo>
                <a:lnTo>
                  <a:pt x="16284" y="21600"/>
                </a:lnTo>
                <a:lnTo>
                  <a:pt x="0" y="21600"/>
                </a:lnTo>
                <a:lnTo>
                  <a:pt x="5316" y="108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entagon 21"/>
          <p:cNvSpPr/>
          <p:nvPr/>
        </p:nvSpPr>
        <p:spPr>
          <a:xfrm>
            <a:off x="210960" y="4549680"/>
            <a:ext cx="1851120" cy="112104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121040"/>
              <a:gd name="textAreaBottom" fmla="*/ 112140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52" y="0"/>
                </a:lnTo>
                <a:lnTo>
                  <a:pt x="21600" y="10800"/>
                </a:lnTo>
                <a:lnTo>
                  <a:pt x="150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Crowd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ou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Chevron 22"/>
          <p:cNvSpPr/>
          <p:nvPr/>
        </p:nvSpPr>
        <p:spPr>
          <a:xfrm>
            <a:off x="1693800" y="4572000"/>
            <a:ext cx="2216160" cy="112248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36" y="0"/>
                </a:lnTo>
                <a:lnTo>
                  <a:pt x="21600" y="10800"/>
                </a:lnTo>
                <a:lnTo>
                  <a:pt x="16136" y="21600"/>
                </a:lnTo>
                <a:lnTo>
                  <a:pt x="0" y="21600"/>
                </a:lnTo>
                <a:lnTo>
                  <a:pt x="5464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Chevron 23"/>
          <p:cNvSpPr/>
          <p:nvPr/>
        </p:nvSpPr>
        <p:spPr>
          <a:xfrm>
            <a:off x="3556080" y="4572000"/>
            <a:ext cx="2485800" cy="1122480"/>
          </a:xfrm>
          <a:custGeom>
            <a:avLst/>
            <a:gdLst>
              <a:gd name="textAreaLeft" fmla="*/ 0 w 2485800"/>
              <a:gd name="textAreaRight" fmla="*/ 2486160 w 248580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le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Chevron 24"/>
          <p:cNvSpPr/>
          <p:nvPr/>
        </p:nvSpPr>
        <p:spPr>
          <a:xfrm>
            <a:off x="5672160" y="4572000"/>
            <a:ext cx="2433600" cy="1122480"/>
          </a:xfrm>
          <a:custGeom>
            <a:avLst/>
            <a:gdLst>
              <a:gd name="textAreaLeft" fmla="*/ 0 w 2433600"/>
              <a:gd name="textAreaRight" fmla="*/ 2433960 w 243360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9" y="0"/>
                </a:lnTo>
                <a:lnTo>
                  <a:pt x="21600" y="10800"/>
                </a:lnTo>
                <a:lnTo>
                  <a:pt x="16619" y="21600"/>
                </a:lnTo>
                <a:lnTo>
                  <a:pt x="0" y="21600"/>
                </a:lnTo>
                <a:lnTo>
                  <a:pt x="4981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ecur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Ven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Chevron 25"/>
          <p:cNvSpPr/>
          <p:nvPr/>
        </p:nvSpPr>
        <p:spPr>
          <a:xfrm>
            <a:off x="7704000" y="4572000"/>
            <a:ext cx="2279880" cy="1122480"/>
          </a:xfrm>
          <a:custGeom>
            <a:avLst/>
            <a:gdLst>
              <a:gd name="textAreaLeft" fmla="*/ 0 w 2279880"/>
              <a:gd name="textAreaRight" fmla="*/ 2280240 w 2279880"/>
              <a:gd name="textAreaTop" fmla="*/ 0 h 1122480"/>
              <a:gd name="textAreaBottom" fmla="*/ 1122480 h 11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4" y="0"/>
                </a:lnTo>
                <a:lnTo>
                  <a:pt x="21600" y="10800"/>
                </a:lnTo>
                <a:lnTo>
                  <a:pt x="16284" y="21600"/>
                </a:lnTo>
                <a:lnTo>
                  <a:pt x="0" y="21600"/>
                </a:lnTo>
                <a:lnTo>
                  <a:pt x="5316" y="10800"/>
                </a:lnTo>
                <a:close/>
              </a:path>
            </a:pathLst>
          </a:custGeom>
          <a:solidFill>
            <a:srgbClr val="f2f2f2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Mo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Cro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Box 26"/>
          <p:cNvSpPr/>
          <p:nvPr/>
        </p:nvSpPr>
        <p:spPr>
          <a:xfrm>
            <a:off x="218160" y="2019240"/>
            <a:ext cx="14763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ial St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Box 27"/>
          <p:cNvSpPr/>
          <p:nvPr/>
        </p:nvSpPr>
        <p:spPr>
          <a:xfrm>
            <a:off x="225000" y="4035600"/>
            <a:ext cx="2796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y Leverage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eople “go to”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$$ is the major incen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0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eople contribu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1599840" y="35049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ir passion for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$$ is NOT the major incentive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3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r TLS partnerships are essent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736560" y="1625400"/>
            <a:ext cx="8763120" cy="49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ients web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ease found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medicine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tic testing enterpri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oinformatics compan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: Clinical stud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Picture 4" descr=""/>
          <p:cNvPicPr/>
          <p:nvPr/>
        </p:nvPicPr>
        <p:blipFill>
          <a:blip r:embed="rId1"/>
          <a:stretch/>
        </p:blipFill>
        <p:spPr>
          <a:xfrm>
            <a:off x="1422360" y="1346040"/>
            <a:ext cx="7315200" cy="4927680"/>
          </a:xfrm>
          <a:prstGeom prst="rect">
            <a:avLst/>
          </a:prstGeom>
          <a:ln w="0">
            <a:noFill/>
          </a:ln>
        </p:spPr>
      </p:pic>
      <p:sp>
        <p:nvSpPr>
          <p:cNvPr id="1858" name="Text Box 5"/>
          <p:cNvSpPr/>
          <p:nvPr/>
        </p:nvSpPr>
        <p:spPr>
          <a:xfrm>
            <a:off x="1060560" y="507960"/>
            <a:ext cx="7600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lcome to our project collaborative space 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Picture 3" descr=""/>
          <p:cNvPicPr/>
          <p:nvPr/>
        </p:nvPicPr>
        <p:blipFill>
          <a:blip r:embed="rId2"/>
          <a:stretch/>
        </p:blipFill>
        <p:spPr>
          <a:xfrm>
            <a:off x="409680" y="6308640"/>
            <a:ext cx="5586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investi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resear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otech c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g pha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9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762120" y="3886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ug development industry is facing extinction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therapy is not an answ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1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sive care is the only hop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4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nnovation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buse of termi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6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vious field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pre-competitiv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haring data 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bo respon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 clinical stu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tacles to crowdsourcing and transparency in pha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subTitle"/>
          </p:nvPr>
        </p:nvSpPr>
        <p:spPr>
          <a:xfrm>
            <a:off x="1523520" y="2209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gance of expe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ear for loosing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cretive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quated computer sci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/ marketing confl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1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2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  <p:sp>
        <p:nvSpPr>
          <p:cNvPr id="1793" name="Title 3"/>
          <p:cNvSpPr/>
          <p:nvPr/>
        </p:nvSpPr>
        <p:spPr>
          <a:xfrm>
            <a:off x="438120" y="268200"/>
            <a:ext cx="91440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ndara"/>
                <a:ea typeface="Arial"/>
              </a:rPr>
              <a:t>Drug Development - 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ndara"/>
                <a:ea typeface="Arial"/>
              </a:rPr>
              <a:t>Sources of Was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  <a:ea typeface="Arial"/>
              </a:rPr>
              <a:t>partial list……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lide Number Placeholder 17"/>
          <p:cNvSpPr/>
          <p:nvPr/>
        </p:nvSpPr>
        <p:spPr>
          <a:xfrm>
            <a:off x="8985240" y="7080120"/>
            <a:ext cx="129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240C-1D55-4265-A791-EE121F9B7F2B}" type="slidenum">
              <a:rPr b="0" lang="en-US" sz="1100" spc="-1" strike="noStrike">
                <a:solidFill>
                  <a:srgbClr val="000000"/>
                </a:solidFill>
                <a:latin typeface="Candar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Box 8"/>
          <p:cNvSpPr/>
          <p:nvPr/>
        </p:nvSpPr>
        <p:spPr>
          <a:xfrm>
            <a:off x="1023480" y="3527280"/>
            <a:ext cx="22564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rma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Box 9"/>
          <p:cNvSpPr/>
          <p:nvPr/>
        </p:nvSpPr>
        <p:spPr>
          <a:xfrm>
            <a:off x="3427920" y="222264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10" descr="MedicalCenter.jpg"/>
          <p:cNvPicPr/>
          <p:nvPr/>
        </p:nvPicPr>
        <p:blipFill>
          <a:blip r:embed="rId2"/>
          <a:stretch/>
        </p:blipFill>
        <p:spPr>
          <a:xfrm>
            <a:off x="1095480" y="4398840"/>
            <a:ext cx="2222280" cy="17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8" name="TextBox 11"/>
          <p:cNvSpPr/>
          <p:nvPr/>
        </p:nvSpPr>
        <p:spPr>
          <a:xfrm>
            <a:off x="883440" y="6148440"/>
            <a:ext cx="2619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Patient Visi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pensiv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15" descr="callcenter.jpg"/>
          <p:cNvPicPr/>
          <p:nvPr/>
        </p:nvPicPr>
        <p:blipFill>
          <a:blip r:embed="rId3"/>
          <a:stretch/>
        </p:blipFill>
        <p:spPr>
          <a:xfrm>
            <a:off x="7443720" y="1787400"/>
            <a:ext cx="2346480" cy="1749600"/>
          </a:xfrm>
          <a:prstGeom prst="rect">
            <a:avLst/>
          </a:prstGeom>
          <a:ln w="0">
            <a:noFill/>
          </a:ln>
        </p:spPr>
      </p:pic>
      <p:sp>
        <p:nvSpPr>
          <p:cNvPr id="1800" name="TextBox 16"/>
          <p:cNvSpPr/>
          <p:nvPr/>
        </p:nvSpPr>
        <p:spPr>
          <a:xfrm>
            <a:off x="7290720" y="3527280"/>
            <a:ext cx="24379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-Co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Recru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1" name="Picture 15" descr="pfizer_m"/>
          <p:cNvPicPr/>
          <p:nvPr/>
        </p:nvPicPr>
        <p:blipFill>
          <a:blip r:embed="rId4"/>
          <a:stretch/>
        </p:blipFill>
        <p:spPr>
          <a:xfrm>
            <a:off x="1025640" y="1787400"/>
            <a:ext cx="2249280" cy="1757520"/>
          </a:xfrm>
          <a:prstGeom prst="rect">
            <a:avLst/>
          </a:prstGeom>
          <a:ln w="0">
            <a:noFill/>
          </a:ln>
        </p:spPr>
      </p:pic>
      <p:sp>
        <p:nvSpPr>
          <p:cNvPr id="1802" name="TextBox 8"/>
          <p:cNvSpPr/>
          <p:nvPr/>
        </p:nvSpPr>
        <p:spPr>
          <a:xfrm>
            <a:off x="4127760" y="3544920"/>
            <a:ext cx="2412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ular Approach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Picture 20" descr="corporate_1_1000"/>
          <p:cNvPicPr/>
          <p:nvPr/>
        </p:nvPicPr>
        <p:blipFill>
          <a:blip r:embed="rId5"/>
          <a:stretch/>
        </p:blipFill>
        <p:spPr>
          <a:xfrm>
            <a:off x="4044960" y="1741320"/>
            <a:ext cx="2682720" cy="1740240"/>
          </a:xfrm>
          <a:prstGeom prst="rect">
            <a:avLst/>
          </a:prstGeom>
          <a:ln w="0">
            <a:noFill/>
          </a:ln>
        </p:spPr>
      </p:pic>
      <p:sp>
        <p:nvSpPr>
          <p:cNvPr id="1804" name="TextBox 14"/>
          <p:cNvSpPr/>
          <p:nvPr/>
        </p:nvSpPr>
        <p:spPr>
          <a:xfrm>
            <a:off x="6791760" y="222264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Picture 24" descr="Example-of-Paper-CRF"/>
          <p:cNvPicPr/>
          <p:nvPr/>
        </p:nvPicPr>
        <p:blipFill>
          <a:blip r:embed="rId6"/>
          <a:stretch/>
        </p:blipFill>
        <p:spPr>
          <a:xfrm>
            <a:off x="4226040" y="4316400"/>
            <a:ext cx="2249280" cy="1832040"/>
          </a:xfrm>
          <a:prstGeom prst="rect">
            <a:avLst/>
          </a:prstGeom>
          <a:ln w="0">
            <a:noFill/>
          </a:ln>
        </p:spPr>
      </p:pic>
      <p:sp>
        <p:nvSpPr>
          <p:cNvPr id="1806" name="TextBox 11"/>
          <p:cNvSpPr/>
          <p:nvPr/>
        </p:nvSpPr>
        <p:spPr>
          <a:xfrm>
            <a:off x="4223880" y="6148440"/>
            <a:ext cx="24548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ntury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ture &amp; Analy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Box 14"/>
          <p:cNvSpPr/>
          <p:nvPr/>
        </p:nvSpPr>
        <p:spPr>
          <a:xfrm>
            <a:off x="3499200" y="499428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Picture 28" descr="121305906805tpR6"/>
          <p:cNvPicPr/>
          <p:nvPr/>
        </p:nvPicPr>
        <p:blipFill>
          <a:blip r:embed="rId7"/>
          <a:stretch/>
        </p:blipFill>
        <p:spPr>
          <a:xfrm>
            <a:off x="7291440" y="4408560"/>
            <a:ext cx="2290680" cy="229068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14"/>
          <p:cNvSpPr/>
          <p:nvPr/>
        </p:nvSpPr>
        <p:spPr>
          <a:xfrm>
            <a:off x="6677640" y="4994280"/>
            <a:ext cx="5299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Box 14"/>
          <p:cNvSpPr/>
          <p:nvPr/>
        </p:nvSpPr>
        <p:spPr>
          <a:xfrm>
            <a:off x="254520" y="4987800"/>
            <a:ext cx="499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21"/>
          <p:cNvSpPr/>
          <p:nvPr/>
        </p:nvSpPr>
        <p:spPr>
          <a:xfrm>
            <a:off x="1600200" y="304920"/>
            <a:ext cx="6934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tacking the sources of wast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model:</a:t>
            </a:r>
            <a:br>
              <a:rPr sz="4400"/>
            </a:b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latform for collecting key information, analyzing it, and building knowledge in a transparent, complete, easy to understand form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able multiple parties to move a project ahead in a virtual global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Picture 22" descr=""/>
          <p:cNvPicPr/>
          <p:nvPr/>
        </p:nvPicPr>
        <p:blipFill>
          <a:blip r:embed="rId1"/>
          <a:stretch/>
        </p:blipFill>
        <p:spPr>
          <a:xfrm>
            <a:off x="409680" y="6686640"/>
            <a:ext cx="347652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omasz Sablinski (CT)</cp:lastModifiedBy>
  <dcterms:modified xsi:type="dcterms:W3CDTF">2011-10-21T16:43:21Z</dcterms:modified>
  <cp:revision>23</cp:revision>
  <dc:subject/>
  <dc:title>PowerPoint Presentation</dc:title>
</cp:coreProperties>
</file>