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dt" idx="1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ftr" idx="1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 type="sldNum" idx="1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1B60-300B-4536-A1D6-50C2CFD76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3214-7483-4D06-974C-7E2A8AAD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66EA-F5B3-42F5-97DE-46466590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A9AD-2E4A-4C2B-A19E-5F17E865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B70-1A60-4F26-9319-C264F6820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B4EB-EDD2-4550-9A29-E0E14C19C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7198-76AE-4108-B33B-26226B98B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BC7-1EF8-4E02-80C9-B4F64FDF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478D-860C-4D92-AAFA-C9683BC4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D926-9A3A-459E-B0D4-F5A1AF6E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E006-4A17-4D83-93C1-8D674B4F7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EF2B-4F8C-4F4A-B182-4B84BA7C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AF09-E00B-44F3-93A5-0A16BEC3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B4F-E72D-43AA-BA97-73A4EFBA5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B48-2F89-49F1-8B8F-5F030DFC3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CC61-2EED-44B6-97A5-0FBCF2D81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66D-ECA7-4DB9-8BF3-923D8896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90C-CBEF-496E-B7B2-42CC7152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67F94-74B4-4755-900F-72DB50E9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28A9E-FFEA-412C-A948-CA2D8DB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A44FE-7DBF-4125-8734-50E5B6C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5316-2F23-46A5-879C-CE18AD5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D00BC-7564-4328-A3D1-A868535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ED695-1792-4A76-A2E6-76A2B16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C7B5E-CD38-4724-BC33-3E0FB52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94824-4FCC-4830-A9ED-D006999B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090BF-4851-41B5-A05A-F167BAEF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1C67F-4E44-4E0F-B0D3-B7B3367D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F17-F897-4A1E-8046-8A2CBC6A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25434-BBDF-441D-9D43-15CB7F6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DB80C-9709-44D8-A9D6-65CA697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DB615-671B-461D-9792-62370F74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D1E4-B79B-4DC0-B7A2-4696E793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F808F-6955-4E4B-A4AD-2421E42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3165B-68BD-4E2D-9830-E12C441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6FC83-5FB5-4069-981B-3A29080C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6879B-BEEF-4CA5-B6CA-39C7142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33980-74F8-4E73-B019-515D3954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87B8C-BA0A-49C0-ADC7-F9B36DF0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FFA-9D8A-4BA4-B09A-23E8B8E9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18C94-C22F-4238-90F9-71C6EB87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95E8F-6AF7-4EAC-BDDD-2C97C745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0BAC-C49E-4A6D-922A-742ADF9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CC2E4-BF81-4DE5-9766-19A6C2FD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C704D-2561-4266-9689-A426BFDF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F715E-C2AA-4470-A484-5B1670B2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8D7DA-58BF-4FBD-9ABC-AEF2A70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8451C-27D5-410B-83C1-A554073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C06D9-9D47-4FE8-B0B8-137DADC6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EDFAD-59B8-4FB8-A938-4EFCC61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F45A-AF24-4F26-9DCE-AB89BA0B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BDB9F-8AC1-468F-BF6B-618D578A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D2E6-4E2F-40C4-B0A9-7397FD60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66EE0-5A70-404E-A977-90996E75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BBFB5-E844-4A64-8A20-9923ED35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2F861-84F7-4D0B-892E-FA16DFC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2FF8B-28C1-4CEA-8419-F01EFF5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991CD-6AC4-4C18-91B8-B448848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B346B-6FFE-4CB2-944F-85B4C8AC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C5E53-4E62-4876-A1AA-4B8159D3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76437-63E2-42B4-A6F9-17B5A9F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8101-66B4-4943-BA8F-98CC7CE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61B8-5B9A-4416-8D42-1230D12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70F0-3A24-4F5D-8E2F-F36FBD0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7C139-7B38-4719-BEA1-E41E53AB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E0021-1C74-4484-9417-FA4D0E4C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DD479-FC88-4880-93AF-CD853063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12CAC-B654-413C-B5FB-EDDDDC8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AD49F-0BF3-4F95-A69E-2ECA5679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351DE-9390-491B-B230-88A26FE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53550-FC98-40F4-A94E-88A4CEF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D2AB2-E907-4FC3-80FC-9B7A74F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27CD-A4D7-43A3-AB2F-FAD0C4E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EA46D-8716-47DC-B9DC-28E241A2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C4E9F-BED5-4391-9791-54D99A8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F292B-6255-43C6-8754-3E3E3ED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F0F29-93E8-4D6D-B41A-C3A64FE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50952-2CEA-46D9-9419-8ADC2BB4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DD47C-4F88-4A09-ACFB-AABBD48D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2D3F7-6F21-4021-BC1D-3A9DAEFE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67BF0-F26A-45B7-9A2D-0562DFF8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784E9-DDD3-42BE-8C90-B3088EF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974DC-1019-401D-8F31-CB5C7E6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0F9A-D975-4D29-A670-F0B458C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E887D-8F04-4B5D-BEF9-87FA261C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54A9F-F3DD-4429-BC4C-8A7EA45B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8E968-A39E-4DDB-9037-23B25798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17657-85FE-49D9-9C28-7BC55DC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CC29A-AB60-4107-BC2E-81504FCB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2840E-1A77-4043-B42E-77FF0E13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8D85A-40BA-44F1-82E3-7F23C77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4271A-C8DA-44C8-9BFB-46C0E4B2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08F0F-4D92-4E06-ADFB-6D9B11CD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025D4-2C3C-451A-8C62-E407B448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06C-68DD-4FD0-ACDE-D024A91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97717-0CEE-492E-8172-502B8A9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1649F-B9E4-469A-BAF9-1F45530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009E6-5C3E-493C-BC4D-48DAA697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835F5-2B79-4E8F-B6E7-C8B5B22C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CA802-835A-4F66-99A8-7EF2B46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E57BC-5F67-4C75-B764-EDC17C2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7ED7A-C55E-4E96-9C9A-904F4032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8858D-FE5F-40D3-82D8-5A6A888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BD692-2D2B-4155-9A9C-AFA05C4F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E2124-E504-41A7-A90C-30002C5F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2E06-F855-4F68-9D32-F2F55E42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B391E-B140-41C8-981C-62BB3E37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306E8-1170-43D9-9F70-36A89A78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6DEFE-FFA3-4D11-A1FD-431AFD37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B1D2C-5093-448A-8454-B7F2343B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02B21-17FA-4942-BC58-FD834D84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2BC9C-AB55-470B-91AE-597C9C69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85A65-DCA8-41E2-BF2F-F5A74918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33B30-AA0C-42E6-99C2-DCA7ED6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572D6-2AC5-49E0-B51C-B6F3C7A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F53C4-104A-49DA-9F75-AB3475E1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3EBE-EBFA-4349-AC92-997EB34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7AF4E-0C29-4CC5-BF31-734DDD55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9C7A5-A167-4209-8EFD-F3F66B3A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A068F-2DE3-4F57-B111-0F8E689F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809F5-C900-4D79-9384-52DE0BB4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A66C6-2DEB-4D46-9631-97F6D1AF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F525E-8800-420D-8782-4D2B79D8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CB133-F8F9-451F-BFB6-64F57DC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C64A1-CF2B-40D5-B309-C4B31F6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2355C-8AE5-4ED4-B6FB-0AD3D06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FD779-4F6C-4FB3-8DAF-B3F0D9A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F36-44E9-4256-B743-15882E8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8D1-4C93-47B5-9315-F066234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2AF0A-E57C-43B4-A344-D1259CF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E6CAA-2A4C-45E5-A552-CD7A650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6E8CA-4C9D-4671-88A2-158231B3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F3CE6-0CD0-4D23-A3DE-73BFFA96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9C604-24E2-40F9-910C-098A8670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1D1DA-6ACC-49BB-AFD0-AEC155FD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A0448-F2D9-4EF2-9AC7-7C1896A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72AC9-7BB5-4331-9AC6-5229ABC6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9D716-05B9-4038-A935-A04E6D1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A959A-D596-4316-AE56-1729524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B59-ACBB-4EF5-84E6-0C3B48A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0363B-2303-40CE-A156-42BFE435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0B535-490C-41A9-9951-AA51FEF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87A9F-DA45-40A1-9028-C2C8DD3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BB11C-063E-4BC1-8FCB-734D272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733EB-AA0A-44EE-B454-F9A3C8A3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0DF21-2F5D-4773-B463-250F6736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27984-E602-4407-ACA1-DD4039AF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47C0C-C2C2-4104-A0B9-621BA816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E9A12-0CAC-424A-849C-534E4E5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542C7-7113-4BD4-AFCB-C13F8A02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507-3AFA-47F8-A4EE-74BA030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03AFF-EFF5-4391-AA7B-761FE6D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0F025-6573-425F-BB4E-2814B54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ED1DEF-F19E-4F6D-AAD1-3072D29F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019EC-2630-4307-B08B-E3C516B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8E3AD-5396-45C0-B1FA-7D9E2D5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42110-7A61-4FBB-A894-89FDC23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1EFE46-9EB9-4A91-B374-A16D994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51B23-966C-40A4-8DED-EE501F37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6C627-4D2F-40D2-AFED-EA0B1FB2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F38D8-96A3-4951-B97A-71FE401C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00A-1EC6-44A6-8694-AEC886B0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36044-34C6-4047-8AEA-67EA1ECB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2634A-BCA2-4B7A-8093-C963A287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62A90-DF6C-408F-944D-18AA1AE5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A4E4E-F8DD-4733-8658-233FBFD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CDC95-2A77-40C2-858D-C458F72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9DCAB-A5D5-48A5-B7D9-B442C19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6026C-9547-43AC-8C22-43B469E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36F70-CD7D-493A-A214-B79A9C8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3F45E-FCC8-4A50-9265-358D0A43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D7CF1-DA14-400B-B9C7-136AC526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59B-D2E3-4B1D-A454-1965B56C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B42F9-57F0-4FA2-9F51-2DD2E46F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7A0D4-8D74-4B41-8A2B-3129B079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C7B06-48D5-4399-9AE9-2F32BFB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07D55A-9426-4875-95CD-C7B4A73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2827E-085F-4D70-B7A2-F3988318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BF538-4716-4A07-9587-6AF7C38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E8C4D8-3EBC-4BA9-AB60-7A73485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E7E1C-30A9-4FA7-9595-E6F4BFD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53814-CBDF-4000-914D-DA9C713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0B969-03C3-4F9E-AE33-7E8F6EE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81E4-BD92-4B70-B051-F4C96981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23FE2-7A55-4ACE-8D46-BDBD074F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53F50-425A-4C0A-8353-3E39F5E2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9D244-F358-4BDC-80FF-6A1F36A3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6B2A0-D24C-40DE-B20F-EDC497C6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CCBD7-25E4-41ED-9A15-6C0BF84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B75EA-5600-4C22-8428-B5A3999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4F47C-F07F-4778-9A82-FEF9D9B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9DB47-DAFF-4EB2-BADF-B18801B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29101-DE4E-4450-8FB6-C6F7E34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191D50-71E9-43C6-8F25-A45C035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8E39-68A8-4C4B-92AB-F875898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6341F3-8CEC-4D02-B773-847151D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66FD8-D3FE-429B-A788-08A799E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8F810-4B8A-4011-8699-A790E50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7472A1-071C-406B-A4F1-A4BCEE3B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F153D8-ACA3-4D25-9DBE-AC93C999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FC964-F1E9-4936-962A-67F441CB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A40AF6-1BD0-4CF2-9B30-C0271853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654177-4678-441D-90C6-F60E780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5A55F7-BB0B-4198-AA37-3B0E39E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68D970-0D78-4B56-9DC7-49C04F97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3C5A-E7DD-4F7B-B1A3-8CD237B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178F4-35BB-4463-8DA4-8A71643F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018A4-7B21-48AF-8FDB-AD0870A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574344-1429-4DD4-B95D-61B9995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016550-3D12-4EE4-963B-BA63278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22479C-0014-4820-9B3C-C641FEA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95AA0C-88F8-4A8E-89F7-0DAC6C0B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88EF75-62F7-497E-AE4B-FCD21B64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17F89-8723-4BA3-92EF-D0EAC699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690EDB-1446-4C0A-AFE7-C1EB287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7CE107-1DBA-446C-AE45-CF24328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3E17-4B64-4067-81ED-F12C7760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5680B-8D51-4C55-BD95-B5929FBF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80386D-049E-49C4-965C-5B66259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D95F2-8DA4-4184-9452-F3048FB9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31A7A-7D37-4542-8E07-9568A383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025C62-3682-4A80-A6F9-62F551B2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5FB5BD-587F-468F-BDF7-3692818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407DC5-CC73-425F-B8EA-373D0E4D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F7DD2-DC88-441F-810F-4DAE5D58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860189-303A-49C9-8BD6-A918ECA6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0B55D-4C46-463B-B5EF-A92D26E8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21B0-4FF6-4BE2-9FDA-B0B39B48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4CEE4C-14F9-4752-8D2D-213E613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DB9DF3-9FD8-4E9B-B4B4-0BEC4425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B09A08-D545-454D-9628-CA74E8B9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F3A90C-AB93-464A-AC5B-2B0881C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DBD044-C334-47D7-92A6-B54881DD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22D986-A6C9-42F8-BC3A-13DEA95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DEC091-F284-40BB-951C-20A5199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CB5387-F2C0-4FF6-8137-D8995AF3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0AA2DC-E29B-4A1F-B78B-C65F9ED3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26E244-63F9-4169-96BF-53F40E46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E55-02D2-4782-996A-41C90AA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76CB-E11A-4848-B223-FE576A43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E78E60-8863-4EA4-9E40-D296E1D6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A41E46-7C4E-48C8-9003-FA171917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4A272F-8640-4DE8-8284-D1064C8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0E3EAA-0C02-4BC8-9243-F8D2EFB5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0971B7-D6B0-447D-BA67-4AD7C4B9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3BE264-0C20-42E8-A8BD-3DF50227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7DE88C-E152-4A1B-9CED-7E000F4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94873B-0217-4607-B23D-64BD26F1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AB5A6D-806C-4F93-880E-AA291FB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F83EA4-940E-44C6-8B5A-2408470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CF09-5A36-49C6-8D4B-6B9F329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0C5351-A977-40A4-924D-8879B7D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20576E-A7E0-4754-89E4-4B3FBADE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584BB2-9EF8-4E9A-A724-15F75BA3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200373-3A8C-4B2D-A648-A24E6058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1CADC2-3488-4634-9091-24659220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B3E71A-F102-4598-B2CF-A706C42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7EAD2A-F20B-4606-883E-7FE5729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4812FD-0EA5-47B4-8DD8-3AEBC9DC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A30C7A-E91B-40C4-B896-C7F4D5E3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405944-7FA1-490B-8785-30E1AF2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0580-FCBD-4225-BB59-55DD2E2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22FD37-79D3-41EE-9DED-4AE5620E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3AAAB7-CB31-4277-B573-513CA9DA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10A57E-4DD4-43F3-BE67-85C8E64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955F8E-98CF-4364-A71A-BAE713CF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6A71FB-B031-4F02-83DB-AE6CEEC2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529808-62EF-4B84-B157-454A6950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68285A-89A8-4AE3-8483-BD8D50DE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64DE89-176F-4098-B1AA-64A96169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320EDC-19D5-4B4B-85C0-36B20E7D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A968BB-E69C-4147-95C3-D6F916E4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384B-FB8B-4D98-BA54-8B9D26B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81F382-A360-41F9-9800-213FD62F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CC35D6-A67B-4244-B4BE-06F88BD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7F2CB5-D900-4D82-884B-85D4137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2BE5A4-A8AB-4063-B0A9-2FD2DC7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18096D-DC44-4589-B9D9-537C7B9C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91D1F7-BD63-4B2B-A8EB-EF7B7E46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52D2C1-91B1-4CF6-A18A-2239ECB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9DD03E-3846-486D-8F66-3B0B3B51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8504C5-9492-43DA-AC29-4743D93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DE82B0-EED8-4F58-AC74-B4780BA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8EB8-F6ED-4607-B493-0DA069C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AF60E7-9ABA-4196-9659-1EC5256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A1BF4A-E730-4B73-BF9D-4BEF668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FAC2CA-F6B9-4F70-992F-EF18778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322983-9EF5-47D8-A968-D821695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C3BBB4-C3EE-4CB8-9094-8A195FB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DCF8FD-2842-46C7-8929-FBDB14C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B9F712-B7A9-4564-975A-7F512AF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0ACBA2-0E5F-479F-9A17-AF020DD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785999-3DEC-47EB-9FE4-C04BDEA6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D1512D-20A1-4FB3-B722-E501BABB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FC0E-5C15-4A3D-BB34-77BE880F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A93234-C43C-4A90-8D4F-A968150A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9F21B6-95AD-43C9-A42C-84F7458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74CC5-33D6-4E41-8037-E2BF4828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5411D5-5733-4F1D-8B3C-EACCF522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6ADBD0-C580-410A-A477-95BC6290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A0726A-16AB-43A9-8D54-5BEFD14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0B2712-B93E-4A35-AD0A-B5541DF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039A9C-1755-4C31-A369-7847000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7E27EE-2BBD-4EC0-8FFD-A063AB77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0D69F3-97DE-4B44-AF34-CAED1B52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9AE9-C367-46D1-BFC3-22A445BC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17AA53-858D-49E1-999A-EEC89E92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F5578E-FB29-4D39-836D-AF2985CF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FD4C54-2866-4B46-8107-AAD8D46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E6F99F-9460-4BEC-BD69-0171C15B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43D5DA-04A1-4C76-B31B-32BF9049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581382-0041-4249-BAA6-6BB4109A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E191C3-0FEF-40AF-B3F0-4E6B0EFA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515187-1A34-41B3-B6B6-65180A1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D0DE92-3EFD-43CB-82B3-A134D11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8A310B-CFC0-4E7B-BEA2-C156E6E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14A6-85FA-4B43-BCC6-EDB59D80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2E5887-D0F9-455B-B340-B48887A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879661-1C2F-497A-AD67-7C9EF391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63DF7D-4B81-46FA-90CE-E3F89114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FAB53D-ADD6-4FF1-A3DD-47BD0E56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7EDC61-851F-4C26-B820-59F898D6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1031B4-1EB1-4C98-9726-D2A6230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0D648B-2DDF-4B4B-B85C-5AD8799F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7084EA-F455-497E-8034-DF397629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5F0ACF-C948-4AB8-A4A4-61A6744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E73326-44B1-41AE-9A63-90927FE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EFF7-9E58-4BA6-8ABD-F787631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4F67C4-5414-4D48-94A1-C6357E9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0893BB-6A93-41D4-A59A-0362D25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97B5F1-5901-4E88-A6DF-5A0A36E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079FFA-A58F-4F8C-81A6-558184E7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CC42E2-666B-4908-8563-0D7D7807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D72CA4-D6F5-4A5A-BDE1-3B5713EF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AE9C21-A372-4EB7-913A-7345CE53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E89148-034D-43C4-AF4B-09B7068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DA49F5-151D-47D8-961C-F03444F0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C89774-D84E-437E-B337-72325BA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40C3-158E-42A5-BA81-D023B53E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E50EA8-172E-44FF-9F8E-BBA1BC3A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779C7A-B196-45A5-A504-6F74365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E4894B-9F91-43CE-A8E8-DCE046CC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50A66B-06CA-4119-B7BB-FD9A492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1DE28A-7CC6-4B39-832F-D45DD63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396EC0-775A-4743-ACF7-FC21D5E7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023B12-271C-4E41-A18D-50A81FEC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299E1C-2967-42AD-934B-6F2D1F87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841060-FD64-4056-A914-FD59AD60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564801-D0F5-4FF4-8CCA-161D1B7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991-C008-4DD9-9650-8177256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3E8B-27FB-4F95-87B0-601E3D2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A88EBA-CF1C-4D8E-83AB-6673AEA7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76B424-A585-494D-B4B7-7BBBBB05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3001F1-95AD-42EA-BC61-AFA07FB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C24777-E012-4145-8516-E99BA1A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CFF980-DBD7-4A37-A703-BBE592A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BA385B-9FE3-4B2C-BE41-2C04F74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AF5ECC-CE4C-4727-B33A-CEBD71AD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825EE0-D1E5-43CD-94D5-C248634C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A7251A-D198-4949-A4CC-CB70E85B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CF84FA-8B2D-4221-B3A0-14AF68F9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1871-2CEE-456C-8A5C-EE742EB8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A7BBD8-6E26-4470-B643-F80A7D1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962634-9716-4750-9460-67A242EE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2895BB-467B-47B8-BA37-4984364A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2B6595-2BFB-4C9B-9659-D38922E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27BD82-02D6-46AF-B69D-604B0584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EF6AC3-A177-4190-A1E9-427823D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9F0F50-A41A-4754-9748-5108451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1BCE1F-D26C-49C0-8A0F-F943D52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1F9C61-9200-4400-83B5-DC289E54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97C033-0A55-43A2-B46A-BDD5E31E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5EA4-92C3-47E7-8002-1C283B28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E87C7C-8F66-4BE3-B0BF-234F26EE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49DC30-9126-49DC-AD79-6C1C854A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994B4F-5ED1-4B63-B239-06927842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F4D336-A18B-44C5-8512-4FC076C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EFA7F4-9576-4537-B15E-77DFC73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EA922B-8DFD-46DB-A54D-C219B1A3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4D0A6B-457B-4CC4-BCFB-DD8C602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3FB970-23BE-4C50-AEF8-1B7280AF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EB6D89-509F-44C2-B13F-133EFE2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28AE6A-7E4B-4017-8B54-C08506D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F240-1596-40B8-A6B4-A8BD6CF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A6FD56-4ED4-4F17-BDA8-60AB530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989713-F3CE-4ED1-B1DA-BD587F33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C9DA8C-7AD3-467E-BB72-88F95AFE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761330-C23A-40D9-BB96-A8D64D8C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C22CD8-7D2B-4EBB-9EA6-FE483C7F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058794-BE09-42AA-90CA-BAFCD3A8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F7E13F-819D-490F-8D5E-B989926C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C30F00-F54C-4C6A-958E-9D5E7973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95781D-0316-4320-90C5-8D6E664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9DADB1-8156-4930-874D-62B1B1F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435D-DF10-4D47-8B62-5E4AD67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1321D0-4108-4ABA-882F-0C1724B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BB75FA-E515-4BE0-AC26-002E3B7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B6859E-CA6E-40FF-9399-547E8225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56963E-0E66-4C19-82B4-5D3D1557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370B82-3433-4E8C-9B68-5BD0831C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4BD8-7F9B-40FD-BFA3-84157E3E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48B0-A3C0-4EE3-BCC9-81A3E63F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05D6B-B709-4150-95F6-4D9C2922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9826-4BEF-4971-81D5-F11452EB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3C6D-883F-4E5A-BC88-FDC48A1B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0A5-0C4E-4DF4-AE40-5643581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E7C3-1034-49E5-BD26-FC9630D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68A6-C709-4A32-B4BB-6ED88246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FA6E-0A19-49FE-A449-C161C6E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2244-F7DB-4FBC-8C34-E2E9C229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08BB-4392-4753-927D-60DE99E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2594-DAD9-45CE-94A4-9A0B1C0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1812-F6A2-4A0C-98F4-E19CD4C3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BB18-F4A9-4FA5-9B05-107AE93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E3C7-9FA1-44FF-91EE-C0F1E157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F624-6A19-4F19-B830-C6FFAE8A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549-AF72-4DCF-AFE1-1E3472D0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7B69-FD08-490B-AB0F-8A38FF83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046F-7FF3-4F0F-B41D-38C595CE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B55F7-33FD-4037-B150-34BB8BE2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45FF-177E-4B93-AEF0-12BFC8D6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5B971-53E0-40E4-8C8C-833C9B9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8872-58AD-4B2B-A3D8-A857F94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47B2-8BB6-4DB9-A4F7-BD7D6206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F07F-E6B1-4800-97FB-D343AF7F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7375-C396-48A2-8AC0-AF4322C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FE86-CF15-4479-A0FA-79B1F859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A03-0256-47E6-BE27-2647EAB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CF74-FEE1-461D-8B00-4FB9FFFD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DCB9-FD09-4AAB-825F-8B9ACCE8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3CEC-A2F9-4310-9722-FE393C53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03FD-38C2-4900-AE23-3176E5A3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6032-8538-462B-9C73-11017C15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F92C5-9F85-4F7D-9854-89709E24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65958-3291-4D16-904B-C6787DB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8A761-6F14-495B-B512-7B1120C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E2DB-CCBF-4AAA-BB2A-056D325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26E0-298B-4409-945A-5F626EB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052-188C-4F1C-B730-C88E559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0F662-A129-41F4-B887-19A759A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C108-36B1-47FC-A63C-5F7F896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62576-BCF9-4EAF-85F0-31BA7617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05DB-9719-4FE7-A0B5-C6AA3BF0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03388-F0F7-483E-88A3-1A90C672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DE3DE-1CEB-489F-9474-A0DE931A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3D635-4D57-4A40-A32A-1383E66A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1DF6-70A0-4A74-8FFA-0FA3794B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7EF6-3751-4A2E-A677-67EBDD5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94034-71B7-4A0F-9368-CEDB638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BF9-DFDF-4C97-94E1-555DCBD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AAFE9-6DE0-4ECC-981A-7D4314F2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57BFA-E15C-4B99-A461-FA8346D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7539-186C-4088-9E09-FE952A3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E375-FEE3-48AA-AAAA-AE7D434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49AC3-2C1F-4418-B7EA-59527DF1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24708-2BDD-4FDD-9320-7C9DAFF0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7930-EF0F-4E1F-9537-8B7C2036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537D-C212-47AD-B65E-855114CE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F2794-14EF-4579-A8D2-8CA95D2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02CCD-2CFE-4F21-820F-EA2DB7F6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4A5-3524-4CCE-A014-50F7C47A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426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584-FE85-4ED5-B69F-8A44E3FB1677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62A-7A93-4728-AB4E-CDDBF98E35F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5"/>
          <p:cNvGrpSpPr/>
          <p:nvPr/>
        </p:nvGrpSpPr>
        <p:grpSpPr>
          <a:xfrm>
            <a:off x="235080" y="793800"/>
            <a:ext cx="9691560" cy="1477800"/>
            <a:chOff x="235080" y="793800"/>
            <a:chExt cx="9691560" cy="1477800"/>
          </a:xfrm>
        </p:grpSpPr>
        <p:sp>
          <p:nvSpPr>
            <p:cNvPr id="474" name="Freeform 14"/>
            <p:cNvSpPr/>
            <p:nvPr/>
          </p:nvSpPr>
          <p:spPr>
            <a:xfrm>
              <a:off x="6718680" y="954000"/>
              <a:ext cx="3195720" cy="793440"/>
            </a:xfrm>
            <a:custGeom>
              <a:avLst/>
              <a:gdLst>
                <a:gd name="textAreaLeft" fmla="*/ 0 w 3195720"/>
                <a:gd name="textAreaRight" fmla="*/ 3196080 w 31957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2910600" y="812880"/>
              <a:ext cx="6158880" cy="943560"/>
            </a:xfrm>
            <a:custGeom>
              <a:avLst/>
              <a:gdLst>
                <a:gd name="textAreaLeft" fmla="*/ 0 w 6158880"/>
                <a:gd name="textAreaRight" fmla="*/ 6159240 w 6158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3143520" y="825480"/>
              <a:ext cx="6074280" cy="860760"/>
            </a:xfrm>
            <a:custGeom>
              <a:avLst/>
              <a:gdLst>
                <a:gd name="textAreaLeft" fmla="*/ 0 w 6074280"/>
                <a:gd name="textAreaRight" fmla="*/ 6074640 w 60742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6231600" y="811080"/>
              <a:ext cx="3675600" cy="722880"/>
            </a:xfrm>
            <a:custGeom>
              <a:avLst/>
              <a:gdLst>
                <a:gd name="textAreaLeft" fmla="*/ 0 w 3675600"/>
                <a:gd name="textAreaRight" fmla="*/ 3675960 w 36756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5"/>
            <p:cNvSpPr/>
            <p:nvPr/>
          </p:nvSpPr>
          <p:spPr>
            <a:xfrm>
              <a:off x="235080" y="79380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423-621D-48D4-8F5A-07876CF2E046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AFB-C3F5-4279-82D6-D10CA13766AF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23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522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695B-F9F4-45F0-9936-12BFF7BC4B3B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081-F36D-432E-96B5-CA1EFE7E1934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570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5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1570-C751-4C39-BE30-549AF05BF5C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B50-6BE9-4433-84B2-9A64AD7DEA34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618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F08-E1F7-4DA7-91D5-18CF6D749784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3B05-6D21-4A3C-B263-1EDA89387FF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4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666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4BC-F23E-4436-B717-A74394FD16B1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1C22-81AE-4F9E-9A61-B05ABF1793BA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9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714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322-10A9-4FF4-8F47-37715556BF94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4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4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60B-8BFC-4325-BE29-AA7C7EFE1007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762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1139-75D8-4AF1-9194-EAA88FFE85F8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9B3-3F74-4AE2-90A4-EEB70E66A28F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ounded Rectangle 14"/>
          <p:cNvSpPr/>
          <p:nvPr/>
        </p:nvSpPr>
        <p:spPr>
          <a:xfrm>
            <a:off x="254160" y="254160"/>
            <a:ext cx="9663120" cy="5263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reeform 14"/>
          <p:cNvSpPr/>
          <p:nvPr/>
        </p:nvSpPr>
        <p:spPr>
          <a:xfrm>
            <a:off x="6718320" y="4670280"/>
            <a:ext cx="3197160" cy="79380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Freeform 18"/>
          <p:cNvSpPr/>
          <p:nvPr/>
        </p:nvSpPr>
        <p:spPr>
          <a:xfrm>
            <a:off x="2909880" y="4527720"/>
            <a:ext cx="6161040" cy="946080"/>
          </a:xfrm>
          <a:custGeom>
            <a:avLst/>
            <a:gdLst>
              <a:gd name="textAreaLeft" fmla="*/ 0 w 6161040"/>
              <a:gd name="textAreaRight" fmla="*/ 6161400 w 61610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>
              <a:gd name="textAreaLeft" fmla="*/ 0 w 6075360"/>
              <a:gd name="textAreaRight" fmla="*/ 6075720 w 60753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reeform 26"/>
          <p:cNvSpPr/>
          <p:nvPr/>
        </p:nvSpPr>
        <p:spPr>
          <a:xfrm>
            <a:off x="6234120" y="4525920"/>
            <a:ext cx="3673440" cy="7254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10"/>
          <p:cNvSpPr/>
          <p:nvPr/>
        </p:nvSpPr>
        <p:spPr>
          <a:xfrm>
            <a:off x="235080" y="4510080"/>
            <a:ext cx="9691560" cy="1476360"/>
          </a:xfrm>
          <a:custGeom>
            <a:avLst/>
            <a:gdLst>
              <a:gd name="textAreaLeft" fmla="*/ 0 w 9691560"/>
              <a:gd name="textAreaRight" fmla="*/ 9691920 w 969156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2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E46-F1D1-4824-B11E-61E3250F91C2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3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4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7E8-7035-465C-ACC0-CC47699A18BE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857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715F-B110-443E-B289-5D9657BE93A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A1A-96B3-43E7-9F6B-B987F0F4F10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43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C68-48F0-4A13-873F-5BEA12E7B1E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July 15, 2011, Page </a:t>
            </a:r>
            <a:fld id="{D3F3854B-E3FD-4EF3-8B79-36915605DC4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905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8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93C3-130F-43C3-8120-CCE6AC01CB11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9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0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348-1105-43D0-A231-35450F10DF5C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953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A63-2596-4ED6-82E8-F59F5B99989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DCC8-6344-48FD-BA6A-1D1DF152026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Group 5"/>
          <p:cNvGrpSpPr/>
          <p:nvPr/>
        </p:nvGrpSpPr>
        <p:grpSpPr>
          <a:xfrm>
            <a:off x="235080" y="793800"/>
            <a:ext cx="9691560" cy="1477800"/>
            <a:chOff x="235080" y="793800"/>
            <a:chExt cx="9691560" cy="1477800"/>
          </a:xfrm>
        </p:grpSpPr>
        <p:sp>
          <p:nvSpPr>
            <p:cNvPr id="1001" name="Freeform 14"/>
            <p:cNvSpPr/>
            <p:nvPr/>
          </p:nvSpPr>
          <p:spPr>
            <a:xfrm>
              <a:off x="6718680" y="954000"/>
              <a:ext cx="3195720" cy="793440"/>
            </a:xfrm>
            <a:custGeom>
              <a:avLst/>
              <a:gdLst>
                <a:gd name="textAreaLeft" fmla="*/ 0 w 3195720"/>
                <a:gd name="textAreaRight" fmla="*/ 3196080 w 31957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18"/>
            <p:cNvSpPr/>
            <p:nvPr/>
          </p:nvSpPr>
          <p:spPr>
            <a:xfrm>
              <a:off x="2910600" y="812880"/>
              <a:ext cx="6158880" cy="943560"/>
            </a:xfrm>
            <a:custGeom>
              <a:avLst/>
              <a:gdLst>
                <a:gd name="textAreaLeft" fmla="*/ 0 w 6158880"/>
                <a:gd name="textAreaRight" fmla="*/ 6159240 w 6158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22"/>
            <p:cNvSpPr/>
            <p:nvPr/>
          </p:nvSpPr>
          <p:spPr>
            <a:xfrm>
              <a:off x="3143520" y="825480"/>
              <a:ext cx="6074280" cy="860760"/>
            </a:xfrm>
            <a:custGeom>
              <a:avLst/>
              <a:gdLst>
                <a:gd name="textAreaLeft" fmla="*/ 0 w 6074280"/>
                <a:gd name="textAreaRight" fmla="*/ 6074640 w 60742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26"/>
            <p:cNvSpPr/>
            <p:nvPr/>
          </p:nvSpPr>
          <p:spPr>
            <a:xfrm>
              <a:off x="6231600" y="811080"/>
              <a:ext cx="3675600" cy="722880"/>
            </a:xfrm>
            <a:custGeom>
              <a:avLst/>
              <a:gdLst>
                <a:gd name="textAreaLeft" fmla="*/ 0 w 3675600"/>
                <a:gd name="textAreaRight" fmla="*/ 3675960 w 36756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25"/>
            <p:cNvSpPr/>
            <p:nvPr/>
          </p:nvSpPr>
          <p:spPr>
            <a:xfrm>
              <a:off x="235080" y="79380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6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488A-D475-456D-9011-C13DEC8FFAEA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6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6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1AD1-4BD4-44DD-AEBB-B0D856505FD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23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049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6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E3CA-2D31-421C-B90C-78D83EFD1B2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6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5C4C-B759-4731-ADFA-74DD50837256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Group 8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097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CDC-E9B7-4EEE-BC1E-DF1639DF87CB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33F2-572F-48CF-BE4A-AEEB6F37AD0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145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9C2-351A-4249-83AD-0A18CE02B36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7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7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B1DE-B9FA-4DE7-AD07-FFA475281A4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Group 14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193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2021-FF35-4235-97ED-81EC33318351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7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818-F552-4F9A-9012-435D74D548B9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Group 9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241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Freeform 10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7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1E0-3297-4920-BDA0-59287A64AD2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8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8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2AB-FE16-4E41-8569-40C0B42FBE9A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289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82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6411-1E05-46B0-8A60-36A0A6960894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83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84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C65-CA10-477D-B7A3-1C822A6D749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ounded Rectangle 14"/>
          <p:cNvSpPr/>
          <p:nvPr/>
        </p:nvSpPr>
        <p:spPr>
          <a:xfrm>
            <a:off x="254160" y="254160"/>
            <a:ext cx="9663120" cy="5263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Freeform 14"/>
          <p:cNvSpPr/>
          <p:nvPr/>
        </p:nvSpPr>
        <p:spPr>
          <a:xfrm>
            <a:off x="6718320" y="4670280"/>
            <a:ext cx="3197160" cy="79380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Freeform 18"/>
          <p:cNvSpPr/>
          <p:nvPr/>
        </p:nvSpPr>
        <p:spPr>
          <a:xfrm>
            <a:off x="2909880" y="4527720"/>
            <a:ext cx="6161040" cy="946080"/>
          </a:xfrm>
          <a:custGeom>
            <a:avLst/>
            <a:gdLst>
              <a:gd name="textAreaLeft" fmla="*/ 0 w 6161040"/>
              <a:gd name="textAreaRight" fmla="*/ 6161400 w 61610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>
              <a:gd name="textAreaLeft" fmla="*/ 0 w 6075360"/>
              <a:gd name="textAreaRight" fmla="*/ 6075720 w 60753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Freeform 26"/>
          <p:cNvSpPr/>
          <p:nvPr/>
        </p:nvSpPr>
        <p:spPr>
          <a:xfrm>
            <a:off x="6234120" y="4525920"/>
            <a:ext cx="3673440" cy="7254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Freeform 10"/>
          <p:cNvSpPr/>
          <p:nvPr/>
        </p:nvSpPr>
        <p:spPr>
          <a:xfrm>
            <a:off x="235080" y="4510080"/>
            <a:ext cx="9691560" cy="1476360"/>
          </a:xfrm>
          <a:custGeom>
            <a:avLst/>
            <a:gdLst>
              <a:gd name="textAreaLeft" fmla="*/ 0 w 9691560"/>
              <a:gd name="textAreaRight" fmla="*/ 9691920 w 969156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85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BDB-67A9-4AC4-9EBD-3F34092B49CC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86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87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378-CCDA-43B5-B1CA-1F9A439CABB4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91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07F1-F5DE-43F5-9D59-A45B1636B9EA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July 15, 2011, Page </a:t>
            </a:r>
            <a:fld id="{9DB1D86A-6DEF-4DAC-AF4F-37CB64AA4B07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384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88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2054-9190-4051-AED3-D6BD0639860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89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90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A1A-49E5-4E39-BD2E-2A96B9DC40C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432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1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1BC-0477-45B7-A20E-21BF1FAD830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2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3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3A1-3F3A-4768-8627-7FB89C9408CE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480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9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110-A9CE-488F-890B-7C8BD33ED9F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9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9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0573-4041-4DDA-BE02-A719AE28350C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Group 5"/>
          <p:cNvGrpSpPr/>
          <p:nvPr/>
        </p:nvGrpSpPr>
        <p:grpSpPr>
          <a:xfrm>
            <a:off x="235080" y="793800"/>
            <a:ext cx="9691560" cy="1477800"/>
            <a:chOff x="235080" y="793800"/>
            <a:chExt cx="9691560" cy="1477800"/>
          </a:xfrm>
        </p:grpSpPr>
        <p:sp>
          <p:nvSpPr>
            <p:cNvPr id="1528" name="Freeform 14"/>
            <p:cNvSpPr/>
            <p:nvPr/>
          </p:nvSpPr>
          <p:spPr>
            <a:xfrm>
              <a:off x="6718680" y="954000"/>
              <a:ext cx="3195720" cy="793440"/>
            </a:xfrm>
            <a:custGeom>
              <a:avLst/>
              <a:gdLst>
                <a:gd name="textAreaLeft" fmla="*/ 0 w 3195720"/>
                <a:gd name="textAreaRight" fmla="*/ 3196080 w 31957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18"/>
            <p:cNvSpPr/>
            <p:nvPr/>
          </p:nvSpPr>
          <p:spPr>
            <a:xfrm>
              <a:off x="2910600" y="812880"/>
              <a:ext cx="6158880" cy="943560"/>
            </a:xfrm>
            <a:custGeom>
              <a:avLst/>
              <a:gdLst>
                <a:gd name="textAreaLeft" fmla="*/ 0 w 6158880"/>
                <a:gd name="textAreaRight" fmla="*/ 6159240 w 6158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Freeform 22"/>
            <p:cNvSpPr/>
            <p:nvPr/>
          </p:nvSpPr>
          <p:spPr>
            <a:xfrm>
              <a:off x="3143520" y="825480"/>
              <a:ext cx="6074280" cy="860760"/>
            </a:xfrm>
            <a:custGeom>
              <a:avLst/>
              <a:gdLst>
                <a:gd name="textAreaLeft" fmla="*/ 0 w 6074280"/>
                <a:gd name="textAreaRight" fmla="*/ 6074640 w 60742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Freeform 26"/>
            <p:cNvSpPr/>
            <p:nvPr/>
          </p:nvSpPr>
          <p:spPr>
            <a:xfrm>
              <a:off x="6231600" y="811080"/>
              <a:ext cx="3675600" cy="722880"/>
            </a:xfrm>
            <a:custGeom>
              <a:avLst/>
              <a:gdLst>
                <a:gd name="textAreaLeft" fmla="*/ 0 w 3675600"/>
                <a:gd name="textAreaRight" fmla="*/ 3675960 w 36756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25"/>
            <p:cNvSpPr/>
            <p:nvPr/>
          </p:nvSpPr>
          <p:spPr>
            <a:xfrm>
              <a:off x="235080" y="79380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9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240-476F-48E7-94FE-A8F76784642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9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9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6648-50EE-4D1E-AD57-1CAC9E27DCBA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Group 23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576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dt" idx="10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974-3956-434D-8DA8-C883927252E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ftr" idx="10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 type="sldNum" idx="10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5265-F837-49CB-870D-5B15BE94492F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3" name="Group 8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624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25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E9B-D2DF-4E4D-92F7-901B1181008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0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0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5D5-F5BE-4886-82FC-2C3892A5A07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672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0F71-EA4D-4C5D-823C-9F42D536E94C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0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0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A9D-C6F9-43B7-9099-AD8CF1D0137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Group 14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720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0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6FEF-19C4-4CE6-9C2F-0EA060813977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1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1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680-1246-4E9D-89A5-A5A0E2E52BB4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39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99CD-AA95-448D-92BB-88E56F9FC10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July 15, 2011, Page </a:t>
            </a:r>
            <a:fld id="{639EC7D3-0339-4BFE-8A9B-B5DCD2FEB14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87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5E7C-A588-495F-B533-0C67FE063C7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F8F-E2AE-401F-AA1B-A784644FD2E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235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4BD1-295E-46CE-8EAA-10B2AF14BD6C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4AE7-92D1-49CD-8C04-ABFCC43E7494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ounded Rectangle 14"/>
          <p:cNvSpPr/>
          <p:nvPr/>
        </p:nvSpPr>
        <p:spPr>
          <a:xfrm>
            <a:off x="254160" y="254160"/>
            <a:ext cx="9663120" cy="5263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4"/>
          <p:cNvSpPr/>
          <p:nvPr/>
        </p:nvSpPr>
        <p:spPr>
          <a:xfrm>
            <a:off x="6718320" y="4670280"/>
            <a:ext cx="3197160" cy="79380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2909880" y="4527720"/>
            <a:ext cx="6161040" cy="946080"/>
          </a:xfrm>
          <a:custGeom>
            <a:avLst/>
            <a:gdLst>
              <a:gd name="textAreaLeft" fmla="*/ 0 w 6161040"/>
              <a:gd name="textAreaRight" fmla="*/ 6161400 w 61610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>
              <a:gd name="textAreaLeft" fmla="*/ 0 w 6075360"/>
              <a:gd name="textAreaRight" fmla="*/ 6075720 w 60753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26"/>
          <p:cNvSpPr/>
          <p:nvPr/>
        </p:nvSpPr>
        <p:spPr>
          <a:xfrm>
            <a:off x="6234120" y="4525920"/>
            <a:ext cx="3673440" cy="7254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0"/>
          <p:cNvSpPr/>
          <p:nvPr/>
        </p:nvSpPr>
        <p:spPr>
          <a:xfrm>
            <a:off x="235080" y="4510080"/>
            <a:ext cx="9691560" cy="1476360"/>
          </a:xfrm>
          <a:custGeom>
            <a:avLst/>
            <a:gdLst>
              <a:gd name="textAreaLeft" fmla="*/ 0 w 9691560"/>
              <a:gd name="textAreaRight" fmla="*/ 9691920 w 969156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ED60-276F-48D8-85F5-D7D81C606CC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B47-01AF-4B61-B2E7-B67CDBBFFD0A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330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0302-E8B1-46F5-9171-3EA36FE1A2B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1DE-63A9-488C-BA7D-A3BBFCE4235A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378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AEC6-464B-4CE3-9885-6318070470EA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E82-2A7C-46B0-BE1B-1560B6B0FFCF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857160" y="1294920"/>
            <a:ext cx="844416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owdsourcing Clinical Drug Development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transpar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815328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sz Sablinski M.D.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nder, Transparency Life Scie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Development, Celtic Therapeu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"/>
          <p:cNvSpPr/>
          <p:nvPr/>
        </p:nvSpPr>
        <p:spPr>
          <a:xfrm>
            <a:off x="1981080" y="5181480"/>
            <a:ext cx="6096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 Science Summ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untain View, C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ct 23, 20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6" name="Picture 3" descr=""/>
          <p:cNvPicPr/>
          <p:nvPr/>
        </p:nvPicPr>
        <p:blipFill>
          <a:blip r:embed="rId1"/>
          <a:stretch/>
        </p:blipFill>
        <p:spPr>
          <a:xfrm>
            <a:off x="409680" y="6308640"/>
            <a:ext cx="5586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cy = legacy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= cur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5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Slide Number Placeholder 2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7574-EC7C-43AD-BD61-637E9C055646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ransparency Life Scienc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s a </a:t>
            </a:r>
            <a:r>
              <a:rPr b="1" i="1" lang="en-US" sz="4400" spc="-1" strike="noStrike">
                <a:solidFill>
                  <a:srgbClr val="ffffff"/>
                </a:solidFill>
                <a:latin typeface="Candara"/>
              </a:rPr>
              <a:t>Drug Development Compan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8" name="TextBox 5"/>
          <p:cNvSpPr/>
          <p:nvPr/>
        </p:nvSpPr>
        <p:spPr>
          <a:xfrm>
            <a:off x="1530360" y="3333600"/>
            <a:ext cx="745488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We acquire IP and pharmaceutical assets from academia, biotech, and pharma, and add significant value by conducting clinical studies via open-source methods, and by executing with unmatched productivit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931680" y="2286000"/>
            <a:ext cx="8962920" cy="424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6000"/>
          </a:bodyPr>
          <a:p>
            <a:pPr marL="384840" indent="-384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ndara"/>
              </a:rPr>
              <a:t>Founders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Tomasz Sablinski, MD, Ph.D.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Harvard, Novartis, Celtic Rx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arc Foster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FoldRx, Schrodinger, multiple exits in high te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Gareth Hicks, Ph.D.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Cambridge, GSK, Novartis, Tiog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Lawrence Steinman, MD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Professor - Stanford, multiple biotech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Adviso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Karim Lakhani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Harvard Business Schoo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Bernard Munos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Former strategist, Eli Lill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John L. Brown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Former President, Health Properties, Time-Warn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Scott Becker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Co-Founder, Invite Media (acquired by Google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assionate About Changing the World of Drug Developmen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22" name="Picture 3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975120" cy="933480"/>
          </a:xfrm>
          <a:prstGeom prst="rect">
            <a:avLst/>
          </a:prstGeom>
          <a:ln w="0">
            <a:noFill/>
          </a:ln>
        </p:spPr>
      </p:pic>
      <p:sp>
        <p:nvSpPr>
          <p:cNvPr id="1823" name="Slide Number Placeholder 1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117E-0521-4F12-BD88-C2DA604621DD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major enabler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changes /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5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Title 3"/>
          <p:cNvSpPr/>
          <p:nvPr/>
        </p:nvSpPr>
        <p:spPr>
          <a:xfrm>
            <a:off x="438120" y="57240"/>
            <a:ext cx="914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TLS Approa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lide Number Placeholder 2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3418-6C71-4EF2-AE32-8CF26C84EBA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Picture 3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975120" cy="933480"/>
          </a:xfrm>
          <a:prstGeom prst="rect">
            <a:avLst/>
          </a:prstGeom>
          <a:ln w="0">
            <a:noFill/>
          </a:ln>
        </p:spPr>
      </p:pic>
      <p:sp>
        <p:nvSpPr>
          <p:cNvPr id="1829" name="Content Placeholder 5"/>
          <p:cNvSpPr/>
          <p:nvPr/>
        </p:nvSpPr>
        <p:spPr>
          <a:xfrm>
            <a:off x="407880" y="1758960"/>
            <a:ext cx="698652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506520" indent="-506520">
              <a:lnSpc>
                <a:spcPct val="100000"/>
              </a:lnSpc>
              <a:spcBef>
                <a:spcPts val="601"/>
              </a:spcBef>
              <a:spcAft>
                <a:spcPts val="1338"/>
              </a:spcAft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Crowd-Sourcing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 – an approach to protocol design and data analysis, allowing for input from all available stakeholders 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Candara"/>
                <a:ea typeface="Arial"/>
              </a:rPr>
              <a:t>“10,000 minds are better than 1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spcAft>
                <a:spcPts val="1338"/>
              </a:spcAft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Data &amp; Technology Platform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– web-based platform integrating multiple real-time </a:t>
            </a:r>
            <a:br>
              <a:rPr sz="2400"/>
            </a:b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data inputs via telemedicine 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Candara"/>
                <a:ea typeface="Arial"/>
              </a:rPr>
              <a:t>Enhance trial cost-efficiency, safety,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spcAft>
                <a:spcPts val="1338"/>
              </a:spcAft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Transparency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 – Plans, data, analyses are shared openly, in real time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Candara"/>
                <a:ea typeface="Arial"/>
              </a:rPr>
              <a:t>Builds trust in TLS, provides best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0" name="Picture 5" descr="crowdsourcing.jpg"/>
          <p:cNvPicPr/>
          <p:nvPr/>
        </p:nvPicPr>
        <p:blipFill>
          <a:blip r:embed="rId2"/>
          <a:stretch/>
        </p:blipFill>
        <p:spPr>
          <a:xfrm>
            <a:off x="7394400" y="1946160"/>
            <a:ext cx="2527560" cy="1282680"/>
          </a:xfrm>
          <a:prstGeom prst="rect">
            <a:avLst/>
          </a:prstGeom>
          <a:ln w="0">
            <a:noFill/>
          </a:ln>
        </p:spPr>
      </p:pic>
      <p:pic>
        <p:nvPicPr>
          <p:cNvPr id="1831" name="Picture 6" descr="telemedicine.jpg"/>
          <p:cNvPicPr/>
          <p:nvPr/>
        </p:nvPicPr>
        <p:blipFill>
          <a:blip r:embed="rId3"/>
          <a:stretch/>
        </p:blipFill>
        <p:spPr>
          <a:xfrm>
            <a:off x="7394400" y="3600360"/>
            <a:ext cx="2549880" cy="1555920"/>
          </a:xfrm>
          <a:prstGeom prst="rect">
            <a:avLst/>
          </a:prstGeom>
          <a:ln w="0">
            <a:noFill/>
          </a:ln>
        </p:spPr>
      </p:pic>
      <p:pic>
        <p:nvPicPr>
          <p:cNvPr id="1832" name="Picture 7" descr="conferenceroom.jpg"/>
          <p:cNvPicPr/>
          <p:nvPr/>
        </p:nvPicPr>
        <p:blipFill>
          <a:blip r:embed="rId4"/>
          <a:stretch/>
        </p:blipFill>
        <p:spPr>
          <a:xfrm>
            <a:off x="7394400" y="5419800"/>
            <a:ext cx="25275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Title 3"/>
          <p:cNvSpPr/>
          <p:nvPr/>
        </p:nvSpPr>
        <p:spPr>
          <a:xfrm>
            <a:off x="438120" y="57240"/>
            <a:ext cx="914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ndara"/>
                <a:ea typeface="Arial"/>
              </a:rPr>
              <a:t>How Will it Work in Practic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ndara"/>
                <a:ea typeface="Arial"/>
              </a:rPr>
              <a:t>High-Level View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Slide Number Placeholder 2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A2C-7890-48F6-B083-94D309A7C29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Picture 3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975120" cy="933480"/>
          </a:xfrm>
          <a:prstGeom prst="rect">
            <a:avLst/>
          </a:prstGeom>
          <a:ln w="0">
            <a:noFill/>
          </a:ln>
        </p:spPr>
      </p:pic>
      <p:sp>
        <p:nvSpPr>
          <p:cNvPr id="1836" name="Pentagon 5"/>
          <p:cNvSpPr/>
          <p:nvPr/>
        </p:nvSpPr>
        <p:spPr>
          <a:xfrm>
            <a:off x="210960" y="2533680"/>
            <a:ext cx="1851120" cy="112068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52" y="0"/>
                </a:lnTo>
                <a:lnTo>
                  <a:pt x="21600" y="10800"/>
                </a:lnTo>
                <a:lnTo>
                  <a:pt x="150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Chevron 6"/>
          <p:cNvSpPr/>
          <p:nvPr/>
        </p:nvSpPr>
        <p:spPr>
          <a:xfrm>
            <a:off x="1701720" y="2533680"/>
            <a:ext cx="2217960" cy="1120680"/>
          </a:xfrm>
          <a:custGeom>
            <a:avLst/>
            <a:gdLst>
              <a:gd name="textAreaLeft" fmla="*/ 0 w 2217960"/>
              <a:gd name="textAreaRight" fmla="*/ 2218320 w 221796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6" y="0"/>
                </a:lnTo>
                <a:lnTo>
                  <a:pt x="21600" y="10800"/>
                </a:lnTo>
                <a:lnTo>
                  <a:pt x="16136" y="21600"/>
                </a:lnTo>
                <a:lnTo>
                  <a:pt x="0" y="21600"/>
                </a:lnTo>
                <a:lnTo>
                  <a:pt x="5464" y="10800"/>
                </a:lnTo>
                <a:close/>
              </a:path>
            </a:pathLst>
          </a:custGeom>
          <a:solidFill>
            <a:srgbClr val="8fb5e5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Patient  Recruit-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Chevron 7"/>
          <p:cNvSpPr/>
          <p:nvPr/>
        </p:nvSpPr>
        <p:spPr>
          <a:xfrm>
            <a:off x="3556080" y="2540160"/>
            <a:ext cx="2485800" cy="1122120"/>
          </a:xfrm>
          <a:custGeom>
            <a:avLst/>
            <a:gdLst>
              <a:gd name="textAreaLeft" fmla="*/ 0 w 2485800"/>
              <a:gd name="textAreaRight" fmla="*/ 2486160 w 248580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9de3a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Chevron 10"/>
          <p:cNvSpPr/>
          <p:nvPr/>
        </p:nvSpPr>
        <p:spPr>
          <a:xfrm>
            <a:off x="5672160" y="2540160"/>
            <a:ext cx="2433600" cy="112212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9" y="0"/>
                </a:lnTo>
                <a:lnTo>
                  <a:pt x="21600" y="10800"/>
                </a:lnTo>
                <a:lnTo>
                  <a:pt x="16619" y="21600"/>
                </a:lnTo>
                <a:lnTo>
                  <a:pt x="0" y="21600"/>
                </a:lnTo>
                <a:lnTo>
                  <a:pt x="4981" y="10800"/>
                </a:lnTo>
                <a:close/>
              </a:path>
            </a:pathLst>
          </a:custGeom>
          <a:solidFill>
            <a:srgbClr val="fbe6b3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Chevron 14"/>
          <p:cNvSpPr/>
          <p:nvPr/>
        </p:nvSpPr>
        <p:spPr>
          <a:xfrm>
            <a:off x="7704000" y="2540160"/>
            <a:ext cx="2279880" cy="1122120"/>
          </a:xfrm>
          <a:custGeom>
            <a:avLst/>
            <a:gdLst>
              <a:gd name="textAreaLeft" fmla="*/ 0 w 2279880"/>
              <a:gd name="textAreaRight" fmla="*/ 2280240 w 227988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4" y="0"/>
                </a:lnTo>
                <a:lnTo>
                  <a:pt x="21600" y="10800"/>
                </a:lnTo>
                <a:lnTo>
                  <a:pt x="16284" y="21600"/>
                </a:lnTo>
                <a:lnTo>
                  <a:pt x="0" y="21600"/>
                </a:lnTo>
                <a:lnTo>
                  <a:pt x="5316" y="108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entagon 21"/>
          <p:cNvSpPr/>
          <p:nvPr/>
        </p:nvSpPr>
        <p:spPr>
          <a:xfrm>
            <a:off x="210960" y="4549680"/>
            <a:ext cx="1851120" cy="112104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121040"/>
              <a:gd name="textAreaBottom" fmla="*/ 112140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52" y="0"/>
                </a:lnTo>
                <a:lnTo>
                  <a:pt x="21600" y="10800"/>
                </a:lnTo>
                <a:lnTo>
                  <a:pt x="150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Crowd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ou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Chevron 22"/>
          <p:cNvSpPr/>
          <p:nvPr/>
        </p:nvSpPr>
        <p:spPr>
          <a:xfrm>
            <a:off x="1693800" y="4572000"/>
            <a:ext cx="2216160" cy="112248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6" y="0"/>
                </a:lnTo>
                <a:lnTo>
                  <a:pt x="21600" y="10800"/>
                </a:lnTo>
                <a:lnTo>
                  <a:pt x="16136" y="21600"/>
                </a:lnTo>
                <a:lnTo>
                  <a:pt x="0" y="21600"/>
                </a:lnTo>
                <a:lnTo>
                  <a:pt x="5464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Chevron 23"/>
          <p:cNvSpPr/>
          <p:nvPr/>
        </p:nvSpPr>
        <p:spPr>
          <a:xfrm>
            <a:off x="3556080" y="4572000"/>
            <a:ext cx="2485800" cy="1122480"/>
          </a:xfrm>
          <a:custGeom>
            <a:avLst/>
            <a:gdLst>
              <a:gd name="textAreaLeft" fmla="*/ 0 w 2485800"/>
              <a:gd name="textAreaRight" fmla="*/ 2486160 w 248580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le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Chevron 24"/>
          <p:cNvSpPr/>
          <p:nvPr/>
        </p:nvSpPr>
        <p:spPr>
          <a:xfrm>
            <a:off x="5672160" y="4572000"/>
            <a:ext cx="2433600" cy="112248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9" y="0"/>
                </a:lnTo>
                <a:lnTo>
                  <a:pt x="21600" y="10800"/>
                </a:lnTo>
                <a:lnTo>
                  <a:pt x="16619" y="21600"/>
                </a:lnTo>
                <a:lnTo>
                  <a:pt x="0" y="21600"/>
                </a:lnTo>
                <a:lnTo>
                  <a:pt x="4981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ecur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Ven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Chevron 25"/>
          <p:cNvSpPr/>
          <p:nvPr/>
        </p:nvSpPr>
        <p:spPr>
          <a:xfrm>
            <a:off x="7704000" y="4572000"/>
            <a:ext cx="2279880" cy="1122480"/>
          </a:xfrm>
          <a:custGeom>
            <a:avLst/>
            <a:gdLst>
              <a:gd name="textAreaLeft" fmla="*/ 0 w 2279880"/>
              <a:gd name="textAreaRight" fmla="*/ 2280240 w 227988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4" y="0"/>
                </a:lnTo>
                <a:lnTo>
                  <a:pt x="21600" y="10800"/>
                </a:lnTo>
                <a:lnTo>
                  <a:pt x="16284" y="21600"/>
                </a:lnTo>
                <a:lnTo>
                  <a:pt x="0" y="21600"/>
                </a:lnTo>
                <a:lnTo>
                  <a:pt x="5316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Mo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Cro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Box 26"/>
          <p:cNvSpPr/>
          <p:nvPr/>
        </p:nvSpPr>
        <p:spPr>
          <a:xfrm>
            <a:off x="218160" y="2019240"/>
            <a:ext cx="14763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ial St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Box 27"/>
          <p:cNvSpPr/>
          <p:nvPr/>
        </p:nvSpPr>
        <p:spPr>
          <a:xfrm>
            <a:off x="225000" y="4035600"/>
            <a:ext cx="2796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y Leverag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eople “go to”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$$ is the major incen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0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eople contribu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1599840" y="35049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ir passion for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$$ is NOT the major incentive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3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r TLS partnerships are essent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736560" y="1625400"/>
            <a:ext cx="876312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ients web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ease found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medicine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tic testing enterpri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oinformatics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: Clinical stud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Picture 4" descr=""/>
          <p:cNvPicPr/>
          <p:nvPr/>
        </p:nvPicPr>
        <p:blipFill>
          <a:blip r:embed="rId1"/>
          <a:stretch/>
        </p:blipFill>
        <p:spPr>
          <a:xfrm>
            <a:off x="1422360" y="1346040"/>
            <a:ext cx="7315200" cy="4927680"/>
          </a:xfrm>
          <a:prstGeom prst="rect">
            <a:avLst/>
          </a:prstGeom>
          <a:ln w="0">
            <a:noFill/>
          </a:ln>
        </p:spPr>
      </p:pic>
      <p:sp>
        <p:nvSpPr>
          <p:cNvPr id="1858" name="Text Box 5"/>
          <p:cNvSpPr/>
          <p:nvPr/>
        </p:nvSpPr>
        <p:spPr>
          <a:xfrm>
            <a:off x="1060560" y="507960"/>
            <a:ext cx="7600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lcome to our project collaborative space 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Picture 3" descr=""/>
          <p:cNvPicPr/>
          <p:nvPr/>
        </p:nvPicPr>
        <p:blipFill>
          <a:blip r:embed="rId2"/>
          <a:stretch/>
        </p:blipFill>
        <p:spPr>
          <a:xfrm>
            <a:off x="409680" y="6308640"/>
            <a:ext cx="5586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investi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resear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otech c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g pha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9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62120" y="3886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ug development industry is facing extinction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therapy is not an answ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1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sive care is the only hop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4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nnovation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buse of termi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6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vious field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pre-competitiv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haring data 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bo respon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 clinical stu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acles to crowdsourcing and transparency in pha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subTitle"/>
          </p:nvPr>
        </p:nvSpPr>
        <p:spPr>
          <a:xfrm>
            <a:off x="1523520" y="2209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gance of expe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ear for loosing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cretive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quated computer sci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/ marketing confl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1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2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  <p:sp>
        <p:nvSpPr>
          <p:cNvPr id="1793" name="Title 3"/>
          <p:cNvSpPr/>
          <p:nvPr/>
        </p:nvSpPr>
        <p:spPr>
          <a:xfrm>
            <a:off x="438120" y="268200"/>
            <a:ext cx="91440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ndara"/>
                <a:ea typeface="Arial"/>
              </a:rPr>
              <a:t>Drug Development - 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ndara"/>
                <a:ea typeface="Arial"/>
              </a:rPr>
              <a:t>Sources of Was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  <a:ea typeface="Arial"/>
              </a:rPr>
              <a:t>partial list……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lide Number Placeholder 17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8F8C-3F0C-4501-B9AD-0F3D7C28D79E}" type="slidenum">
              <a:rPr b="0" lang="en-US" sz="1100" spc="-1" strike="noStrike">
                <a:solidFill>
                  <a:srgbClr val="000000"/>
                </a:solidFill>
                <a:latin typeface="Candar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Box 8"/>
          <p:cNvSpPr/>
          <p:nvPr/>
        </p:nvSpPr>
        <p:spPr>
          <a:xfrm>
            <a:off x="1023480" y="3527280"/>
            <a:ext cx="22564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rma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Box 9"/>
          <p:cNvSpPr/>
          <p:nvPr/>
        </p:nvSpPr>
        <p:spPr>
          <a:xfrm>
            <a:off x="3427920" y="222264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10" descr="MedicalCenter.jpg"/>
          <p:cNvPicPr/>
          <p:nvPr/>
        </p:nvPicPr>
        <p:blipFill>
          <a:blip r:embed="rId2"/>
          <a:stretch/>
        </p:blipFill>
        <p:spPr>
          <a:xfrm>
            <a:off x="1095480" y="4398840"/>
            <a:ext cx="2222280" cy="17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8" name="TextBox 11"/>
          <p:cNvSpPr/>
          <p:nvPr/>
        </p:nvSpPr>
        <p:spPr>
          <a:xfrm>
            <a:off x="883440" y="6148440"/>
            <a:ext cx="2619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Patient Visi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pensiv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15" descr="callcenter.jpg"/>
          <p:cNvPicPr/>
          <p:nvPr/>
        </p:nvPicPr>
        <p:blipFill>
          <a:blip r:embed="rId3"/>
          <a:stretch/>
        </p:blipFill>
        <p:spPr>
          <a:xfrm>
            <a:off x="7443720" y="1787400"/>
            <a:ext cx="2346480" cy="1749600"/>
          </a:xfrm>
          <a:prstGeom prst="rect">
            <a:avLst/>
          </a:prstGeom>
          <a:ln w="0">
            <a:noFill/>
          </a:ln>
        </p:spPr>
      </p:pic>
      <p:sp>
        <p:nvSpPr>
          <p:cNvPr id="1800" name="TextBox 16"/>
          <p:cNvSpPr/>
          <p:nvPr/>
        </p:nvSpPr>
        <p:spPr>
          <a:xfrm>
            <a:off x="7290720" y="3527280"/>
            <a:ext cx="24379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-Co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Recru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1" name="Picture 15" descr="pfizer_m"/>
          <p:cNvPicPr/>
          <p:nvPr/>
        </p:nvPicPr>
        <p:blipFill>
          <a:blip r:embed="rId4"/>
          <a:stretch/>
        </p:blipFill>
        <p:spPr>
          <a:xfrm>
            <a:off x="1025640" y="1787400"/>
            <a:ext cx="2249280" cy="1757520"/>
          </a:xfrm>
          <a:prstGeom prst="rect">
            <a:avLst/>
          </a:prstGeom>
          <a:ln w="0">
            <a:noFill/>
          </a:ln>
        </p:spPr>
      </p:pic>
      <p:sp>
        <p:nvSpPr>
          <p:cNvPr id="1802" name="TextBox 8"/>
          <p:cNvSpPr/>
          <p:nvPr/>
        </p:nvSpPr>
        <p:spPr>
          <a:xfrm>
            <a:off x="4127760" y="3544920"/>
            <a:ext cx="2412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ular Approach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Picture 20" descr="corporate_1_1000"/>
          <p:cNvPicPr/>
          <p:nvPr/>
        </p:nvPicPr>
        <p:blipFill>
          <a:blip r:embed="rId5"/>
          <a:stretch/>
        </p:blipFill>
        <p:spPr>
          <a:xfrm>
            <a:off x="4044960" y="1741320"/>
            <a:ext cx="2682720" cy="1740240"/>
          </a:xfrm>
          <a:prstGeom prst="rect">
            <a:avLst/>
          </a:prstGeom>
          <a:ln w="0">
            <a:noFill/>
          </a:ln>
        </p:spPr>
      </p:pic>
      <p:sp>
        <p:nvSpPr>
          <p:cNvPr id="1804" name="TextBox 14"/>
          <p:cNvSpPr/>
          <p:nvPr/>
        </p:nvSpPr>
        <p:spPr>
          <a:xfrm>
            <a:off x="6791760" y="222264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Picture 24" descr="Example-of-Paper-CRF"/>
          <p:cNvPicPr/>
          <p:nvPr/>
        </p:nvPicPr>
        <p:blipFill>
          <a:blip r:embed="rId6"/>
          <a:stretch/>
        </p:blipFill>
        <p:spPr>
          <a:xfrm>
            <a:off x="4226040" y="4316400"/>
            <a:ext cx="2249280" cy="1832040"/>
          </a:xfrm>
          <a:prstGeom prst="rect">
            <a:avLst/>
          </a:prstGeom>
          <a:ln w="0">
            <a:noFill/>
          </a:ln>
        </p:spPr>
      </p:pic>
      <p:sp>
        <p:nvSpPr>
          <p:cNvPr id="1806" name="TextBox 11"/>
          <p:cNvSpPr/>
          <p:nvPr/>
        </p:nvSpPr>
        <p:spPr>
          <a:xfrm>
            <a:off x="4223880" y="6148440"/>
            <a:ext cx="2454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ntury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ture &amp;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Box 14"/>
          <p:cNvSpPr/>
          <p:nvPr/>
        </p:nvSpPr>
        <p:spPr>
          <a:xfrm>
            <a:off x="3499200" y="499428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Picture 28" descr="121305906805tpR6"/>
          <p:cNvPicPr/>
          <p:nvPr/>
        </p:nvPicPr>
        <p:blipFill>
          <a:blip r:embed="rId7"/>
          <a:stretch/>
        </p:blipFill>
        <p:spPr>
          <a:xfrm>
            <a:off x="7291440" y="4408560"/>
            <a:ext cx="2290680" cy="22906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14"/>
          <p:cNvSpPr/>
          <p:nvPr/>
        </p:nvSpPr>
        <p:spPr>
          <a:xfrm>
            <a:off x="6677640" y="4994280"/>
            <a:ext cx="5299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Box 14"/>
          <p:cNvSpPr/>
          <p:nvPr/>
        </p:nvSpPr>
        <p:spPr>
          <a:xfrm>
            <a:off x="254520" y="498780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21"/>
          <p:cNvSpPr/>
          <p:nvPr/>
        </p:nvSpPr>
        <p:spPr>
          <a:xfrm>
            <a:off x="1600200" y="304920"/>
            <a:ext cx="6934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tacking the sources of wast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model:</a:t>
            </a:r>
            <a:br>
              <a:rPr sz="4400"/>
            </a:b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latform for collecting key information, analyzing it, and building knowledge in a transparent, complete, easy to understand form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able multiple parties to move a project ahead in a virtual global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omasz Sablinski (CT)</cp:lastModifiedBy>
  <dcterms:modified xsi:type="dcterms:W3CDTF">2011-10-21T16:43:21Z</dcterms:modified>
  <cp:revision>23</cp:revision>
  <dc:subject/>
  <dc:title>PowerPoint Presentation</dc:title>
</cp:coreProperties>
</file>